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EB35-FF67-4886-8AE4-26CAF226D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243D-AF46-4F77-B38B-5405207D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7706-E9BB-4B26-AD67-888EB98DF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D6B8-4953-47FE-AB11-E7948386F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0A24-A4E8-4FFD-B318-238B75BB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9913-5085-4C71-8507-20A8016F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B574-2794-4265-B83B-306B316C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7D23-7C02-4C91-9ECF-3059B363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0D3E-3B95-414B-B1B5-6D3820F6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379E-7114-4CF1-ABA1-34D72E2C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BA27-3298-43A8-BFA4-FFBC024C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EFD7-5D23-49AA-BF7E-C9577425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B382-81B6-4B34-9FF4-B53FE601BB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28276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0066"/>
                </a:solidFill>
                <a:latin typeface="Arial"/>
              </a:rPr>
              <a:t>Төн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ь</a:t>
            </a:r>
            <a:r>
              <a:rPr b="0" lang="tt-RU" sz="3200" spc="-1" strike="noStrike">
                <a:solidFill>
                  <a:srgbClr val="ff0066"/>
                </a:solidFill>
                <a:latin typeface="Arial"/>
              </a:rPr>
              <a:t>як – Көнбатыш рай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0560" y="5013000"/>
            <a:ext cx="57214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9 класс. Кайбыч районы Борындык т</a:t>
            </a:r>
            <a:r>
              <a:rPr b="0" lang="tt-RU" sz="2400" spc="-1" strike="noStrike">
                <a:solidFill>
                  <a:srgbClr val="ff0066"/>
                </a:solidFill>
                <a:latin typeface="Arial"/>
              </a:rPr>
              <a:t>өп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гомуми белем бирү мәктәбенең  география укытучысы Ярхәмова Минзилә Васыйл кы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826920" y="1413000"/>
            <a:ext cx="720720" cy="187164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2520" y="5373720"/>
            <a:ext cx="5721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08000" y="6353280"/>
            <a:ext cx="352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Т – Кб район үзәк металлургия базасына якы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9640" y="1523880"/>
            <a:ext cx="8136000" cy="500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325D-072F-46D4-97F3-1AD6125407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0066"/>
                </a:solidFill>
                <a:latin typeface="Arial"/>
              </a:rPr>
              <a:t>Нәтиҗә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өньяк – </a:t>
            </a: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Көнбатыш экономик районның экономик – географик урыны һә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яклап уңайлы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C2FD-8A3C-489E-87D2-69D17D1349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Карта белән эш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рталар буенч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физик һәм экономик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Төн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ьяк </a:t>
            </a: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– Көнбатышның табига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ь шартларын </a:t>
            </a: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һәм ресурс базасын ачыкларг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7883-9A34-4171-8E93-DA876894F0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0066"/>
                </a:solidFill>
                <a:latin typeface="Arial"/>
              </a:rPr>
              <a:t>Табигат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ь шартлары</a:t>
            </a: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с тигезлегене</a:t>
            </a: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ң тө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ьяк – </a:t>
            </a: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көнбатышында урнашк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ңгез буе бозлык   рельеф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тача – континенталь клим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тык дымлылык райо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уфраклары аз уңдырышлы көлсу, кәсле – көл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EB13-98A2-4F61-9920-5942D09DE7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0066"/>
                </a:solidFill>
                <a:latin typeface="Arial"/>
              </a:rPr>
              <a:t>Табигый ресурсла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нер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дроэнергоресурсл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Урм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Авыл хуҗалыгы җирлә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креаци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A961-D7CB-4025-901C-0DE7CA4199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Минераль ресурсл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4032000" cy="532764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4211640" y="2852640"/>
            <a:ext cx="4500720" cy="3157560"/>
            <a:chOff x="4211640" y="2852640"/>
            <a:chExt cx="4500720" cy="3157560"/>
          </a:xfrm>
        </p:grpSpPr>
        <p:grpSp>
          <p:nvGrpSpPr>
            <p:cNvPr id="79" name=""/>
            <p:cNvGrpSpPr/>
            <p:nvPr/>
          </p:nvGrpSpPr>
          <p:grpSpPr>
            <a:xfrm>
              <a:off x="6550200" y="2860200"/>
              <a:ext cx="427320" cy="457200"/>
              <a:chOff x="6550200" y="2860200"/>
              <a:chExt cx="427320" cy="457200"/>
            </a:xfrm>
          </p:grpSpPr>
          <p:sp>
            <p:nvSpPr>
              <p:cNvPr id="80" name=""/>
              <p:cNvSpPr/>
              <p:nvPr/>
            </p:nvSpPr>
            <p:spPr>
              <a:xfrm>
                <a:off x="6550200" y="2860200"/>
                <a:ext cx="427320" cy="4572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 txBox="1"/>
              <p:nvPr/>
            </p:nvSpPr>
            <p:spPr>
              <a:xfrm>
                <a:off x="6685560" y="3027600"/>
                <a:ext cx="135360" cy="108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Пс</a:t>
                </a:r>
                <a:endPara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6550200" y="3367080"/>
              <a:ext cx="427320" cy="457200"/>
              <a:chOff x="6550200" y="3367080"/>
              <a:chExt cx="427320" cy="457200"/>
            </a:xfrm>
          </p:grpSpPr>
          <p:sp>
            <p:nvSpPr>
              <p:cNvPr id="83" name=""/>
              <p:cNvSpPr/>
              <p:nvPr/>
            </p:nvSpPr>
            <p:spPr>
              <a:xfrm>
                <a:off x="6550200" y="3367080"/>
                <a:ext cx="427320" cy="4572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 txBox="1"/>
              <p:nvPr/>
            </p:nvSpPr>
            <p:spPr>
              <a:xfrm>
                <a:off x="6685560" y="3534480"/>
                <a:ext cx="135360" cy="108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Сс</a:t>
                </a:r>
                <a:endPara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6562800" y="3910320"/>
              <a:ext cx="427320" cy="457200"/>
              <a:chOff x="6562800" y="3910320"/>
              <a:chExt cx="427320" cy="457200"/>
            </a:xfrm>
          </p:grpSpPr>
          <p:sp>
            <p:nvSpPr>
              <p:cNvPr id="86" name=""/>
              <p:cNvSpPr/>
              <p:nvPr/>
            </p:nvSpPr>
            <p:spPr>
              <a:xfrm>
                <a:off x="6562800" y="3910320"/>
                <a:ext cx="427320" cy="4572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 txBox="1"/>
              <p:nvPr/>
            </p:nvSpPr>
            <p:spPr>
              <a:xfrm>
                <a:off x="6698160" y="4077720"/>
                <a:ext cx="135360" cy="108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Ог</a:t>
                </a:r>
                <a:endPara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4211640" y="2852640"/>
              <a:ext cx="2778120" cy="3157560"/>
              <a:chOff x="4211640" y="2852640"/>
              <a:chExt cx="2778120" cy="3157560"/>
            </a:xfrm>
          </p:grpSpPr>
          <p:grpSp>
            <p:nvGrpSpPr>
              <p:cNvPr id="89" name=""/>
              <p:cNvGrpSpPr/>
              <p:nvPr/>
            </p:nvGrpSpPr>
            <p:grpSpPr>
              <a:xfrm>
                <a:off x="4211640" y="2852640"/>
                <a:ext cx="427320" cy="3157560"/>
                <a:chOff x="4211640" y="2852640"/>
                <a:chExt cx="427320" cy="3157560"/>
              </a:xfrm>
            </p:grpSpPr>
            <p:grpSp>
              <p:nvGrpSpPr>
                <p:cNvPr id="90" name=""/>
                <p:cNvGrpSpPr/>
                <p:nvPr/>
              </p:nvGrpSpPr>
              <p:grpSpPr>
                <a:xfrm>
                  <a:off x="4211640" y="2852640"/>
                  <a:ext cx="427320" cy="457200"/>
                  <a:chOff x="4211640" y="2852640"/>
                  <a:chExt cx="427320" cy="457200"/>
                </a:xfrm>
              </p:grpSpPr>
              <p:sp>
                <p:nvSpPr>
                  <p:cNvPr id="91" name=""/>
                  <p:cNvSpPr/>
                  <p:nvPr/>
                </p:nvSpPr>
                <p:spPr>
                  <a:xfrm>
                    <a:off x="4211640" y="2852640"/>
                    <a:ext cx="427320" cy="4572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 txBox="1"/>
                  <p:nvPr/>
                </p:nvSpPr>
                <p:spPr>
                  <a:xfrm>
                    <a:off x="4354200" y="2999880"/>
                    <a:ext cx="106920" cy="1137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"/>
                      </a:rPr>
                      <a:t>Al</a:t>
                    </a:r>
                    <a:endParaRPr b="0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"/>
                      <a:ea typeface="Arial"/>
                    </a:endParaRPr>
                  </a:p>
                </p:txBody>
              </p:sp>
            </p:grpSp>
            <p:grpSp>
              <p:nvGrpSpPr>
                <p:cNvPr id="93" name=""/>
                <p:cNvGrpSpPr/>
                <p:nvPr/>
              </p:nvGrpSpPr>
              <p:grpSpPr>
                <a:xfrm>
                  <a:off x="4211640" y="3380400"/>
                  <a:ext cx="427320" cy="457200"/>
                  <a:chOff x="4211640" y="3380400"/>
                  <a:chExt cx="427320" cy="457200"/>
                </a:xfrm>
              </p:grpSpPr>
              <p:sp>
                <p:nvSpPr>
                  <p:cNvPr id="94" name=""/>
                  <p:cNvSpPr/>
                  <p:nvPr/>
                </p:nvSpPr>
                <p:spPr>
                  <a:xfrm>
                    <a:off x="4211640" y="3380400"/>
                    <a:ext cx="427320" cy="4572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 txBox="1"/>
                  <p:nvPr/>
                </p:nvSpPr>
                <p:spPr>
                  <a:xfrm>
                    <a:off x="4380840" y="3511800"/>
                    <a:ext cx="106920" cy="1332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"/>
                      </a:rPr>
                      <a:t>Гр</a:t>
                    </a:r>
                    <a:endParaRPr b="0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"/>
                      <a:ea typeface="Arial"/>
                    </a:endParaRPr>
                  </a:p>
                </p:txBody>
              </p:sp>
            </p:grpSp>
            <p:grpSp>
              <p:nvGrpSpPr>
                <p:cNvPr id="96" name=""/>
                <p:cNvGrpSpPr/>
                <p:nvPr/>
              </p:nvGrpSpPr>
              <p:grpSpPr>
                <a:xfrm>
                  <a:off x="4211640" y="3910320"/>
                  <a:ext cx="427320" cy="457200"/>
                  <a:chOff x="4211640" y="3910320"/>
                  <a:chExt cx="427320" cy="457200"/>
                </a:xfrm>
              </p:grpSpPr>
              <p:sp>
                <p:nvSpPr>
                  <p:cNvPr id="97" name=""/>
                  <p:cNvSpPr/>
                  <p:nvPr/>
                </p:nvSpPr>
                <p:spPr>
                  <a:xfrm>
                    <a:off x="4211640" y="3910320"/>
                    <a:ext cx="427320" cy="4572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 txBox="1"/>
                  <p:nvPr/>
                </p:nvSpPr>
                <p:spPr>
                  <a:xfrm>
                    <a:off x="4347000" y="4041360"/>
                    <a:ext cx="135360" cy="1580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"/>
                      </a:rPr>
                      <a:t>Вм</a:t>
                    </a:r>
                    <a:endParaRPr b="0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"/>
                      <a:ea typeface="Arial"/>
                    </a:endParaRPr>
                  </a:p>
                </p:txBody>
              </p:sp>
            </p:grpSp>
            <p:grpSp>
              <p:nvGrpSpPr>
                <p:cNvPr id="99" name=""/>
                <p:cNvGrpSpPr/>
                <p:nvPr/>
              </p:nvGrpSpPr>
              <p:grpSpPr>
                <a:xfrm>
                  <a:off x="4211640" y="4453200"/>
                  <a:ext cx="427320" cy="457200"/>
                  <a:chOff x="4211640" y="4453200"/>
                  <a:chExt cx="427320" cy="457200"/>
                </a:xfrm>
              </p:grpSpPr>
              <p:sp>
                <p:nvSpPr>
                  <p:cNvPr id="100" name=""/>
                  <p:cNvSpPr/>
                  <p:nvPr/>
                </p:nvSpPr>
                <p:spPr>
                  <a:xfrm>
                    <a:off x="4211640" y="4453200"/>
                    <a:ext cx="427320" cy="4572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 txBox="1"/>
                  <p:nvPr/>
                </p:nvSpPr>
                <p:spPr>
                  <a:xfrm>
                    <a:off x="4347000" y="4584600"/>
                    <a:ext cx="135360" cy="1580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"/>
                      </a:rPr>
                      <a:t>Из</a:t>
                    </a:r>
                    <a:endParaRPr b="0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"/>
                      <a:ea typeface="Arial"/>
                    </a:endParaRPr>
                  </a:p>
                </p:txBody>
              </p:sp>
            </p:grpSp>
            <p:grpSp>
              <p:nvGrpSpPr>
                <p:cNvPr id="102" name=""/>
                <p:cNvGrpSpPr/>
                <p:nvPr/>
              </p:nvGrpSpPr>
              <p:grpSpPr>
                <a:xfrm>
                  <a:off x="4211640" y="4996440"/>
                  <a:ext cx="427320" cy="457200"/>
                  <a:chOff x="4211640" y="4996440"/>
                  <a:chExt cx="427320" cy="45720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>
                    <a:off x="4211640" y="4996440"/>
                    <a:ext cx="427320" cy="4572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 txBox="1"/>
                  <p:nvPr/>
                </p:nvSpPr>
                <p:spPr>
                  <a:xfrm>
                    <a:off x="4347000" y="5163840"/>
                    <a:ext cx="135360" cy="1216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"/>
                      </a:rPr>
                      <a:t>Дл</a:t>
                    </a:r>
                    <a:endParaRPr b="0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"/>
                      <a:ea typeface="Arial"/>
                    </a:endParaRPr>
                  </a:p>
                </p:txBody>
              </p:sp>
            </p:grpSp>
            <p:grpSp>
              <p:nvGrpSpPr>
                <p:cNvPr id="105" name=""/>
                <p:cNvGrpSpPr/>
                <p:nvPr/>
              </p:nvGrpSpPr>
              <p:grpSpPr>
                <a:xfrm>
                  <a:off x="4211640" y="5553000"/>
                  <a:ext cx="427320" cy="457200"/>
                  <a:chOff x="4211640" y="5553000"/>
                  <a:chExt cx="427320" cy="457200"/>
                </a:xfrm>
              </p:grpSpPr>
              <p:sp>
                <p:nvSpPr>
                  <p:cNvPr id="106" name=""/>
                  <p:cNvSpPr/>
                  <p:nvPr/>
                </p:nvSpPr>
                <p:spPr>
                  <a:xfrm>
                    <a:off x="4211640" y="5553000"/>
                    <a:ext cx="427320" cy="4572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 txBox="1"/>
                  <p:nvPr/>
                </p:nvSpPr>
                <p:spPr>
                  <a:xfrm>
                    <a:off x="4347000" y="5720400"/>
                    <a:ext cx="135360" cy="1083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"/>
                      </a:rPr>
                      <a:t>Фс</a:t>
                    </a:r>
                    <a:endParaRPr b="0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"/>
                      <a:ea typeface="Arial"/>
                    </a:endParaRPr>
                  </a:p>
                </p:txBody>
              </p:sp>
            </p:grpSp>
          </p:grpSp>
          <p:grpSp>
            <p:nvGrpSpPr>
              <p:cNvPr id="108" name=""/>
              <p:cNvGrpSpPr/>
              <p:nvPr/>
            </p:nvGrpSpPr>
            <p:grpSpPr>
              <a:xfrm>
                <a:off x="6550200" y="4453200"/>
                <a:ext cx="439560" cy="1013400"/>
                <a:chOff x="6550200" y="4453200"/>
                <a:chExt cx="439560" cy="101340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6550200" y="4453200"/>
                  <a:ext cx="427320" cy="45720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 txBox="1"/>
                <p:nvPr/>
              </p:nvSpPr>
              <p:spPr>
                <a:xfrm>
                  <a:off x="6685560" y="4584600"/>
                  <a:ext cx="135360" cy="108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"/>
                    </a:rPr>
                    <a:t>Тф</a:t>
                  </a:r>
                  <a:endParaRPr b="0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  <a:ea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562440" y="5009400"/>
                  <a:ext cx="427320" cy="45720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 txBox="1"/>
                <p:nvPr/>
              </p:nvSpPr>
              <p:spPr>
                <a:xfrm>
                  <a:off x="6698160" y="5141160"/>
                  <a:ext cx="135360" cy="108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"/>
                    </a:rPr>
                    <a:t>Гс</a:t>
                  </a:r>
                  <a:endParaRPr b="0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  <a:ea typeface="Arial"/>
                  </a:endParaRPr>
                </a:p>
              </p:txBody>
            </p:sp>
          </p:grpSp>
        </p:grpSp>
        <p:sp>
          <p:nvSpPr>
            <p:cNvPr id="113" name=""/>
            <p:cNvSpPr txBox="1"/>
            <p:nvPr/>
          </p:nvSpPr>
          <p:spPr>
            <a:xfrm>
              <a:off x="4719960" y="3004920"/>
              <a:ext cx="156960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люминиевые руды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4719960" y="3511800"/>
              <a:ext cx="52632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Гранит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4693320" y="4055040"/>
              <a:ext cx="15519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Минеральные воды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>
              <a:off x="4719960" y="4561920"/>
              <a:ext cx="89172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Известняки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4719960" y="5105160"/>
              <a:ext cx="80244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Доломиты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4753800" y="5720400"/>
              <a:ext cx="9363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Фосфориты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7092720" y="2968560"/>
              <a:ext cx="143604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текольный песок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7092720" y="3439440"/>
              <a:ext cx="1619640" cy="289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Минеральное 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троительное сырье 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7092720" y="4018680"/>
              <a:ext cx="155196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Огнеупорные глины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7092720" y="4597920"/>
              <a:ext cx="44568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Торф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7092720" y="5141160"/>
              <a:ext cx="1311120" cy="20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Горючие сланцы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504A-87AC-4E42-97CB-5AA22D0C0F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Су ресурсла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ур елгалары: Нева, Нарва, Волхов, Свирь, Ловать, М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ур күлләре: Ладога, Псков, Чуд, Ильм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әтиҗә: Район су ресурсларына б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03e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3ef2"/>
                </a:solidFill>
                <a:latin typeface="Arial"/>
              </a:rPr>
              <a:t>Гидроэнергетик ресурсла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1,5 млрд Квт*ч тәшкил итә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03e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3ef2"/>
                </a:solidFill>
                <a:latin typeface="Arial"/>
              </a:rPr>
              <a:t>Гидроэнергоресурсла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Волхов, Сви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3ef2"/>
                </a:solidFill>
                <a:latin typeface="Arial"/>
              </a:rPr>
              <a:t>Нәтиҗә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идроэнергоресурсларны файдалану тигезлек рельефы аркасында кыенла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B849-25D1-47A1-99B6-AB81C2E21C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Урман  ресурсл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842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риториянең урманнар белән капланганлыгы  – 3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маннар күп ярус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Үзагач запасы 200 млн. куб.метрдан артм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ман массивлары промышленностьта фай</a:t>
            </a: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даланудан алынган, чөнки алар сусаклагыч һә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креацион әһәмияткә 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0066"/>
                </a:solidFill>
                <a:latin typeface="Arial"/>
              </a:rPr>
              <a:t>Авыл хуҗалыгы җирлә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ыл хуҗалыгы җирләре аз сөрелгән һәм алар район территориясенең 18% ын алып 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ыл хуҗалыгы җирләрен файдалануның чикләнгән булуы җирләрнең бик сазламыклы булуы белән аңлаты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8F4F-ABB5-4CE7-9C93-F3F532BE14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Рекреацион ресурсл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өньяк – Көнбатыш районның  уникаль рекреацион ресурслары – архитектура һәм тарихи һәйкәлләре, табигый ландшафтлары – туризм һәм ял зоналары бар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кт-Петербург тирәсендә парк – сарай ансамбле челтәре, Пушкин тыюлыгы, музей – шәһәрләр - Новгород һәм  Пс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1105-542B-479E-82C8-174330F5FB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Тө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як – Көнбатыш районның Россия рекреациясендә өлеш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136000" cy="490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DDFC-F1C9-4809-9F97-7DC24DB7B8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0066"/>
                </a:solidFill>
                <a:latin typeface="Arial"/>
              </a:rPr>
              <a:t>Дәреснең макса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сиянең экономик районнары турында фикерләрне формалаштыруны дәвам ит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өнь</a:t>
            </a: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як – Көнбатыш районның составы, территориясенең размерлары, ЭГУны турында аңлату, халыкның, хезмәт ресурсларының үзенчәлекләрен ачыкла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бигать шартларын, табигый ресурларының байлыгын күрсәт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Дәрес пла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гионның состав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к-географик уры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бигый шартлары һәм  ресурсл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лкы  һәм  хезмәт  ресурсл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кто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3C83-64A3-49A7-860C-560FB41CD3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0066"/>
                </a:solidFill>
                <a:latin typeface="Arial"/>
              </a:rPr>
              <a:t>Нәтиҗә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йон табигый ресурсларга артык бай түгел, табигать шартлары авыл хуҗалыгы үсеше өчен аз ярак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816A-E5A3-4B85-BAD7-0003023D80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0066"/>
                </a:solidFill>
                <a:latin typeface="Arial"/>
              </a:rPr>
              <a:t>Халк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6600" y="1600200"/>
            <a:ext cx="805968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bbe0e3"/>
                </a:solidFill>
                <a:latin typeface="Arial"/>
              </a:rPr>
              <a:t>Халык с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50920" y="2421000"/>
          <a:ext cx="8642160" cy="3305160"/>
        </p:xfrm>
        <a:graphic>
          <a:graphicData uri="http://schemas.openxmlformats.org/drawingml/2006/table">
            <a:tbl>
              <a:tblPr/>
              <a:tblGrid>
                <a:gridCol w="3009960"/>
                <a:gridCol w="1382400"/>
                <a:gridCol w="1289160"/>
                <a:gridCol w="1168560"/>
                <a:gridCol w="1792080"/>
              </a:tblGrid>
              <a:tr h="455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лк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ысы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ң кеш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әһәр халкы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ң кеш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ыл халкы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ң кеш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әһәр халкының алып торган өлеш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өн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як – </a:t>
                      </a:r>
                      <a:r>
                        <a:rPr b="1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өнбатыш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Санкт-Петербур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нинград</a:t>
                      </a: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өлкәс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город</a:t>
                      </a: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өлкәс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ков</a:t>
                      </a: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өлкәс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ининград</a:t>
                      </a:r>
                      <a:r>
                        <a:rPr b="1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өлкәс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84B2-E39D-45EE-85FD-4A5B92BB76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илли соста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8360" y="1523880"/>
            <a:ext cx="8207280" cy="507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6B0A-C827-400F-A9AF-7CC43DE977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0066"/>
                </a:solidFill>
                <a:latin typeface="Arial"/>
              </a:rPr>
              <a:t>Халык тыгызлыг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be0e3"/>
                </a:solidFill>
                <a:latin typeface="Arial"/>
              </a:rPr>
              <a:t>Уртача тыгызлы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4,27 кеше/кв. к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be0e3"/>
                </a:solidFill>
                <a:latin typeface="Arial"/>
              </a:rPr>
              <a:t>Максималь тыгызлы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6,9  кеше/кв. к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нинград өлкә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be0e3"/>
                </a:solidFill>
                <a:latin typeface="Arial"/>
              </a:rPr>
              <a:t>Максималь тыгызлы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5,3 кеше /кв. к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сков өлкә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3,6 кеше/кв. км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город өлкә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B71F-BC95-49C5-8A7E-B738714725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0066"/>
                </a:solidFill>
                <a:latin typeface="Arial"/>
              </a:rPr>
              <a:t>Халыкның таралып урнашу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91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03e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03ef2"/>
                </a:solidFill>
                <a:latin typeface="Arial"/>
              </a:rPr>
              <a:t>Шәһәр халкы өлеше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87 %  </a:t>
            </a:r>
            <a:r>
              <a:rPr b="0" lang="ru-RU" sz="2000" spc="-1" strike="noStrike">
                <a:solidFill>
                  <a:srgbClr val="603ef2"/>
                </a:solidFill>
                <a:latin typeface="Arial"/>
              </a:rPr>
              <a:t>Шәһәрләр сан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03e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03ef2"/>
                </a:solidFill>
                <a:latin typeface="Arial"/>
              </a:rPr>
              <a:t>Зур шәһәрләре (100 меңнән артык кеше)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кт-Петербург - 4801 мең кеш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ликий Новгород – 674,1 мең кеш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ков – 202,7 мең кеш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ликие Луки – 104,9 мең кеш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0066"/>
                </a:solidFill>
                <a:latin typeface="Arial"/>
              </a:rPr>
              <a:t>Халык тыгызлыг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be0e3"/>
                </a:solidFill>
                <a:latin typeface="Arial"/>
              </a:rPr>
              <a:t>Уртача тыгызлык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4,27 кеше/кв. 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be0e3"/>
                </a:solidFill>
                <a:latin typeface="Arial"/>
              </a:rPr>
              <a:t>Максималь тыгызлык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6,9  кеше/кв. к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нинград өлкәс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be0e3"/>
                </a:solidFill>
                <a:latin typeface="Arial"/>
              </a:rPr>
              <a:t>Максималь тыгызлык</a:t>
            </a:r>
            <a:r>
              <a:rPr b="0" lang="ru-RU" sz="1800" spc="-1" strike="noStrike">
                <a:solidFill>
                  <a:srgbClr val="bbe0e3"/>
                </a:solidFill>
                <a:latin typeface="Arial"/>
              </a:rPr>
              <a:t>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5,3 кеше /кв. км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ков өлкәс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3,6 кеше/кв. к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Новгород өлкә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59F3-FA3D-42E5-9CE8-597F20B2C83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436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0066"/>
                </a:solidFill>
                <a:latin typeface="Arial"/>
                <a:ea typeface="Arial"/>
              </a:rPr>
              <a:t>Викторина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177336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өньяк – Көнбатыш районның урнашуы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32000" y="2205000"/>
            <a:ext cx="552600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өньяк – Көнбатыш табигый ресурсларга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өньяк – Көнбатышның халкының яртысы … яш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йонның халкы …кеш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шуннан … кеше, … яш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өньяк – Көнбатыш  район составына нинди өлкәләр керә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8182-3555-40DE-BACC-7E31363BC27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Кулланылган әдәбият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В.П.Дронов, В.Я.Ром. География. Россиянең халкы һәм хуҗалыгы, 9 сыйныф. М.: “Дрофа”, 2008. Казан “Мәгариф” нәшрия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Е. А.Жижина. Поурочные разработки по географии. Население и хозяйство России, 9 класс.М.: “ВАКО”,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активное наглядное пособие. Европейский Север и Северо – Запад России. Социально – экономическая карта. М.: «Дрофа»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блиотека электронных наглядных пособий. География 6 – 10 классы. Министерство образования РФ, ГУ РЦ ЭМТО, Республиканский мультимедиа центр,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16FC-8738-4EF6-BEF1-22A097EB660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экономик – географик урынның план - характеристика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нең дәүләт территориясендәге урыны (кырый, чик буе, үзә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үрше  районнары, дәүләтлә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нең ягулык – энергетика базаларына карата торыш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анспорт юлларына карата торыш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к – географик урынның районның экономикасы үсешенә  йогынты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A43E-271D-456C-812D-17FDC0E576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Политик-административ ка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256360" cy="518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2334-2591-4F27-AD56-2A46F81F27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Экономик-географик уры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54064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ритория мәйданы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7, 5 мең. кв.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сия территориясенең 1,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8360" y="3429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Яр буе торышы , Балтик диңгезенең  Фин култыгы белән юы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иңгез портлары: Санкт-Петербург, Калининград, Выбор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3DF7-4447-461E-BAB1-6861AA6AE4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Arial"/>
              </a:rPr>
              <a:t>Диңгезгә чыгу юлла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136000" cy="468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C887-0468-4F75-86EC-81A55B72B9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73200" y="49356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66"/>
                </a:solidFill>
                <a:latin typeface="Arial"/>
                <a:ea typeface="Arial"/>
              </a:rPr>
              <a:t>Экономик-географик урын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2327400"/>
            <a:ext cx="82296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дел елгасына һәм Ак диңгезгә чыгу юллары ба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ик буе торышы (Финляндия, Эстония, Латвия (Калининград өлкәсе Литва белән чиктәш), Белорусс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F375-5E0D-464A-97F6-BCC89A0FF4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11280" y="40464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66"/>
                </a:solidFill>
                <a:latin typeface="Arial"/>
                <a:ea typeface="Arial"/>
              </a:rPr>
              <a:t>Экономик-географик урын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2327400"/>
            <a:ext cx="822960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Экономик район территориясе аша тимер юллар һәм автомобиль юлла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имер юллар һәм автомобиль юллары Санкт – Петербургтан барлык күрше районнарга төрле юнәлештә китәлә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81AF-B208-4AC7-9F4A-44C70EBA1F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Тимер юллар Санкт – Петербургтан төрле юнәлештә кит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064720" cy="489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1FDA-D3A2-4F8A-985B-82E5CCB759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15:38:28Z</dcterms:created>
  <dc:creator>Anna Dukareva</dc:creator>
  <dc:description/>
  <dc:language>en-US</dc:language>
  <cp:lastModifiedBy>123</cp:lastModifiedBy>
  <dcterms:modified xsi:type="dcterms:W3CDTF">2012-01-14T16:45:21Z</dcterms:modified>
  <cp:revision>68</cp:revision>
  <dc:subject/>
  <dc:title>Северо-Западный регион</dc:title>
</cp:coreProperties>
</file>