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11.gif" ContentType="image/gif"/>
  <Override PartName="/ppt/media/image10.jpeg" ContentType="image/jpeg"/>
  <Override PartName="/ppt/media/image5.jpeg" ContentType="image/jpeg"/>
  <Override PartName="/ppt/media/image21.gif" ContentType="image/gif"/>
  <Override PartName="/ppt/media/image23.png" ContentType="image/png"/>
  <Override PartName="/ppt/media/image20.gif" ContentType="image/gif"/>
  <Override PartName="/ppt/media/image19.png" ContentType="image/png"/>
  <Override PartName="/ppt/media/image18.png" ContentType="image/png"/>
  <Override PartName="/ppt/media/image17.jpeg" ContentType="image/jpeg"/>
  <Override PartName="/ppt/media/image16.jpeg" ContentType="image/jpeg"/>
  <Override PartName="/ppt/media/image22.gif" ContentType="image/gif"/>
  <Override PartName="/ppt/media/image2.png" ContentType="image/png"/>
  <Override PartName="/ppt/media/image9.jpeg" ContentType="image/jpeg"/>
  <Override PartName="/ppt/media/image3.jpeg" ContentType="image/jpeg"/>
  <Override PartName="/ppt/media/image15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8893080" y="0"/>
            <a:ext cx="250920" cy="23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image" Target="../media/image22.gif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1476360" y="1916280"/>
            <a:ext cx="626580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ff33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А ТЫ,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ff33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ff33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ЗНАЕШЬ?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ff33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ff33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ОДУМАЙ!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ff33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Times New Roman"/>
              </a:rPr>
              <a:t>Что находится между рекой и берегом?</a:t>
            </a:r>
            <a:r>
              <a:rPr b="0" lang="en-US" sz="40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157800" y="5516640"/>
            <a:ext cx="231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Times New Roman"/>
              </a:rPr>
              <a:t>буква «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050920" y="1916280"/>
            <a:ext cx="4176720" cy="33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Times New Roman"/>
              </a:rPr>
              <a:t>Что можно увидеть с закрытыми глазами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26160" y="5589720"/>
            <a:ext cx="93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Times New Roman"/>
              </a:rPr>
              <a:t>со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195640" y="1773360"/>
            <a:ext cx="424800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Times New Roman"/>
              </a:rPr>
              <a:t>На каких полях трава не растёт?</a:t>
            </a: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46520" y="5516640"/>
            <a:ext cx="368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Times New Roman"/>
              </a:rPr>
              <a:t>на полях шляп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619280" y="1773360"/>
            <a:ext cx="5484960" cy="37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Times New Roman"/>
              </a:rPr>
              <a:t>Что стоит посреди Земли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6520" y="5589720"/>
            <a:ext cx="236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Times New Roman"/>
              </a:rPr>
              <a:t>буква «м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979640" y="1484280"/>
            <a:ext cx="4897440" cy="388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Times New Roman"/>
              </a:rPr>
              <a:t>По чему часто ходят и никогда не ездят? </a:t>
            </a:r>
            <a:br>
              <a:rPr sz="4000"/>
            </a:b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 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653800" y="5589720"/>
            <a:ext cx="279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Times New Roman"/>
              </a:rPr>
              <a:t>по лестниц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619280" y="1628640"/>
            <a:ext cx="5353200" cy="40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Times New Roman"/>
              </a:rPr>
              <a:t>Можно ли в решете воду принести?</a:t>
            </a:r>
            <a:br>
              <a:rPr sz="4000"/>
            </a:br>
            <a:r>
              <a:rPr b="0" lang="en-US" sz="4000" spc="-1" strike="noStrike">
                <a:solidFill>
                  <a:srgbClr val="990033"/>
                </a:solidFill>
                <a:latin typeface="Times New Roman"/>
              </a:rPr>
              <a:t>   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936320" y="5661000"/>
            <a:ext cx="357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Times New Roman"/>
              </a:rPr>
              <a:t>да, если это ле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908000" y="1557360"/>
            <a:ext cx="5400720" cy="40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Times New Roman"/>
              </a:rPr>
              <a:t>Что идет из города в город и не движется? </a:t>
            </a:r>
            <a:br>
              <a:rPr sz="4000"/>
            </a:br>
            <a:r>
              <a:rPr b="0" lang="en-US" sz="4000" spc="-1" strike="noStrike">
                <a:solidFill>
                  <a:srgbClr val="990033"/>
                </a:solidFill>
                <a:latin typeface="Times New Roman"/>
              </a:rPr>
              <a:t> 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05080" y="5589720"/>
            <a:ext cx="163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Times New Roman"/>
              </a:rPr>
              <a:t>доро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24000" y="2060640"/>
            <a:ext cx="4969080" cy="37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Times New Roman"/>
              </a:rPr>
              <a:t>У него есть шляпа, но нет головы, есть нога, но нет ботинка.</a:t>
            </a:r>
            <a:br>
              <a:rPr sz="4000"/>
            </a:b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 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237440" y="5589720"/>
            <a:ext cx="117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Times New Roman"/>
              </a:rPr>
              <a:t>гри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340000" y="1916280"/>
            <a:ext cx="33433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Times New Roman"/>
              </a:rPr>
              <a:t>Без чего не испечь хлеб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157080" y="5661000"/>
            <a:ext cx="226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Times New Roman"/>
              </a:rPr>
              <a:t>без кор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835280" y="1773360"/>
            <a:ext cx="50734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116000" y="2421000"/>
            <a:ext cx="6985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ff33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УМНИЧКА!!!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ff33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5867280" y="3500280"/>
            <a:ext cx="1368360" cy="2557440"/>
            <a:chOff x="5867280" y="3500280"/>
            <a:chExt cx="1368360" cy="2557440"/>
          </a:xfrm>
        </p:grpSpPr>
        <p:pic>
          <p:nvPicPr>
            <p:cNvPr id="93" name="" descr=""/>
            <p:cNvPicPr/>
            <p:nvPr/>
          </p:nvPicPr>
          <p:blipFill>
            <a:blip r:embed="rId2"/>
            <a:stretch/>
          </p:blipFill>
          <p:spPr>
            <a:xfrm>
              <a:off x="5867280" y="3500280"/>
              <a:ext cx="1368360" cy="194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3"/>
            <a:stretch/>
          </p:blipFill>
          <p:spPr>
            <a:xfrm>
              <a:off x="6189480" y="4724280"/>
              <a:ext cx="762120" cy="1333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2340000" y="981000"/>
            <a:ext cx="735120" cy="12096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>
            <a:hlinkClick r:id="" action="ppaction://hlinkshowjump?jump=endshow"/>
          </p:cNvPr>
          <p:cNvPicPr/>
          <p:nvPr/>
        </p:nvPicPr>
        <p:blipFill>
          <a:blip r:embed="rId5"/>
          <a:stretch/>
        </p:blipFill>
        <p:spPr>
          <a:xfrm>
            <a:off x="8893080" y="6607080"/>
            <a:ext cx="250920" cy="2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990033"/>
                </a:solidFill>
                <a:latin typeface="Times New Roman"/>
              </a:rPr>
              <a:t>Когда он нужен, его выбрасывают, когда не нужен – поднимают</a:t>
            </a:r>
            <a:r>
              <a:rPr b="0" lang="en-US" sz="4000" spc="-1" strike="noStrike">
                <a:solidFill>
                  <a:srgbClr val="990033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7093800" y="5589720"/>
            <a:ext cx="140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Times New Roman"/>
              </a:rPr>
              <a:t>якор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19280" y="2637000"/>
            <a:ext cx="466740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Times New Roman"/>
              </a:rPr>
              <a:t>Одежду всем дала, а сама всегда гола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05080" y="5589720"/>
            <a:ext cx="164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Times New Roman"/>
              </a:rPr>
              <a:t>игол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124000" y="1700280"/>
            <a:ext cx="4867200" cy="42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33"/>
                </a:solidFill>
                <a:latin typeface="Times New Roman"/>
              </a:rPr>
              <a:t>Не море, не земля - корабли не плавают и ходить нельзя</a:t>
            </a:r>
            <a:r>
              <a:rPr b="0" lang="en-US" sz="4000" spc="-1" strike="noStrike">
                <a:solidFill>
                  <a:srgbClr val="990033"/>
                </a:solidFill>
                <a:latin typeface="Times New Roman"/>
              </a:rPr>
              <a:t>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05800" y="5516640"/>
            <a:ext cx="167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Times New Roman"/>
              </a:rPr>
              <a:t>болот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979640" y="1916280"/>
            <a:ext cx="4824360" cy="36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33"/>
                </a:solidFill>
                <a:latin typeface="Times New Roman"/>
              </a:rPr>
              <a:t>Над землёй трава, под землёй алая голова</a:t>
            </a:r>
            <a:r>
              <a:rPr b="0" lang="en-US" sz="4000" spc="-1" strike="noStrike">
                <a:solidFill>
                  <a:srgbClr val="990033"/>
                </a:solidFill>
                <a:latin typeface="Times New Roman"/>
              </a:rPr>
              <a:t>.</a:t>
            </a:r>
            <a:r>
              <a:rPr b="0" lang="ru-RU" sz="40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78880" y="5589720"/>
            <a:ext cx="159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Times New Roman"/>
              </a:rPr>
              <a:t>свёк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79640" y="1916280"/>
            <a:ext cx="5041800" cy="36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33"/>
                </a:solidFill>
                <a:latin typeface="Times New Roman"/>
              </a:rPr>
              <a:t>Растёт зелёный кустик. Дотронешься – укусит</a:t>
            </a:r>
            <a:r>
              <a:rPr b="0" lang="en-US" sz="4000" spc="-1" strike="noStrike">
                <a:solidFill>
                  <a:srgbClr val="990033"/>
                </a:solidFill>
                <a:latin typeface="Times New Roman"/>
              </a:rPr>
              <a:t>.</a:t>
            </a:r>
            <a:r>
              <a:rPr b="0" lang="ru-RU" sz="40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517800" y="5516640"/>
            <a:ext cx="19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Times New Roman"/>
              </a:rPr>
              <a:t>крапи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124000" y="1989000"/>
            <a:ext cx="4686480" cy="35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33"/>
                </a:solidFill>
                <a:latin typeface="Times New Roman"/>
              </a:rPr>
              <a:t>Бьют парнишку по фуражке, чтоб пожил он в деревяшке</a:t>
            </a:r>
            <a:r>
              <a:rPr b="0" lang="en-US" sz="4000" spc="-1" strike="noStrike">
                <a:solidFill>
                  <a:srgbClr val="990033"/>
                </a:solidFill>
                <a:latin typeface="Times New Roman"/>
              </a:rPr>
              <a:t>.</a:t>
            </a:r>
            <a:r>
              <a:rPr b="0" lang="ru-RU" sz="40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78520" y="5589720"/>
            <a:ext cx="157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Times New Roman"/>
              </a:rPr>
              <a:t>гвозд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484360" y="1844640"/>
            <a:ext cx="3919680" cy="41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33"/>
                </a:solidFill>
                <a:latin typeface="Times New Roman"/>
              </a:rPr>
              <a:t>В доме комната гуляет, никого не удивляет</a:t>
            </a:r>
            <a:r>
              <a:rPr b="0" lang="en-US" sz="4000" spc="-1" strike="noStrike">
                <a:solidFill>
                  <a:srgbClr val="990033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166160" y="5589720"/>
            <a:ext cx="125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Times New Roman"/>
              </a:rPr>
              <a:t>лиф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556000" y="1773360"/>
            <a:ext cx="329724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33"/>
                </a:solidFill>
                <a:latin typeface="Times New Roman"/>
              </a:rPr>
              <a:t>Накормишь - живёт, напоишь – умрёт</a:t>
            </a:r>
            <a:r>
              <a:rPr b="0" lang="en-US" sz="4000" spc="-1" strike="noStrike">
                <a:solidFill>
                  <a:srgbClr val="990033"/>
                </a:solidFill>
                <a:latin typeface="Times New Roman"/>
              </a:rPr>
              <a:t>.</a:t>
            </a:r>
            <a:r>
              <a:rPr b="0" lang="ru-RU" sz="40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093800" y="5589720"/>
            <a:ext cx="140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Times New Roman"/>
              </a:rPr>
              <a:t>огон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692360" y="1916280"/>
            <a:ext cx="5472000" cy="36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16:25:05Z</dcterms:created>
  <dc:creator>L. Lazareva</dc:creator>
  <dc:description/>
  <dc:language>en-US</dc:language>
  <cp:lastModifiedBy>L. Lazareva</cp:lastModifiedBy>
  <dcterms:modified xsi:type="dcterms:W3CDTF">2009-10-11T09:11:17Z</dcterms:modified>
  <cp:revision>12</cp:revision>
  <dc:subject/>
  <dc:title>Zagadki</dc:title>
</cp:coreProperties>
</file>