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88C-B5A5-4987-BBCF-92953AA8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DB2-7D7E-4D8D-A603-A5F6B3F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6E6-FCB3-4B45-A0D4-AA902109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FDB-6D63-4591-BEA3-B30B471B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EAD-BC68-4156-99BD-CF54D638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F3C-621F-48B4-AB8C-0A48AE98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B22-66D0-4CC2-AFC6-3A97FD6D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E8C-F210-4029-9317-CD1119D4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408-9902-4009-9B8D-1DA61C6D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863-DECA-4C36-85D8-BC49DFE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342-25A7-49EC-BBBC-237C23E3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4EC-0EA4-41A7-A000-E3B2FC0E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967F-1068-489D-929C-3741BFAB37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92;&#1080;&#1083;&#1080;&#1085;.wav" TargetMode="External"/><Relationship Id="rId2" Type="http://schemas.microsoft.com/office/2007/relationships/media" Target="file:///tmp/home/.config/libreoffice/4/user/gallery/&#1092;&#1080;&#1083;&#1080;&#1085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4;&#1077;&#1076;&#1074;&#1077;&#1076;&#1100;.wav" TargetMode="External"/><Relationship Id="rId2" Type="http://schemas.microsoft.com/office/2007/relationships/media" Target="file:///tmp/home/.config/libreoffice/4/user/gallery/&#1084;&#1077;&#1076;&#1074;&#1077;&#1076;&#110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olf01.wav" TargetMode="External"/><Relationship Id="rId2" Type="http://schemas.microsoft.com/office/2007/relationships/media" Target="file:///tmp/home/.config/libreoffice/4/user/gallery/wolf01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wolfgav.wav" TargetMode="External"/><Relationship Id="rId5" Type="http://schemas.microsoft.com/office/2007/relationships/media" Target="file:///tmp/home/.config/libreoffice/4/user/gallery/wolfgav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0;&#1089;&#1099;.wav" TargetMode="External"/><Relationship Id="rId2" Type="http://schemas.microsoft.com/office/2007/relationships/media" Target="file:///tmp/home/.config/libreoffice/4/user/gallery/&#1083;&#1080;&#1089;&#1099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6;&#1089;&#1100;.wav" TargetMode="External"/><Relationship Id="rId2" Type="http://schemas.microsoft.com/office/2007/relationships/media" Target="file:///tmp/home/.config/libreoffice/4/user/gallery/&#1083;&#1086;&#1089;&#110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7;&#1085;&#1086;&#1090;.wav" TargetMode="External"/><Relationship Id="rId2" Type="http://schemas.microsoft.com/office/2007/relationships/media" Target="file:///tmp/home/.config/libreoffice/4/user/gallery/&#1077;&#1085;&#1086;&#109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forest.wav" TargetMode="External"/><Relationship Id="rId3" Type="http://schemas.microsoft.com/office/2007/relationships/media" Target="file:///tmp/home/.config/libreoffice/4/user/gallery/fore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kuku.wav" TargetMode="External"/><Relationship Id="rId2" Type="http://schemas.microsoft.com/office/2007/relationships/media" Target="file:///tmp/home/.config/libreoffice/4/user/gallery/kuku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6;&#1103;&#1090;&#1077;&#1083;.wav" TargetMode="External"/><Relationship Id="rId2" Type="http://schemas.microsoft.com/office/2007/relationships/media" Target="file:///tmp/home/.config/libreoffice/4/user/gallery/&#1076;&#1103;&#1090;&#1077;&#1083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inica.wav" TargetMode="External"/><Relationship Id="rId2" Type="http://schemas.microsoft.com/office/2007/relationships/media" Target="file:///tmp/home/.config/libreoffice/4/user/gallery/sinic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row2.wav" TargetMode="External"/><Relationship Id="rId2" Type="http://schemas.microsoft.com/office/2007/relationships/media" Target="file:///tmp/home/.config/libreoffice/4/user/gallery/crow2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9;&#1086;&#1083;&#1086;&#1074;&#1077;&#1081;2.wav" TargetMode="External"/><Relationship Id="rId2" Type="http://schemas.microsoft.com/office/2007/relationships/media" Target="file:///tmp/home/.config/libreoffice/4/user/gallery/&#1089;&#1086;&#1083;&#1086;&#1074;&#1077;&#1081;2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&#1078;&#1072;&#1074;&#1086;&#1088;&#1086;&#1085;&#1086;&#1082;.wav" TargetMode="External"/><Relationship Id="rId3" Type="http://schemas.microsoft.com/office/2007/relationships/media" Target="file:///tmp/home/.config/libreoffice/4/user/gallery/&#1078;&#1072;&#1074;&#1086;&#1088;&#1086;&#1085;&#1086;&#1082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&#1089;&#1082;&#1074;&#1086;&#1088;&#1077;&#1094;.wav" TargetMode="External"/><Relationship Id="rId3" Type="http://schemas.microsoft.com/office/2007/relationships/media" Target="file:///tmp/home/.config/libreoffice/4/user/gallery/&#1089;&#1082;&#1074;&#1086;&#1088;&#1077;&#1094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3640" y="2057400"/>
            <a:ext cx="68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Times New Roman"/>
              </a:rPr>
              <a:t>Лес и его голос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270px-CRW_2987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0626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1360" y="548640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ухает гроза мыш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сная хищница 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6400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73160" y="525780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лесу живут не только птицы, а и разные живот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ие и маленькие. Послушай, как рыч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солапый бурый ми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00" descr=""/>
          <p:cNvPicPr/>
          <p:nvPr/>
        </p:nvPicPr>
        <p:blipFill>
          <a:blip r:embed="rId4"/>
          <a:stretch/>
        </p:blipFill>
        <p:spPr>
          <a:xfrm>
            <a:off x="1752480" y="304920"/>
            <a:ext cx="5715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5920" y="5638680"/>
            <a:ext cx="674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воет серый волк. А еще он умеет лаять, в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родственник соб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волк" descr=""/>
          <p:cNvPicPr/>
          <p:nvPr/>
        </p:nvPicPr>
        <p:blipFill>
          <a:blip r:embed="rId7"/>
          <a:stretch/>
        </p:blipFill>
        <p:spPr>
          <a:xfrm>
            <a:off x="1143000" y="304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31880" y="58672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лают лис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ис" descr=""/>
          <p:cNvPicPr/>
          <p:nvPr/>
        </p:nvPicPr>
        <p:blipFill>
          <a:blip r:embed="rId4"/>
          <a:stretch/>
        </p:blipFill>
        <p:spPr>
          <a:xfrm>
            <a:off x="1066680" y="4572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2286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51200" y="4876920"/>
            <a:ext cx="420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голос могучего л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ят, что лось тру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а похоже, что неумел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нт дует в труб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Безымянный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4089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304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4" name="enot2" descr=""/>
          <p:cNvPicPr/>
          <p:nvPr/>
        </p:nvPicPr>
        <p:blipFill>
          <a:blip r:embed="rId4"/>
          <a:stretch/>
        </p:blipFill>
        <p:spPr>
          <a:xfrm>
            <a:off x="380880" y="380880"/>
            <a:ext cx="327816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5920" y="5562720"/>
            <a:ext cx="42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маленького пушистого ен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же свой гол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лень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64480" y="586728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еще в лесу живет красавец-олен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6_6_b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5619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3440" y="60958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ючий ежи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елка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34640" y="59436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жая белоч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яц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13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9600" y="59436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шистый зайч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osni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76600" y="579132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вай прогуляемся с тобой в лес. Узнаем, какие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животные здесь живут и послушаем их голос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1920" y="5638680"/>
            <a:ext cx="73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-ка, прислушайся. Чей это гол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укует ле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а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mage008" descr=""/>
          <p:cNvPicPr/>
          <p:nvPr/>
        </p:nvPicPr>
        <p:blipFill>
          <a:blip r:embed="rId4"/>
          <a:stretch/>
        </p:blipFill>
        <p:spPr>
          <a:xfrm>
            <a:off x="990720" y="457200"/>
            <a:ext cx="7086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457200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что за треск стои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к стучит сво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пким клювом дят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достает из-под к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екомых себе на об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itel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70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64008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9200" y="5943600"/>
            <a:ext cx="69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н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ничка, радуется солнышку и теп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inica" descr=""/>
          <p:cNvPicPr/>
          <p:nvPr/>
        </p:nvPicPr>
        <p:blipFill>
          <a:blip r:embed="rId4"/>
          <a:stretch/>
        </p:blipFill>
        <p:spPr>
          <a:xfrm>
            <a:off x="1143000" y="380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7480" y="594360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голос этой птицы узн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каркает в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ворона%20copy" descr=""/>
          <p:cNvPicPr/>
          <p:nvPr/>
        </p:nvPicPr>
        <p:blipFill>
          <a:blip r:embed="rId4"/>
          <a:stretch/>
        </p:blipFill>
        <p:spPr>
          <a:xfrm>
            <a:off x="838080" y="380880"/>
            <a:ext cx="74678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9400" y="5334120"/>
            <a:ext cx="28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 поет-за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ловей, сереньк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риметная пти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ightingale1" descr=""/>
          <p:cNvPicPr/>
          <p:nvPr/>
        </p:nvPicPr>
        <p:blipFill>
          <a:blip r:embed="rId4"/>
          <a:stretch/>
        </p:blipFill>
        <p:spPr>
          <a:xfrm>
            <a:off x="457200" y="304920"/>
            <a:ext cx="4890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alerida_cristata_grested_lark_KJ7T5690_out_j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410080" cy="539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22040" y="6019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щебечет жаворо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Безымянный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511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52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563868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еще один знаменитый птичий певец – скворе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ушай, какие трели он выв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8:01:42Z</dcterms:created>
  <dc:creator>Юлия Каспарова</dc:creator>
  <dc:description/>
  <dc:language>en-US</dc:language>
  <cp:lastModifiedBy>dmitry</cp:lastModifiedBy>
  <dcterms:modified xsi:type="dcterms:W3CDTF">2006-04-03T08:02:32Z</dcterms:modified>
  <cp:revision>1</cp:revision>
  <dc:subject/>
  <dc:title>Лес и его голоса</dc:title>
</cp:coreProperties>
</file>