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79D-0D53-4D29-8C6E-47DE2E5F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19C-B401-4A87-8D28-3214D56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5ED-F416-41E0-8621-62A7347C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B96-2148-4FFA-A561-2E33F7C1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10B-4083-4AF7-88A2-A16E7667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8EC-0994-4AE5-B965-17AA9E04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962-AFCD-4701-B360-2452DEED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F25-DA3A-4504-900E-8BFDACFA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9CD-F260-4032-832B-01A7A01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056-EDBA-487B-BDF1-1546B0BB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01B-6FD5-4AF6-9E3F-ABAB6F9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6D8-688C-423C-B9A5-99C0CA5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CF6-15A4-4409-AAAE-1DEB2791C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Четыре друга"/>
          <p:cNvPicPr/>
          <p:nvPr/>
        </p:nvPicPr>
        <p:blipFill>
          <a:blip r:embed="rId1"/>
          <a:stretch/>
        </p:blipFill>
        <p:spPr>
          <a:xfrm>
            <a:off x="4714920" y="1785960"/>
            <a:ext cx="4286160" cy="40719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42" name="Прямоугольник 4"/>
          <p:cNvSpPr/>
          <p:nvPr/>
        </p:nvSpPr>
        <p:spPr>
          <a:xfrm>
            <a:off x="2428920" y="428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6142"/>
                </a:solidFill>
                <a:latin typeface="Georgia"/>
              </a:rPr>
              <a:t>The Beat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42920" y="1714680"/>
            <a:ext cx="392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John Len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58ff"/>
                </a:solidFill>
                <a:latin typeface="Arial"/>
              </a:rPr>
              <a:t>George Harri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41c41"/>
                </a:solidFill>
                <a:latin typeface="Arial"/>
              </a:rPr>
              <a:t>Ringo Sta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6-Дорожка 06.mp3" descr=""/>
          <p:cNvPicPr/>
          <p:nvPr/>
        </p:nvPicPr>
        <p:blipFill>
          <a:blip r:embed="rId2"/>
          <a:stretch/>
        </p:blipFill>
        <p:spPr>
          <a:xfrm>
            <a:off x="642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42840" y="3139920"/>
            <a:ext cx="3790800" cy="2462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4000680" y="0"/>
            <a:ext cx="5143320" cy="9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ese are words that go together well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ich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, I love you, 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at's all I want to s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find a w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ill say the only words I know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, I need to, I need to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 make you se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Oh, what you mean to m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hoping you will know what I mean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ant you, I want you, I want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think you know by n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'll get to you some h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telling you so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And I will say the only words I know that you'll 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echelle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http://upload.wikimedia.org/wikipedia/ru/thumb/e/e9/Beatleslogo.jpg/200px-Beatleslogo.jpg"/>
          <p:cNvPicPr/>
          <p:nvPr/>
        </p:nvPicPr>
        <p:blipFill>
          <a:blip r:embed="rId2"/>
          <a:stretch/>
        </p:blipFill>
        <p:spPr>
          <a:xfrm>
            <a:off x="0" y="0"/>
            <a:ext cx="385776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Фотографии битлов с внутренней обложки «Белого альбома»"/>
          <p:cNvPicPr/>
          <p:nvPr/>
        </p:nvPicPr>
        <p:blipFill>
          <a:blip r:embed="rId3"/>
          <a:stretch/>
        </p:blipFill>
        <p:spPr>
          <a:xfrm>
            <a:off x="0" y="1143000"/>
            <a:ext cx="37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642960" y="0"/>
            <a:ext cx="72867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ese are words that go together well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ich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, I love you, 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at's all I want to s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find a w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ill say the only words I know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, I need to, I need to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 make you se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Oh, what you mean to m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hoping you will know what I mean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ant you, I want you, I want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think you know by n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'll get to you some h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telling you so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And I will say the only words I know that you'll 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echelle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http://www.beatles-group.ru/Beatles_files/1.jpg"/>
          <p:cNvPicPr/>
          <p:nvPr/>
        </p:nvPicPr>
        <p:blipFill>
          <a:blip r:embed="rId1"/>
          <a:stretch/>
        </p:blipFill>
        <p:spPr>
          <a:xfrm>
            <a:off x="4857840" y="1581120"/>
            <a:ext cx="4143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Битлз. Желтая подводная лодка / The Beatles: Yellow Submarine (1968)"/>
          <p:cNvPicPr/>
          <p:nvPr/>
        </p:nvPicPr>
        <p:blipFill>
          <a:blip r:embed="rId1"/>
          <a:stretch/>
        </p:blipFill>
        <p:spPr>
          <a:xfrm>
            <a:off x="0" y="2428920"/>
            <a:ext cx="3809880" cy="3762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http://upload.wikimedia.org/wikipedia/ru/3/37/%D0%96%D0%B5%D0%BB%D1%82%D0%B0%D1%8F_%D0%BF%D0%BE%D0%B4%D0%B2%D0%BE%D0%B4%D0%BD%D0%B0%D1%8F_%D0%BB%D0%BE%D0%B4%D0%BA%D0%B0.jpg"/>
          <p:cNvPicPr/>
          <p:nvPr/>
        </p:nvPicPr>
        <p:blipFill>
          <a:blip r:embed="rId2"/>
          <a:stretch/>
        </p:blipFill>
        <p:spPr>
          <a:xfrm>
            <a:off x="142920" y="142920"/>
            <a:ext cx="1523880" cy="22287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286000" y="142920"/>
            <a:ext cx="685800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c354d"/>
              </a:buClr>
              <a:buFont typeface="Arno Pro Capt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In the town where I was born lived a man who sailed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he told us of his life in the land of submar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So we sailed up to the sun till we found the sea of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we lived beneath the waves in our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c354d"/>
              </a:buClr>
              <a:buFont typeface="Arno Pro Capt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our friends are all on boa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Many more of them live next do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the band begins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3.    And we live a life of eas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Everyone of us has all we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Sky of blue and sea of green in our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no Pro Caption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1566720" y="-30240"/>
            <a:ext cx="4870440" cy="1816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357120" y="1428840"/>
            <a:ext cx="864396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My Bonnie is over the ocean, my Bonnie is over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My Bonnie is over the ocean , oh bring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Last night as I lay on my pillow, last night as I lay on m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Last night as I lay on my pillow, I dreamed that my Bonnie was dea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3. Oh, winds, ye blow over the ocean, oh, winds, ye blow over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Oh, winds, ye blow over the ocean, oh, bring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4. The winds have blown over the ocean, the winds have blown over the s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The winds have blown over the ocean, and brought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28760" y="1000080"/>
            <a:ext cx="464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John Len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was born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the 9</a:t>
            </a:r>
            <a:r>
              <a:rPr b="1" lang="en-US" sz="4000" spc="-1" strike="noStrike" baseline="30000">
                <a:solidFill>
                  <a:srgbClr val="0558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 of October in 1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SmallJohn"/>
          <p:cNvPicPr/>
          <p:nvPr/>
        </p:nvPicPr>
        <p:blipFill>
          <a:blip r:embed="rId1"/>
          <a:stretch/>
        </p:blipFill>
        <p:spPr>
          <a:xfrm>
            <a:off x="4929120" y="571680"/>
            <a:ext cx="4071960" cy="457200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128592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was born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the 18 th of June in 19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SmallPaul"/>
          <p:cNvPicPr/>
          <p:nvPr/>
        </p:nvPicPr>
        <p:blipFill>
          <a:blip r:embed="rId1"/>
          <a:stretch/>
        </p:blipFill>
        <p:spPr>
          <a:xfrm>
            <a:off x="4786200" y="785880"/>
            <a:ext cx="4071960" cy="428616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14200" y="642960"/>
            <a:ext cx="3857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George Har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was born on the 25</a:t>
            </a:r>
            <a:r>
              <a:rPr b="1" lang="en-US" sz="4000" spc="-1" strike="noStrike" baseline="30000">
                <a:solidFill>
                  <a:srgbClr val="00206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of February in 19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SmallGeorge"/>
          <p:cNvPicPr/>
          <p:nvPr/>
        </p:nvPicPr>
        <p:blipFill>
          <a:blip r:embed="rId1"/>
          <a:stretch/>
        </p:blipFill>
        <p:spPr>
          <a:xfrm>
            <a:off x="4429080" y="214200"/>
            <a:ext cx="4500720" cy="435780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SmallRingo"/>
          <p:cNvPicPr/>
          <p:nvPr/>
        </p:nvPicPr>
        <p:blipFill>
          <a:blip r:embed="rId1"/>
          <a:stretch/>
        </p:blipFill>
        <p:spPr>
          <a:xfrm>
            <a:off x="5000760" y="857160"/>
            <a:ext cx="3929040" cy="471492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  <p:sp>
        <p:nvSpPr>
          <p:cNvPr id="52" name="Прямоугольник 7"/>
          <p:cNvSpPr/>
          <p:nvPr/>
        </p:nvSpPr>
        <p:spPr>
          <a:xfrm>
            <a:off x="285840" y="1571760"/>
            <a:ext cx="378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4e6d"/>
                </a:solidFill>
                <a:latin typeface="Arial"/>
              </a:rPr>
              <a:t>Ringo Starr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was born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the 7</a:t>
            </a:r>
            <a:r>
              <a:rPr b="1" lang="en-US" sz="4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July in 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42920" y="22147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 Yuly 1957 John Lennon met 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Quarrymen"/>
          <p:cNvPicPr/>
          <p:nvPr/>
        </p:nvPicPr>
        <p:blipFill>
          <a:blip r:embed="rId1"/>
          <a:stretch/>
        </p:blipFill>
        <p:spPr>
          <a:xfrm>
            <a:off x="5357880" y="428760"/>
            <a:ext cx="3429000" cy="27144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pic>
        <p:nvPicPr>
          <p:cNvPr id="55" name="Рисунок 5" descr="Paul"/>
          <p:cNvPicPr/>
          <p:nvPr/>
        </p:nvPicPr>
        <p:blipFill>
          <a:blip r:embed="rId2"/>
          <a:stretch/>
        </p:blipFill>
        <p:spPr>
          <a:xfrm>
            <a:off x="5357880" y="3714840"/>
            <a:ext cx="3500280" cy="26431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14200" y="714240"/>
            <a:ext cx="485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n 1961 in Germany in the firm “Polydor”appeared the single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“My Bonni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but the group accompanied to the singer Toni Sheri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786200" y="3571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00040" y="1071720"/>
            <a:ext cx="4000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 1962 on the 4</a:t>
            </a:r>
            <a:r>
              <a:rPr b="1" lang="en-US" sz="4000" spc="-1" strike="noStrike" baseline="30000">
                <a:solidFill>
                  <a:srgbClr val="00206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of January the newspaper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“Mersey Beat”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named the  Beatles the best group of 19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MerseyBeat"/>
          <p:cNvPicPr/>
          <p:nvPr/>
        </p:nvPicPr>
        <p:blipFill>
          <a:blip r:embed="rId1"/>
          <a:stretch/>
        </p:blipFill>
        <p:spPr>
          <a:xfrm>
            <a:off x="4786200" y="142920"/>
            <a:ext cx="4357800" cy="3357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714920" y="357192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786120" y="142920"/>
            <a:ext cx="53578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Yester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All my troubles seemed so far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Now it looks as though they’r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to st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I believe in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Sudden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I’m not half the man I u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There’s a shadow hanging over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yesterday came sudde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Why she had to go I don’t know, she wouldn’t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I said something wrong, now I long for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Yester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Love was such an easy game to pl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Now I need a place to hide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I believe in yesterd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6" descr=""/>
          <p:cNvPicPr/>
          <p:nvPr/>
        </p:nvPicPr>
        <p:blipFill>
          <a:blip r:embed="rId1"/>
          <a:stretch/>
        </p:blipFill>
        <p:spPr>
          <a:xfrm>
            <a:off x="165240" y="2901960"/>
            <a:ext cx="3558960" cy="28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144360" y="142920"/>
            <a:ext cx="3427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2:00:28Z</dcterms:created>
  <dc:creator>Кропачев</dc:creator>
  <dc:description/>
  <dc:language>en-US</dc:language>
  <cp:lastModifiedBy>User</cp:lastModifiedBy>
  <dcterms:modified xsi:type="dcterms:W3CDTF">2011-11-09T11:45:18Z</dcterms:modified>
  <cp:revision>28</cp:revision>
  <dc:subject/>
  <dc:title>Слайд 1</dc:title>
</cp:coreProperties>
</file>