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01E-42D0-4DE3-A787-38E1528F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AB7-B7DB-455B-BFEE-B7B4493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BDD-278F-4A30-96B6-8688D6B4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22C-9836-4B35-B0FA-7B372ACA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CB9-6857-47EF-86A7-8A577DC3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7E8-9B87-4BB7-8C11-EA7E2016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B17-179C-42FA-B10D-CBA48B0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21F-2127-4A2A-86E1-A01A472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1BF-B35E-49FA-A21D-BE5721BB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BE7-4EA2-45FC-8586-0D71842B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CD4-E86D-438F-B5AB-9B1C6A5D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573-169C-4188-991B-914548A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783-B194-4E18-8FB9-2815AAADE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радиции встреч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Нового Года в России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2549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119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Люди, предпочитающие праздновать Новый Год в домашней обстановке, как правило, смотрят развлекательные передачи с участием звезд эстрады по центральным телеканалам. Большинство семей России после угощения отправляются в компании друзей к новогодней елке в центр города. Там и продолжается всеми любимый праздник.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В эту ночь по всей России раздаются миллионы взрывов фейерверков и салют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03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В эту ночь можно встретить людей, гуляющих в костюме Деда Мороза. Еще одного символа этого праздника. Дед Мороз вместе со своей внучкой Снегурочкой также неизменные спутники празднования Нового Года. Всю праздничную ночь Россия не спит, а веселится: повсюду раздаются взрывы салютов и фейерверков, слышится веселый смех люд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378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63374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Изначально Новый Год на Руси праздновался 1 марта по юлианскому календарю. С XV века Новый год начинался с 1 сентября, тогда этот праздник назывался дословно 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«Первый день во году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712880" cy="215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83560" y="3933720"/>
            <a:ext cx="19555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уже с 1700 года по указу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етра 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Новый Го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стали праздновать 1 января, как и в остальных европейских страна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3457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6491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радициях встречи Нового Года в России такие атрибуты как: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елка, новогодний стол, Дед Мороз, фейерверки, массовые гул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292480" cy="172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77080" y="171360"/>
            <a:ext cx="1871640" cy="145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0000" y="115920"/>
            <a:ext cx="1409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708360" y="165240"/>
            <a:ext cx="1943280" cy="145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708360" y="4581360"/>
            <a:ext cx="1800360" cy="178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020000" y="2133720"/>
            <a:ext cx="16430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Новогоднюю елку стали массово использовать в России только с 1936 года. До этого елка была запрещена советскими властями как 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«пережиток времен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87880" y="907920"/>
            <a:ext cx="28879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гда же началась традиция празднования Нового года в Кремле, с неотъемлемой «кремлевской елкой». Сейчас новогодние елки стоят на центральной площади каждого гор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32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78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очь с 31 декабря на 1 января в каждой семье принято накрывать праздничный стол. Как правило, там неизменно присутствуют три составляющие: салат «Оливье», шампанское и мандар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1860840" cy="1811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1873080" cy="1681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35640" y="4869000"/>
            <a:ext cx="2016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8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 России принято усаживаться за праздничный стол около 11 часов вечера, чтобы «проводить» старый год. Затем практически все семьи  смотрят телевизионное обращение главы государства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27640" y="141120"/>
            <a:ext cx="2737080" cy="2162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19960" y="3860640"/>
            <a:ext cx="2647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4753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Примерно в 23 часа 55 минут по всем центральным каналам выступает президент страны, он подводит некоторые итоги уходящего года и желает счастья и удачи всем жителям страны в наступающем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960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9:14:33Z</dcterms:created>
  <dc:creator>ари\я</dc:creator>
  <dc:description/>
  <dc:language>en-US</dc:language>
  <cp:lastModifiedBy>ари\я</cp:lastModifiedBy>
  <dcterms:modified xsi:type="dcterms:W3CDTF">2012-01-15T09:47:48Z</dcterms:modified>
  <cp:revision>8</cp:revision>
  <dc:subject/>
  <dc:title>Слайд 1</dc:title>
</cp:coreProperties>
</file>