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E0FC-F00A-44E6-A2B8-4276F5006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680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D45F-18DF-447E-B242-67C45CDB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368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DAD6-1660-4240-B15C-D6BFD53E3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5080" y="17679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17679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680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5080" y="436680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436680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F1DB-C72B-4ABF-A3F2-69F121907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F181-451F-4A80-8489-FDE9DCF31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5652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8528-089D-4DD2-A533-9CD87D68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5652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B812-427D-4F7F-87D7-57FD94A3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9CD1-D8ED-48D6-A1F4-DF8680E9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C8B9-0D23-45D8-945D-A288EE12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0"/>
            <a:ext cx="905652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7A5D-6946-4017-97D3-B74F9443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66DD-D342-4A8A-B852-CD60D8C5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5652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24AE-3D50-424F-82EC-99AD4C88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368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4CF6-BB11-49B5-8273-93658B7C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6680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5BD2-1040-4097-A088-E9D11D5B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6680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F978-317A-42EF-8B75-0BB79BAA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368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989F4-52ED-42DB-868F-4E8C5A822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5080" y="17679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17679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6680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5080" y="436680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436680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2000A-5C44-4AC6-BB7B-236615B03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5652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E7CF-033E-443F-B965-C145BBA9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7E88-888B-4ED1-BFE1-3E768EB5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AEF2-D455-40EF-A78C-CB8D966B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0"/>
            <a:ext cx="905652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328E-A44A-4742-98E2-4CF0B671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A4A8-CDED-4A3F-B959-B3CC6EF5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368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42CE-698C-47D1-9689-DED2ABCD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680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6FC7-4087-42BC-83D1-C2F98278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5652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335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13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3388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AE69E69-D1D4-4236-823A-4B70AFBFD9F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5652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3280" y="6886080"/>
            <a:ext cx="23335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813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080"/>
            <a:ext cx="23335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F994D8-3C84-45C0-A567-FDAA6D38A6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03280" y="1352520"/>
            <a:ext cx="90709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1280" bIns="0" anchor="ctr">
            <a:noAutofit/>
          </a:bodyPr>
          <a:p>
            <a:pPr algn="ctr"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ru-RU" sz="8000" spc="-1" strike="noStrike">
                <a:solidFill>
                  <a:srgbClr val="cc3300"/>
                </a:solidFill>
                <a:latin typeface="Arial"/>
              </a:rPr>
              <a:t>Михаил Юрьевич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ru-RU" sz="8000" spc="-1" strike="noStrike">
                <a:solidFill>
                  <a:srgbClr val="cc3300"/>
                </a:solidFill>
                <a:latin typeface="Arial"/>
              </a:rPr>
              <a:t>         </a:t>
            </a:r>
            <a:r>
              <a:rPr b="0" i="1" lang="ru-RU" sz="8000" spc="-1" strike="noStrike">
                <a:solidFill>
                  <a:srgbClr val="cc3300"/>
                </a:solidFill>
                <a:latin typeface="Arial"/>
              </a:rPr>
              <a:t>Лермонто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8000" spc="-1" strike="noStrike">
                <a:solidFill>
                  <a:srgbClr val="cc3300"/>
                </a:solidFill>
                <a:latin typeface="Arial"/>
              </a:rPr>
              <a:t>         </a:t>
            </a:r>
            <a:r>
              <a:rPr b="0" lang="ru-RU" sz="8000" spc="-1" strike="noStrike">
                <a:solidFill>
                  <a:srgbClr val="cc3300"/>
                </a:solidFill>
                <a:latin typeface="Arial"/>
              </a:rPr>
              <a:t>Три пальм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                    </a:t>
            </a: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(восточное сказание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cc3300"/>
                </a:solidFill>
                <a:latin typeface="Arial"/>
              </a:rPr>
              <a:t>                               </a:t>
            </a:r>
            <a:r>
              <a:rPr b="0" lang="ru-RU" sz="2600" spc="-1" strike="noStrike">
                <a:solidFill>
                  <a:srgbClr val="cc3300"/>
                </a:solidFill>
                <a:latin typeface="Arial"/>
              </a:rPr>
              <a:t>Движение тела, брошенного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cc3300"/>
                </a:solidFill>
                <a:latin typeface="Arial"/>
              </a:rPr>
              <a:t>                                </a:t>
            </a:r>
            <a:r>
              <a:rPr b="0" lang="ru-RU" sz="2600" spc="-1" strike="noStrike">
                <a:solidFill>
                  <a:srgbClr val="cc3300"/>
                </a:solidFill>
                <a:latin typeface="Arial"/>
              </a:rPr>
              <a:t>под углом к горизонт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46160" y="5759280"/>
            <a:ext cx="655632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грированный урок физики и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физики:        Яковлева Т. 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литературы:Шаповалова Н.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а № 2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нкт - 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280360" y="179280"/>
            <a:ext cx="160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ь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60360" y="2879640"/>
            <a:ext cx="2700360" cy="27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219640" y="1079640"/>
            <a:ext cx="4859280" cy="63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ри пальмы», (по-англ. “Three palms”; 1839), баллада Лермонтова, темы и образы которой – поверженной красоты, гибельности соприкосновения с «другим» миром и др. – включаются в систему позднего балладного творчества Лермонт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854360"/>
            <a:ext cx="5219640" cy="57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959280" y="2160720"/>
            <a:ext cx="61182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9440" bIns="0" anchor="ctr">
            <a:noAutofit/>
          </a:bodyPr>
          <a:p>
            <a:pPr algn="ctr">
              <a:lnSpc>
                <a:spcPct val="81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песчаных степях аравийской земл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ри гордые пальмы высоко росл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одник между ними из почвы бесплодной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Журча, пробивался волною холодной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Хранимый, под сенью зеленых листов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т знойных лучей и летучих песк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 многие годы неслышно прошл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о странник усталый из чуждой земл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ылающей грудью ко влаге студён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Еще не склонялся под кущей зелёной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 стали уж сохнуть от знойных луч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оскошные листья и звучный руч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2340000"/>
            <a:ext cx="3959280" cy="52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8360" y="1979640"/>
            <a:ext cx="9070920" cy="47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spcAft>
                <a:spcPts val="575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426"/>
              </a:spcBef>
              <a:spcAft>
                <a:spcPts val="575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И стали три пальмы на бога роптать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"На то ль мы родились, чтоб здесь увядать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Без пользы в пустыне росли и цвели мы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Колеблемы вихрем и зноем палимы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Ничей благосклонный не радуя взор?.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Не прав твой, о небо, святой приговор!"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И только замолкли - в дали голубой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Столбом уж крутился песок золотой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Звонков раздавались нестройные звуки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Пестрели коврами покрытые вьюки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И шел, колыхаясь, как в море челнок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Верблюд за верблюдом, взрывая пес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68360" y="44280"/>
            <a:ext cx="9070920" cy="66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6300720"/>
            <a:ext cx="972036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раван. Илл. В. Д. Поленова. Черная акварель. 1891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1800360"/>
            <a:ext cx="10080720" cy="43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rcRect l="14619" t="10214" r="8869" b="33075"/>
          <a:stretch/>
        </p:blipFill>
        <p:spPr>
          <a:xfrm>
            <a:off x="4140360" y="0"/>
            <a:ext cx="5940360" cy="5040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60360" y="5400720"/>
            <a:ext cx="68407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8000"/>
              </a:lnSpc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Мотаясь, висели меж твердых горбов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Узорные полы походных шатров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Их смуглые ручки порой подымали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И черные очи оттуда сверкали..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И, стан худощавый к луке наклоня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Араб горячил вороного коня. </a:t>
            </a:r>
            <a:br>
              <a:rPr sz="2800"/>
            </a:br>
            <a:br>
              <a:rPr sz="2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rcRect l="9603" t="10148" r="15440" b="34525"/>
          <a:stretch/>
        </p:blipFill>
        <p:spPr>
          <a:xfrm>
            <a:off x="4859280" y="0"/>
            <a:ext cx="5219640" cy="5040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79280" y="5219640"/>
            <a:ext cx="61200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3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ourier New"/>
              </a:rPr>
              <a:t>И конь на дыбы подымался поро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ourier New"/>
              </a:rPr>
              <a:t>И прыгал, как барс, пораженный стрело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ourier New"/>
              </a:rPr>
              <a:t>И белой одежды красивые склад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ourier New"/>
              </a:rPr>
              <a:t>По плечам фариса вились в беспорядк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ourier New"/>
              </a:rPr>
              <a:t>И, с криком и свистом несясь по песку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ourier New"/>
              </a:rPr>
              <a:t>Бросал и ловил он копье на-скак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79280" y="5219640"/>
            <a:ext cx="684072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575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ourier New"/>
              </a:rPr>
              <a:t>Вот к пальмам подходит, шумя, караван: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ourier New"/>
              </a:rPr>
              <a:t>В тени их веселый раскинулся стан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ourier New"/>
              </a:rPr>
              <a:t>Кувшины звуча налилися водою,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ourier New"/>
              </a:rPr>
              <a:t>И, гордо кивая махровой главою,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ourier New"/>
              </a:rPr>
              <a:t>Приветствуют пальмы нежданных гостей,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ourier New"/>
              </a:rPr>
              <a:t>И щедро поит их студёный ручей. 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81160" y="1079640"/>
            <a:ext cx="673884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rcRect l="15545" t="9803" r="6375" b="33047"/>
          <a:stretch/>
        </p:blipFill>
        <p:spPr>
          <a:xfrm>
            <a:off x="4140360" y="0"/>
            <a:ext cx="5940360" cy="521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10:56:41Z</dcterms:created>
  <dc:creator>Татьяна Яковлева</dc:creator>
  <dc:description/>
  <dc:language>en-US</dc:language>
  <cp:lastModifiedBy>Татьяна Яковлева</cp:lastModifiedBy>
  <cp:lastPrinted>2011-12-16T13:53:13Z</cp:lastPrinted>
  <dcterms:modified xsi:type="dcterms:W3CDTF">2011-12-16T17:00:14Z</dcterms:modified>
  <cp:revision>187</cp:revision>
  <dc:subject/>
  <dc:title/>
</cp:coreProperties>
</file>