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2AD-C1F4-426A-A6BD-C7715A39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207B-1037-4A6D-AF83-7B026892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8BD-A0A2-4262-9E40-11115E71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7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65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7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65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D4F-90A1-4CEC-9E30-E236F1FC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1BB2-FE6C-4BF2-A536-CBA5A95E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7C81-812D-47F5-B731-210CC8AA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F436-4A7F-48AA-8D7B-5F57C7B7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A02D-B0C5-4D3B-B2F8-52FBB918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C421-C302-4934-8C6E-8F0A259A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0"/>
            <a:ext cx="905508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931F-B1DE-4BEF-A2DF-CA9AAE97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CB78-4F78-4BA1-96ED-C4D3068F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B5A-50F0-4CFF-A5DE-4808ADF6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0AD5-A0EA-45A2-965C-B9892494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6AE8-843C-4549-8C8F-BD55EBE9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2CC3-CC03-4EB3-8CA2-BD797CD6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B922-9A74-4812-8006-E604AB03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47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65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47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65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22B9-AD58-4B28-B685-D4E9A773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287F-CEBF-4DA9-A96B-3177D937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DC3-DB8D-4D0F-AE4E-F24C607C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CCF7-6EAA-4864-BB72-336F1C27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0"/>
            <a:ext cx="905508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3F3D-7B8F-4B87-B977-D6B05B0D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D555-CEB4-4E08-B8B9-397C5771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B4A-A7D5-48BE-938B-6FE76AAB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98B-DFFB-48A4-922F-0D2D21D7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98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4E46B-4D73-4B35-845E-4654461F14C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798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99906-5984-4F77-AA53-92DEEE5965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03280" y="1352520"/>
            <a:ext cx="9070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1280" bIns="0" anchor="ctr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8000" spc="-1" strike="noStrike">
                <a:solidFill>
                  <a:srgbClr val="cc3300"/>
                </a:solidFill>
                <a:latin typeface="Arial"/>
              </a:rPr>
              <a:t>Михаил Юрьевич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80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i="1" lang="ru-RU" sz="8000" spc="-1" strike="noStrike">
                <a:solidFill>
                  <a:srgbClr val="cc3300"/>
                </a:solidFill>
                <a:latin typeface="Arial"/>
              </a:rPr>
              <a:t>Лермонто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80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lang="ru-RU" sz="8000" spc="-1" strike="noStrike">
                <a:solidFill>
                  <a:srgbClr val="cc3300"/>
                </a:solidFill>
                <a:latin typeface="Arial"/>
              </a:rPr>
              <a:t>Три пальм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                    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(восточное сказание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                               </a:t>
            </a: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Движение тела, брошенног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                                </a:t>
            </a: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под углом к горизонт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46160" y="5759280"/>
            <a:ext cx="655632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грированный урок физики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физики:        Яковлева Т. 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литературы:Шаповалова Н.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а № 2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кт - 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80360" y="179280"/>
            <a:ext cx="160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60360" y="287964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9640" y="1619280"/>
            <a:ext cx="90709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п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единица длины стиха, состоящая из повторяющейся последовательности ударного и безударных слогов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хсложные стоп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т из двух слогов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дарный и безударный слог)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м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безударный и ударный слог) - самая распространённая стопа в русской поэ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ёхсложные сто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оследовательность из 3-х слогов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кти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дарный слог первый из трёх)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мфибрах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дарный слог второй из трё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пе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дарный слог третий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ёхсложная стоп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четыре слога, где ударный слог может регулярно повторяться на месте любого из четырёх слогов: первый пеон - пеон с ударением на первом слоге, второй пеон - с ударением на втором слоге и так дале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исложная стоп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стоит из пяти слогов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т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ударный слог третий из п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0"/>
            <a:ext cx="951876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Анализ художественно-изобразительных средств стихотворения.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Стихотворная сто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1260360"/>
            <a:ext cx="90709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зм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это способ звуковой организации стиха; порядок чередования ударных и безударных слогов в стопе стихотворения. Размер стихотворения повторяет название стопы и указывает на количество стоп в строке. Любая стопа может повторяться в строке несколько раз (от одного до восьми, и более). Количество повторов стопы и определяет полный размер стиха, например: одностопный пентон, двухстопный пеон, трехстопный анапест,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четырёхстопны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ямб, пятистопный дактиль, шестистопный хорей и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1960" y="179280"/>
            <a:ext cx="951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Анализ художественно-изобразительных средств стихотворения.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Размер стихотв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1800360"/>
            <a:ext cx="907092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just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иф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это звуковой повтор, традиционно используемый в поэзии и, как правило, расположенный и ожидаемый на концах строк в стихах. Рифма скрепляет собой строки и вызывает ощущение звуковой гармонии и смысловой законченности определённых частей стихотворения. Рифмы помогают ритмическому восприятию строк и строф, выполняют запоминательную функцию в стихах и усиливают воздействие поэзии как искусства благодаря изысканному благозвучию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2600" y="0"/>
            <a:ext cx="95137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Анализ художественно-изобразительных средств стихотворения.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Риф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1800360"/>
            <a:ext cx="907092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пособы рифмовки 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ихотворен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межная(АА Б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крёстная (АБ А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ьцевая (А  ББ  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песчаных степях аравийской земли (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ри гордые пальмы высоко росли. (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дник между ними из почвы бесплодной, (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Журча, пробивался волною холодной, (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ранимый под сенью зелёных листов, (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 знойных лучей и летучих песков. (В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2600" y="179280"/>
            <a:ext cx="951372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Анализ художественно-изобразительных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средств стихотворения.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Рифм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079640"/>
            <a:ext cx="30607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2057400"/>
            <a:ext cx="91328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just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ифраз - использование описания вместо собственного имени или названия; описательное выражение, оборот речи, заменяющее слово. Используется для украшения речи, замены повтора или несет в себе значение аллегор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ифраз - приём в литературе, когда слово перефразируют в красочное сочет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пример, пальмы – питомцы столе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2600" y="0"/>
            <a:ext cx="95137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Анализ художественно-изобразительных средств стихотворения.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Периф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0920" y="2057400"/>
            <a:ext cx="9829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ллитерация - повторение в стихотворной речи (реже в прозе) одинаковых согласных звуков с целью усиления выразительности художественной речи; один из видов звукопис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 ко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ям у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гим то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за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ли без жизни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томцы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лет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600" y="0"/>
            <a:ext cx="95137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Анализ художественно-изобразительных средств стихотворения.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Аллитер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2286000"/>
            <a:ext cx="9601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Метафора - переносное значение слова, основанное на употреблении одного предмета или явления другому по сходству или контрасту; скрытое сравнение, построенное на сходстве или контрасте явлений, в котором слова "как", "как будто", "словно" отсутствуют, но подразумевают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Метафора повышает точность поэтической речи и ее эмоциональную выразительность. Разновидностью метафоры является олицетвор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Благодаря каким словам пальмы предстают как люди, воины? С какой целью используется метафор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Кувшины, звуча, налились водою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И, гордо кивая махровой главою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иветствуют пальмы нежданных гостей,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И щедро поит их студёный  руч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И пали без жизни питомцы столетий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Одежду сорвали с них малые де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Изрублены были тела их потом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И медленно жгли их до утра огне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2600" y="0"/>
            <a:ext cx="95137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Анализ художественно-изобразительных средств стихотворения.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Метаф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0280" y="2057400"/>
            <a:ext cx="9070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нтитеза - стилистический прием, основанный 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езком противопоставлении понятий и образов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чаще всего основывается на употреблении антоним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равните начало и конец стихотворе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В песчаных степях аравийской зем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и гордые пальмы высоко ро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ник между ними из почвы бесплод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урча, пробивался волною холод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ранимый, под сенью зеленых лис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знойных лучей и летучих пес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10. И ныне все дико и пусто кругом 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Не шепчутся листья с гремучим ключом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Напрасно пророка о тени он просит 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Его лишь песок раскаленный заносит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Да коршун хохлатый, степной нелюдим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Добычу терзает и щиплет над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2600" y="0"/>
            <a:ext cx="95137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Анализ художественно-изобразительных средств стихотворения.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Анти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2963880"/>
            <a:ext cx="907092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хотворение состоит и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строф (всего 60 строк), 340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фы по 6 строк - шестистишие (сексти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: четырёхстопный амфибрах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па: трёхсложная с ударением на втором сло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480000" y="-7920"/>
            <a:ext cx="3610080" cy="32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44280"/>
            <a:ext cx="979164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10080720" cy="5502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0" y="228600"/>
            <a:ext cx="3200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пальмы" М.Ю.Лермонтова с иллюстрациями Д.Хайкина (1964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Вот к пальмам подходит, шумя, караван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В тени их веселый раскинулся стан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Кувшины звуча налилися водою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И, гордо кивая махровой главою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Приветствуют пальмы нежданных гостей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И щедро поит их студёный руч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360" y="5068800"/>
            <a:ext cx="551196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Но только что сумрак на землю упал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По корням упругим топор застучал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И пали без жизни питомцы столетий!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Одежду их сорвали малые дети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Изрублены были тела их потом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И медленно жгли их до утра огнё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9603" t="10153" r="15440" b="32697"/>
          <a:stretch/>
        </p:blipFill>
        <p:spPr>
          <a:xfrm>
            <a:off x="4500720" y="0"/>
            <a:ext cx="558000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700360" y="1979640"/>
            <a:ext cx="71992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Когда же на запад умчался туман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Урочный свой путь совершал караван;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И следом печальным на почве бесплодной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Виднелся лишь пепел седой и холодный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И солнце остатки сухие дожгло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А ветром их в степи потом разнесло. 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И ныне все дико и пусто кругом -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Не шепчутся листья с гремучим ключом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Напрасно пророка о тени он просит -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Его лишь песок раскаленный заносит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Да коршун хохлатый, степной нелюдим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Добычу терзает и щиплет над н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Впервые опубликовано 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ourier New"/>
              </a:rPr>
              <a:t>«Отечественных записках»,      1839 г., №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29721" t="49998" r="18916" b="16658"/>
          <a:stretch/>
        </p:blipFill>
        <p:spPr>
          <a:xfrm>
            <a:off x="0" y="5040360"/>
            <a:ext cx="34196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0360" y="1979640"/>
            <a:ext cx="91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хотвор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люстрировал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 художников, в том числе А.Константиновский, П.Бунин, Д.И.Митрохин,  А.А.Оя, В.Я.Суреньянц,   И.Е.Репин, М.Я.Чемберс-Билибина,   А.Г.Якимченко, В.М.Конашевич, В.Д.Поленов, М.А.Зичи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или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.А.Маныкин-Невструе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М.Иванов-Корсунск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А.Спендиарову принадлежи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фоническая карт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ри пальм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узыку Спендиарова М.М.Фокин постави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л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емь дочерей горного короля» (1913), в основ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ого положена идея стихотворения М.Лермонт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9080" y="2519280"/>
            <a:ext cx="907092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юж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(от франц. sujet - предмет) - событие или совокупность событий в эпических и драматических произведениях, развитие которых позволяет писателю раскрыть характеры героев и суть изображаемых явлений в соответствии с авторским замыслом. В основе сюжета лежит конфлик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южете обычно выделяют такие структурные элементы, как завязка, развитие действия, кульминация и развя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0360" y="179280"/>
            <a:ext cx="951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Анализ художественно-изобразительных средств стихотворения.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Сюж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1604880"/>
            <a:ext cx="9360000" cy="56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баллада – лир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пическо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ед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ей есть сюж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ючевые моменты сюж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) Жизнь пальм в пустын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) Обращение горды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льм к Бог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) Появление карава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) Пальмы встречаю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ст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) Гибель паль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) Запуст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179280"/>
            <a:ext cx="774072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Анализ художественно-изобразительных средств стихотворения.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940360" y="2700360"/>
            <a:ext cx="414036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-1150920"/>
            <a:ext cx="9070920" cy="88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575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Какая образность! ― так все и видишь перед собою, а увидев раз, никогда уж не забудешь! Дивная картина ― так и блестит всею яркостию восточных красок! Какая живописность, музыкальность, сила и крепость в каждом стихе, отдельно взятом!».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Aft>
                <a:spcPts val="575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ссарио́н Григо́рьевич Бели́нски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11-1848),  русский писатель, литературный крити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блицист, философ-запад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60360" y="1260360"/>
            <a:ext cx="251928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057400"/>
            <a:ext cx="907092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just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рофа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это объединение двух или нескольких строк стихотворения,  имеющих интонационное сходство или общую систему рифм, и регулярно или периодически повторяющееся в стихотворении. Большинство стихотворений делятся на строфы и  т.о. являют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рофически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Если разделения на строфы нет, такие стихи принято называт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строфически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. Самая популярная строфа в русской поэзии 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четверостиш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тре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4 строки). Широко употребимыми строфами также являются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вустиш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ст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ёхстиш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рце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пятистиш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шестистишие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екстин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сьмистиш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кта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9520" y="179280"/>
            <a:ext cx="95184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Анализ художественно-изобразительных средств стихотворения.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Строф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0:56:41Z</dcterms:created>
  <dc:creator>Татьяна Яковлева</dc:creator>
  <dc:description/>
  <dc:language>en-US</dc:language>
  <cp:lastModifiedBy>Татьяна Яковлева</cp:lastModifiedBy>
  <cp:lastPrinted>2011-12-16T13:53:13Z</cp:lastPrinted>
  <dcterms:modified xsi:type="dcterms:W3CDTF">2011-12-16T17:00:14Z</dcterms:modified>
  <cp:revision>187</cp:revision>
  <dc:subject/>
  <dc:title/>
</cp:coreProperties>
</file>