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gif" ContentType="image/gif"/>
  <Override PartName="/ppt/media/image12.jpeg" ContentType="image/jpeg"/>
  <Override PartName="/ppt/media/image7.png" ContentType="image/png"/>
  <Override PartName="/ppt/media/image8.gif" ContentType="image/gif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EC0-BBFB-4C1C-9D93-5F6989AA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A8F-3585-4AB8-9754-BB3C4D8A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701-B097-4833-8D4D-2F0B063D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C438-405A-43C7-8FBA-A9E55DDF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88C9-14A4-41B8-9EA9-2C22D8ED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C120-7439-49AB-86C4-2867220A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DFB0-1E5C-4D12-97A6-E2615904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46A3-B5D5-4DD5-80FC-96F93397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410D-FAB0-4BBE-9E6E-B1997375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9B3E-A49E-4D3B-960B-B631F1B2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074E-C298-4BCE-AC9B-09F35D41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1BC-17BC-4DC2-83E2-57DB71D6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2942-23BC-41EE-98BB-7D09BA18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0842-C15D-4ECC-834E-19FED426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1E09-1BBA-4695-9E51-59062CAD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1AA7-A050-4145-9DEB-5495F495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4EE7-99FC-4D4D-A269-8B86FC29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BA4-EEBD-4EFB-94C0-98C2E1C8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34E-10A0-451A-8BAF-63515E06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2A2-F2B9-4240-A65B-8287671E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94F-9776-4D5A-AF57-0368A982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704-8F9F-46AC-BEBF-01B4DC53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FD8-F3E8-4AA1-85CF-E1A9A1E4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CB3-E0A4-4FE8-9971-CFD5D2E0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1E9D-253F-42F8-A23B-ABAEFE814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F197-225F-444A-A1F2-23D42577F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79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Трудности адаптации первоклассников в школ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09680" y="3581280"/>
            <a:ext cx="4515120" cy="1524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81bd"/>
                </a:solidFill>
                <a:latin typeface="Calibri"/>
              </a:rPr>
              <a:t>Презентацию подготов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81bd"/>
                </a:solidFill>
                <a:latin typeface="Calibri"/>
              </a:rPr>
              <a:t>педагог-психолог гимназ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81bd"/>
                </a:solidFill>
                <a:latin typeface="Calibri"/>
              </a:rPr>
              <a:t>Шумилова Т.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038480" y="152280"/>
            <a:ext cx="104616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4724280" cy="55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аптация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– это процесс привыкания к новым школьным услови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Объект 2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724280" y="1981080"/>
            <a:ext cx="4094280" cy="297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Georgia"/>
              </a:rPr>
              <a:t>Условия адаптаци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4040280" cy="380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Физиолог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447560"/>
            <a:ext cx="4039920" cy="3951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i="1" lang="ru-RU" sz="1600" spc="-1" strike="noStrike">
                <a:solidFill>
                  <a:srgbClr val="3333cc"/>
                </a:solidFill>
                <a:latin typeface="Georgia"/>
              </a:rPr>
              <a:t>изменение режима дн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Georgia"/>
              </a:rPr>
              <a:t>необходимость игры ;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Georgia"/>
              </a:rPr>
              <a:t>правильная посадка ;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Georgia"/>
              </a:rPr>
              <a:t>организация правильного питания;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i="1" lang="ru-RU" sz="1600" spc="-1" strike="noStrike">
                <a:solidFill>
                  <a:srgbClr val="3333cc"/>
                </a:solidFill>
                <a:latin typeface="Georgia"/>
              </a:rPr>
              <a:t>развитие двигательной активности ;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Georgia"/>
              </a:rPr>
              <a:t>воспитание самостоятельности и     ответствен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762120"/>
            <a:ext cx="4041720" cy="380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b">
            <a:normAutofit fontScale="44000"/>
          </a:bodyPr>
          <a:p>
            <a:pPr marL="150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5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Психолог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495320" y="1143000"/>
            <a:ext cx="4041720" cy="425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333cc"/>
                </a:solidFill>
                <a:latin typeface="Georgia"/>
              </a:rPr>
              <a:t>психологический климат в семье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333cc"/>
                </a:solidFill>
                <a:latin typeface="Georgia"/>
              </a:rPr>
              <a:t>самооценка ребёнк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333cc"/>
                </a:solidFill>
                <a:latin typeface="Georgia"/>
              </a:rPr>
              <a:t>самоценность ребёнка для родителей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333cc"/>
                </a:solidFill>
                <a:latin typeface="Georgia"/>
              </a:rPr>
              <a:t>формирование интереса к школе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333cc"/>
                </a:solidFill>
                <a:latin typeface="Georgia"/>
              </a:rPr>
              <a:t>дружеское общение с одноклассникам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333cc"/>
                </a:solidFill>
                <a:latin typeface="Georgia"/>
              </a:rPr>
              <a:t>недопустимость физического воздействи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333cc"/>
                </a:solidFill>
                <a:latin typeface="Georgia"/>
              </a:rPr>
              <a:t>предоставление самостоятельност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333cc"/>
                </a:solidFill>
                <a:latin typeface="Georgia"/>
              </a:rPr>
              <a:t>учёт темперамента ребёнк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333cc"/>
                </a:solidFill>
                <a:latin typeface="Georgia"/>
              </a:rPr>
              <a:t>организация контроля за учёбой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333cc"/>
                </a:solidFill>
                <a:latin typeface="Georgia"/>
              </a:rPr>
              <a:t>поощрение за успехи и достижени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333cc"/>
                </a:solidFill>
                <a:latin typeface="Georgia"/>
              </a:rPr>
              <a:t>моральное стимулирование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333cc"/>
                </a:solidFill>
                <a:latin typeface="Georgia"/>
              </a:rPr>
              <a:t>развитие самоконтроля и самооценк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12319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знаки успешной адаптации первокласс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равится в шко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хотно рассказывает о своих успехах и неудач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ктив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Жизнерадост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Любопыт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едко боле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Хорошо сп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статочно самостоятел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7448400" y="914400"/>
            <a:ext cx="1251000" cy="2651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G:\школа.jpg"/>
          <p:cNvPicPr/>
          <p:nvPr/>
        </p:nvPicPr>
        <p:blipFill>
          <a:blip r:embed="rId2"/>
          <a:stretch/>
        </p:blipFill>
        <p:spPr>
          <a:xfrm>
            <a:off x="5241960" y="2859120"/>
            <a:ext cx="3139920" cy="5394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Школьная дезадаптация первокласс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ниженное настро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ассив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адекватное беспокой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ревоги, страх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изкая успеваем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раки со сверстник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онфликты с учител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астые просту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лохой с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AG00317_"/>
          <p:cNvPicPr/>
          <p:nvPr/>
        </p:nvPicPr>
        <p:blipFill>
          <a:blip r:embed="rId1"/>
          <a:stretch/>
        </p:blipFill>
        <p:spPr>
          <a:xfrm>
            <a:off x="6400800" y="3289320"/>
            <a:ext cx="2306520" cy="2959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G:\агрс.JPG"/>
          <p:cNvPicPr/>
          <p:nvPr/>
        </p:nvPicPr>
        <p:blipFill>
          <a:blip r:embed="rId2"/>
          <a:stretch/>
        </p:blipFill>
        <p:spPr>
          <a:xfrm>
            <a:off x="6004080" y="1676520"/>
            <a:ext cx="2798640" cy="38336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610840" cy="54104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Правила, которые помогут ребёнку в общен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 отнимай чужого, но и своё не отдава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просили - дай, пытаются отнять - защищай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 дерись без прич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овут играть – иди, не зовут – спроси разрешения играть вместе, это не стыд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грай честно, не подводи своих товарищ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 дразни никого, не канючь, не выпрашивай ниче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з-за отметок не плачь, будь гордым. С учителем из-за отметок не спорь и не обижай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тарайся всё делать вовремя и думай о хороших результатах. Они обязательно у тебя буду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 ябедничай и не наговаривай ни на ко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тарайся быть аккурат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чаще говори: давай дружить, давай игр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j0336916"/>
          <p:cNvPicPr/>
          <p:nvPr/>
        </p:nvPicPr>
        <p:blipFill>
          <a:blip r:embed="rId1"/>
          <a:stretch/>
        </p:blipFill>
        <p:spPr>
          <a:xfrm flipH="1">
            <a:off x="8135640" y="0"/>
            <a:ext cx="8888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32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96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944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408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712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852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948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104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90400" y="380880"/>
            <a:ext cx="6094440" cy="40356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ислушаемся к советам своих дете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Georgia"/>
              </a:rPr>
              <a:t>Должно быть можно верить и «Чем проповедь выслушивать, мне лучше бы взглянуть.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Georgia"/>
              </a:rPr>
              <a:t>И лучше проводить меня, чем указать мне путь.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Georgia"/>
              </a:rPr>
              <a:t>  </a:t>
            </a:r>
            <a:r>
              <a:rPr b="0" i="1" lang="ru-RU" sz="1600" spc="-1" strike="noStrike">
                <a:solidFill>
                  <a:srgbClr val="3333cc"/>
                </a:solidFill>
                <a:latin typeface="Georgia"/>
              </a:rPr>
              <a:t>Глаза умнее слуха — поймут все без труда.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Georgia"/>
              </a:rPr>
              <a:t>Слова порой запутаны, пример же — никогда.                              Тот лучший проповедник, кто веру в жизнь провел.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Georgia"/>
              </a:rPr>
              <a:t>  </a:t>
            </a:r>
            <a:r>
              <a:rPr b="0" i="1" lang="ru-RU" sz="1600" spc="-1" strike="noStrike">
                <a:solidFill>
                  <a:srgbClr val="3333cc"/>
                </a:solidFill>
                <a:latin typeface="Georgia"/>
              </a:rPr>
              <a:t>Добро увидеть в действии — вот лучшая из словесам.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0" i="1" lang="ru-RU" sz="1600" spc="-1" strike="noStrike">
                <a:solidFill>
                  <a:srgbClr val="3333cc"/>
                </a:solidFill>
                <a:latin typeface="Georgia"/>
              </a:rPr>
              <a:t>Но я уж лучше погляжу, что делаешь школ.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Georgia"/>
              </a:rPr>
              <a:t>И если все мне рассказать, я выучу урок.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Georgia"/>
              </a:rPr>
              <a:t>                             </a:t>
            </a:r>
            <a:r>
              <a:rPr b="0" i="1" lang="ru-RU" sz="1600" spc="-1" strike="noStrike">
                <a:solidFill>
                  <a:srgbClr val="3333cc"/>
                </a:solidFill>
                <a:latin typeface="Georgia"/>
              </a:rPr>
              <a:t>Но мне ясней движенье рук, чем быстрых слов поток.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Georgia"/>
              </a:rPr>
              <a:t>Умным ты сам.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Georgia"/>
              </a:rPr>
              <a:t>      </a:t>
            </a:r>
            <a:r>
              <a:rPr b="0" i="1" lang="ru-RU" sz="1600" spc="-1" strike="noStrike">
                <a:solidFill>
                  <a:srgbClr val="3333cc"/>
                </a:solidFill>
                <a:latin typeface="Georgia"/>
              </a:rPr>
              <a:t>Вдруг я неправильно пойму прекрасный твой совет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Georgia"/>
              </a:rPr>
              <a:t>   </a:t>
            </a:r>
            <a:r>
              <a:rPr b="0" i="1" lang="ru-RU" sz="1600" spc="-1" strike="noStrike">
                <a:solidFill>
                  <a:srgbClr val="3333cc"/>
                </a:solidFill>
                <a:latin typeface="Georgia"/>
              </a:rPr>
              <a:t>Зато пойму как ты живешь: по правде или нет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12"/>
          <p:cNvPicPr/>
          <p:nvPr/>
        </p:nvPicPr>
        <p:blipFill>
          <a:blip r:embed="rId1"/>
          <a:stretch/>
        </p:blipFill>
        <p:spPr>
          <a:xfrm>
            <a:off x="5029200" y="4648320"/>
            <a:ext cx="1442880" cy="1623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" descr="D:\Рабочий стол\Конкурс сайтов\Фото на заголовки\school2518.jpg"/>
          <p:cNvPicPr/>
          <p:nvPr/>
        </p:nvPicPr>
        <p:blipFill>
          <a:blip r:embed="rId2"/>
          <a:stretch/>
        </p:blipFill>
        <p:spPr>
          <a:xfrm>
            <a:off x="228600" y="457200"/>
            <a:ext cx="1095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0" y="228600"/>
            <a:ext cx="3144960" cy="2451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57120"/>
            <a:ext cx="7790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08" name="Подзаголовок 2" descr=""/>
          <p:cNvPicPr/>
          <p:nvPr/>
        </p:nvPicPr>
        <p:blipFill>
          <a:blip r:embed="rId2">
            <a:alphaModFix amt="65000"/>
          </a:blip>
          <a:stretch/>
        </p:blipFill>
        <p:spPr>
          <a:xfrm>
            <a:off x="1371600" y="1536840"/>
            <a:ext cx="66326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имназия 3</dc:creator>
  <dc:description/>
  <dc:language>en-US</dc:language>
  <cp:lastModifiedBy>Гимназия 3</cp:lastModifiedBy>
  <dcterms:modified xsi:type="dcterms:W3CDTF">2011-12-13T13:28:5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