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8229-C644-40E5-9E1E-DBAC8B86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C11D-1439-4D3E-AE72-A31AFEDE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488F-840E-44E2-8234-49856381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AB32-D18F-402A-9712-B67B8BA1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FA16-F06C-40A3-AD2D-D23A24C5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06E4-80F1-4396-8818-0E626D0E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766E-F693-45B7-9E71-759430F3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FF33-8FBB-4FBD-9395-A38F3D46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DBDD-5678-48C6-8D5C-4D6AB928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4295-E374-47B4-88A3-350478E5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F182-A09B-493F-96FB-96C01C39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5BE5-8200-4892-9E70-65236B05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4B28-0CB7-4A85-A01A-8B3FB7C7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66FE-4204-4017-B477-16F810AF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8163-6847-4538-AC79-3BF40B1E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ECAE-2132-4D7B-8F20-812C8168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B49E-8017-4F99-9BB9-C6823569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5E85D-C086-4A84-80A1-F93E1DAA7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7EC41-A73E-4777-AB9F-02B28205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EBC2C-95B8-4718-8469-724DFE71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C9DE6-7BF7-4A20-957A-59D8D262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7DCF6-4666-4DC2-91AE-2D6CF38D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9D68-F880-42AD-A2A9-CECBD240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2A888-B670-47C5-8493-8E511AE5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5E4D1-CFBB-43A5-A306-6FD23908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4AA2C-47F0-4D91-B237-A90CDFF6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A5B92-1940-4868-939C-8357BE7B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58410-4F51-4C42-BBC9-AE564013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D6193-F752-40D2-9828-554020E8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7EDEC-2FAB-4812-9C00-6A8ED754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4A34-5D46-4106-BF9E-B987BACB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EDF-D48B-4309-A93D-5B8B3E97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8842-4398-4057-8126-78EA4739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788-2EAE-4D29-B906-382FA422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C3DA-8CB0-47B6-8107-CA78F247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07E-ECB4-4E26-ABC4-75A65C47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A001-3C3F-4E04-9D01-88237B79FA0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5852-30D9-4910-8F0A-AA89B124E98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0668-AFDE-48C2-BAC1-B08DB8140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1510920"/>
            <a:ext cx="708804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Урок русского языка и развития речи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916000" y="5877000"/>
            <a:ext cx="6032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упавская Г.Ф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95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03280" y="2205000"/>
            <a:ext cx="6400800" cy="2952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b200"/>
                </a:solidFill>
                <a:latin typeface="Comic Sans MS"/>
              </a:rPr>
              <a:t>Моя Родина</a:t>
            </a:r>
            <a:endParaRPr b="0" lang="en-US" sz="10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07280" cy="1579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Чистописание</a:t>
            </a:r>
            <a:endParaRPr b="0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268000" y="259920"/>
            <a:ext cx="5472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гор...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пло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…с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…аст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в…зд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…уг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дос…ны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ллекти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…ба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5221440" y="1461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46600" y="83664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5080" y="1484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49520" y="2133720"/>
            <a:ext cx="47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18880" y="281160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04720" y="3500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49800" y="414972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80120" y="4827600"/>
            <a:ext cx="47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10080" y="54752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85800" y="2374920"/>
            <a:ext cx="769608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ff0000"/>
                </a:solidFill>
                <a:latin typeface="Comic Sans MS"/>
              </a:rPr>
              <a:t>Отечество</a:t>
            </a:r>
            <a:endParaRPr b="0" lang="en-US" sz="1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omic Sans MS"/>
              </a:rPr>
              <a:t>Родина</a:t>
            </a:r>
            <a:endParaRPr b="0" lang="en-US" sz="11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0" spc="-1" strike="noStrike">
                <a:solidFill>
                  <a:srgbClr val="000000"/>
                </a:solidFill>
                <a:latin typeface="Comic Sans MS"/>
              </a:rPr>
              <a:t>Отчизна</a:t>
            </a:r>
            <a:endParaRPr b="0" lang="en-US" sz="1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Словарная</a:t>
            </a:r>
            <a:endParaRPr b="0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851040"/>
            <a:ext cx="914400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Тематическая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85800" y="1298520"/>
            <a:ext cx="7696080" cy="47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Р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один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Р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сс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Мо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скв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К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расная пло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ща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д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К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ремл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2982600" y="262080"/>
            <a:ext cx="346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Провер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5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65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85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280" y="1510920"/>
            <a:ext cx="799308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Стихосложение</a:t>
            </a:r>
            <a:endParaRPr b="0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908000" y="73080"/>
            <a:ext cx="4373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8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Составьте стихотворение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6960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её, родней, нет, страны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солнце, Россией, над, светит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в, свете, целом, в, свете, целом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дожди, и, над, ней, шумят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920"/>
                            </p:stCondLst>
                            <p:childTnLst>
                              <p:par>
                                <p:cTn id="4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920"/>
                            </p:stCondLst>
                            <p:childTnLst>
                              <p:par>
                                <p:cTn id="4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78920" y="1828800"/>
            <a:ext cx="871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Над Россией солнце светит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И дожди шумят над ней.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В целом свете, в целом свете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Нет страны её родней!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1510920"/>
            <a:ext cx="806472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Сочинительная</a:t>
            </a:r>
            <a:endParaRPr b="0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оставьте рассказ о Родин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6960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4500" spc="-1" strike="noStrike">
                <a:solidFill>
                  <a:srgbClr val="000000"/>
                </a:solidFill>
                <a:latin typeface="Comic Sans MS"/>
              </a:rPr>
              <a:t>Родина, Россия, Москва, Дегтярка, улица, река, церковь, страна, строить, охранять, люблю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960"/>
                            </p:stCondLst>
                            <p:childTnLst>
                              <p:par>
                                <p:cTn id="5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4000" y="1989000"/>
            <a:ext cx="8640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тгадайте кроссвор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855000"/>
                <a:gridCol w="855000"/>
                <a:gridCol w="855360"/>
                <a:gridCol w="855000"/>
                <a:gridCol w="855000"/>
                <a:gridCol w="855360"/>
                <a:gridCol w="855000"/>
                <a:gridCol w="855000"/>
                <a:gridCol w="85536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078520" y="1866960"/>
            <a:ext cx="5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42160" y="186696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98520" y="1866960"/>
            <a:ext cx="67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97800" y="278136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70160" y="3645000"/>
            <a:ext cx="67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9080" y="458136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69080" y="364500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69800" y="2781360"/>
            <a:ext cx="67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05440" y="278136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41440" y="2781360"/>
            <a:ext cx="66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9800" y="2781360"/>
            <a:ext cx="5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50880" y="4581360"/>
            <a:ext cx="67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14160" y="4581360"/>
            <a:ext cx="67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49440" y="458136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13080" y="4602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28640" y="458136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2520" y="4581360"/>
            <a:ext cx="66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05800" y="186696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8880" y="2781360"/>
            <a:ext cx="6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05440" y="364500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35240" y="4602240"/>
            <a:ext cx="67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6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3430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omic Sans MS"/>
              </a:rPr>
              <a:t>Русь</a:t>
            </a:r>
            <a:endParaRPr b="0" lang="en-US" sz="20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Если крикнет рать свят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«Кинь ты Русь, живи в раю!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Я скажу: «Не надо рая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Дайте Родину мою!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С.Есенин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8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80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6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24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113080" cy="3835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796000" y="260280"/>
            <a:ext cx="2611440" cy="36403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140360" y="3430440"/>
            <a:ext cx="4824360" cy="32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ctr"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omic Sans MS"/>
              </a:rPr>
              <a:t>Русь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 algn="ctr"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omic Sans MS"/>
              </a:rPr>
              <a:t>ГЕРБ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 algn="ctr"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omic Sans MS"/>
              </a:rPr>
              <a:t>ФЛАГ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 algn="ctr"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omic Sans MS"/>
              </a:rPr>
              <a:t>ГИМН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2637000"/>
            <a:ext cx="842472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Конституция – </a:t>
            </a:r>
            <a:r>
              <a:rPr b="0" lang="en-US" sz="8000" spc="-1" strike="noStrike">
                <a:solidFill>
                  <a:srgbClr val="703dff"/>
                </a:solidFill>
                <a:latin typeface="Comic Sans MS"/>
              </a:rPr>
              <a:t>основной закон</a:t>
            </a:r>
            <a:endParaRPr b="0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0:16:12Z</dcterms:created>
  <dc:creator>Администратор</dc:creator>
  <dc:description/>
  <dc:language>en-US</dc:language>
  <cp:lastModifiedBy>www.PHILka.RU</cp:lastModifiedBy>
  <dcterms:modified xsi:type="dcterms:W3CDTF">2007-12-13T09:18:38Z</dcterms:modified>
  <cp:revision>24</cp:revision>
  <dc:subject/>
  <dc:title>Урок русского языка и развития речи</dc:title>
</cp:coreProperties>
</file>