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81F-7BDB-47AD-92A8-B5F7A5DE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60C-FE0A-4583-8736-879D0704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D28-B784-454C-BAFE-A9BBCE0C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6FD-F4EA-4833-B2F2-7DA8AAB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BD13-6B5B-4C4F-9FF4-20738E71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B9E-55A8-48FC-AA09-54A6D2B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4AB-1DB1-46C2-B489-D6D7F2D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375E-B942-42AF-954B-01D810D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ABB-7DB9-4B3F-9A31-B8880D62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388-B28C-4E14-8F9D-4A659106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5B4F-2AA1-4235-BC86-0F9084B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57E-7383-4C3B-A446-3FCB649C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16EE-95BD-41BF-8538-2E02CE1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20C3-A442-4D32-9F20-D96FE4D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1355-D713-4DE5-BC46-77AEAF11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3A0-93C4-4BD1-9FA3-546FBE8D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E552-4F15-4A57-BCB6-ADC281EB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A16E-3546-419D-B49A-8FFB4CA4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BF01-C934-4006-97B4-01CD285F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D03F-D48C-41C5-9C75-8E8B1BF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62B1-AE19-4CD1-A076-C0D3F35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E3A6-5AFD-4798-8A8E-B7E1FF3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BDD-B4A0-485B-AEDF-1BA42DF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D3DE-0E85-4C7B-BCA2-A45D68A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2664-E873-40DE-B02A-2116600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B8E7-821F-49B4-9022-8B391EC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D013-C49C-46B6-A0AF-B40681F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B05E-09D9-4E7A-9729-9E0296D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F096-638D-4C4D-9D52-BF9E0656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591C-5D24-44FA-AC21-95B3109A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1C0-1094-473D-8ACE-10B0E994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389-6A76-4EC5-B925-E326D08B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7F9-590B-4539-B316-A397FC5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3D3-25FD-4ED0-B6EF-51524B3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8C2-140B-4B3A-8B6D-B33D313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CC4-AF7F-4BAC-B195-15E91793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1D3-B150-4525-BB38-056212AFB8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B734-FC16-44FE-AEEB-AF1A2E0EF6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E0D-FF95-4152-9C24-F12BFE7F1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708804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Урок русского языка и развития речи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16000" y="5877000"/>
            <a:ext cx="6032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павская Г.Ф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3280" y="2205000"/>
            <a:ext cx="6400800" cy="29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b200"/>
                </a:solidFill>
                <a:latin typeface="Comic Sans MS"/>
              </a:rPr>
              <a:t>Моя Родина</a:t>
            </a:r>
            <a:endParaRPr b="0" lang="en-US" sz="10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07280" cy="157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Чистописание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68000" y="259920"/>
            <a:ext cx="547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ор...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ло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…с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…аст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в…з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…уг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дос…ны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лекти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…ба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221440" y="146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46600" y="8366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5080" y="148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9520" y="213372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8880" y="2811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4720" y="350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41497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80120" y="4827600"/>
            <a:ext cx="4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10080" y="547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2374920"/>
            <a:ext cx="76960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0000"/>
                </a:solidFill>
                <a:latin typeface="Comic Sans MS"/>
              </a:rPr>
              <a:t>Отечество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Родина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Отчизна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ловарная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Тематическая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298520"/>
            <a:ext cx="7696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оди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сс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Мо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ск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расная пло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ща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ремл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2982600" y="262080"/>
            <a:ext cx="346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1510920"/>
            <a:ext cx="79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тихосложение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908000" y="73080"/>
            <a:ext cx="4373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оставьте стихотвор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её, родней, нет, страны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солнце, Россией, над, свети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в, свете, целом, в, свете, целом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дожди, и, над, ней, шумя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2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920"/>
                            </p:stCondLst>
                            <p:childTnLst>
                              <p:par>
                                <p:cTn id="4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8920" y="182880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Над Россией солнце светит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И дожди шумят над ней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В целом свете, в целом свете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Нет страны её родней!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1510920"/>
            <a:ext cx="8064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очинительная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ставьте рассказ о Роди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Родина, Россия, Москва, Дегтярка, улица, река, церковь, страна, строить, охранять, люблю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6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1989000"/>
            <a:ext cx="864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гадайте кроссвор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855000"/>
                <a:gridCol w="855000"/>
                <a:gridCol w="855360"/>
                <a:gridCol w="855000"/>
                <a:gridCol w="855000"/>
                <a:gridCol w="855360"/>
                <a:gridCol w="855000"/>
                <a:gridCol w="855000"/>
                <a:gridCol w="85536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078520" y="1866960"/>
            <a:ext cx="5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2160" y="1866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8520" y="18669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27813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70160" y="364500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9080" y="45813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9080" y="36450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9800" y="27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5440" y="278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1440" y="278136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9800" y="2781360"/>
            <a:ext cx="5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50880" y="45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4160" y="45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9440" y="458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4602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28640" y="45813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2520" y="458136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05800" y="1866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8880" y="2781360"/>
            <a:ext cx="6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5440" y="3645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5240" y="460224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6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34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omic Sans MS"/>
              </a:rPr>
              <a:t>Русь</a:t>
            </a:r>
            <a:endParaRPr b="0" lang="en-US" sz="20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сли крикнет рать свят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Кинь ты Русь, живи в раю!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скажу: «Не надо рая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айте Родину мою!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.Есен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8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6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24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2611440" cy="3640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140360" y="3430440"/>
            <a:ext cx="482436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Русь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ЕРБ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ФЛАГ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ИМН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42472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Конституция – </a:t>
            </a:r>
            <a:r>
              <a:rPr b="0" lang="en-US" sz="8000" spc="-1" strike="noStrike">
                <a:solidFill>
                  <a:srgbClr val="703dff"/>
                </a:solidFill>
                <a:latin typeface="Comic Sans MS"/>
              </a:rPr>
              <a:t>основной закон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0:16:12Z</dcterms:created>
  <dc:creator>Администратор</dc:creator>
  <dc:description/>
  <dc:language>en-US</dc:language>
  <cp:lastModifiedBy>www.PHILka.RU</cp:lastModifiedBy>
  <dcterms:modified xsi:type="dcterms:W3CDTF">2007-12-13T09:18:38Z</dcterms:modified>
  <cp:revision>24</cp:revision>
  <dc:subject/>
  <dc:title>Урок русского языка и развития речи</dc:title>
</cp:coreProperties>
</file>