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935-666B-42A6-BB71-BA4988C6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131-E8D3-4A5A-8887-5D4B7E5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C92-1A90-4072-9038-57FDF2F9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CFD-CF23-4EC2-9594-4C1944A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D2E-E115-4584-986B-98DCCAF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E82-6436-4BC8-8078-996FEDF5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BD8-FCE5-4B5F-BED8-438EAF7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1A8-4C1E-49A0-BA91-09DA6EBE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974-B0AC-4E46-8F9A-B0D5FB4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AF8-6ADF-493D-A1D4-371B0DA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C67-6CF5-44F7-8106-2B673CC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B37-AEF8-4884-9052-088336D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6F0-961A-46CA-B900-CE70A4F52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lf01.wav" TargetMode="External"/><Relationship Id="rId2" Type="http://schemas.microsoft.com/office/2007/relationships/media" Target="file:///tmp/home/.config/libreoffice/4/user/gallery/wolf01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wolfgav.wav" TargetMode="External"/><Relationship Id="rId5" Type="http://schemas.microsoft.com/office/2007/relationships/media" Target="file:///tmp/home/.config/libreoffice/4/user/gallery/wolfgav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0;&#1089;&#1099;.wav" TargetMode="External"/><Relationship Id="rId2" Type="http://schemas.microsoft.com/office/2007/relationships/media" Target="file:///tmp/home/.config/libreoffice/4/user/gallery/&#1083;&#1080;&#1089;&#1099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6;&#1089;&#1100;.wav" TargetMode="External"/><Relationship Id="rId2" Type="http://schemas.microsoft.com/office/2007/relationships/media" Target="file:///tmp/home/.config/libreoffice/4/user/gallery/&#1083;&#1086;&#1089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7;&#1085;&#1086;&#1090;.wav" TargetMode="External"/><Relationship Id="rId2" Type="http://schemas.microsoft.com/office/2007/relationships/media" Target="file:///tmp/home/.config/libreoffice/4/user/gallery/&#1077;&#1085;&#1086;&#109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forest.wav" TargetMode="External"/><Relationship Id="rId3" Type="http://schemas.microsoft.com/office/2007/relationships/media" Target="file:///tmp/home/.config/libreoffice/4/user/gallery/fore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kuku.wav" TargetMode="External"/><Relationship Id="rId2" Type="http://schemas.microsoft.com/office/2007/relationships/media" Target="file:///tmp/home/.config/libreoffice/4/user/gallery/kuku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6;&#1103;&#1090;&#1077;&#1083;.wav" TargetMode="External"/><Relationship Id="rId2" Type="http://schemas.microsoft.com/office/2007/relationships/media" Target="file:///tmp/home/.config/libreoffice/4/user/gallery/&#1076;&#1103;&#1090;&#1077;&#1083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inica.wav" TargetMode="External"/><Relationship Id="rId2" Type="http://schemas.microsoft.com/office/2007/relationships/media" Target="file:///tmp/home/.config/libreoffice/4/user/gallery/sinic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ow2.wav" TargetMode="External"/><Relationship Id="rId2" Type="http://schemas.microsoft.com/office/2007/relationships/media" Target="file:///tmp/home/.config/libreoffice/4/user/gallery/crow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9;&#1086;&#1083;&#1086;&#1074;&#1077;&#1081;2.wav" TargetMode="External"/><Relationship Id="rId2" Type="http://schemas.microsoft.com/office/2007/relationships/media" Target="file:///tmp/home/.config/libreoffice/4/user/gallery/&#1089;&#1086;&#1083;&#1086;&#1074;&#1077;&#1081;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&#1078;&#1072;&#1074;&#1086;&#1088;&#1086;&#1085;&#1086;&#1082;.wav" TargetMode="External"/><Relationship Id="rId3" Type="http://schemas.microsoft.com/office/2007/relationships/media" Target="file:///tmp/home/.config/libreoffice/4/user/gallery/&#1078;&#1072;&#1074;&#1086;&#1088;&#1086;&#1085;&#1086;&#1082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&#1089;&#1082;&#1074;&#1086;&#1088;&#1077;&#1094;.wav" TargetMode="External"/><Relationship Id="rId3" Type="http://schemas.microsoft.com/office/2007/relationships/media" Target="file:///tmp/home/.config/libreoffice/4/user/gallery/&#1089;&#1082;&#1074;&#1086;&#1088;&#1077;&#1094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3640" y="205740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Лес и его гол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270px-CRW_2987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626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1360" y="54864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сная хищница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00" descr=""/>
          <p:cNvPicPr/>
          <p:nvPr/>
        </p:nvPicPr>
        <p:blipFill>
          <a:blip r:embed="rId4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волк" descr=""/>
          <p:cNvPicPr/>
          <p:nvPr/>
        </p:nvPicPr>
        <p:blipFill>
          <a:blip r:embed="rId7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ис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4" name="enot2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лень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64480" y="5867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еще в лесу живет красавец-ол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_6_b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61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елка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яц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13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9600" y="5943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истый зайч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osni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600" y="579132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 прогуляемся с тобой в лес. Узнаем, как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животные здесь живут и послушаем их голос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1920" y="5638680"/>
            <a:ext cx="73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-ка, прислушайся. Чей это гол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укует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008" descr=""/>
          <p:cNvPicPr/>
          <p:nvPr/>
        </p:nvPicPr>
        <p:blipFill>
          <a:blip r:embed="rId4"/>
          <a:stretch/>
        </p:blipFill>
        <p:spPr>
          <a:xfrm>
            <a:off x="990720" y="457200"/>
            <a:ext cx="7086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что за треск сто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 стучит с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достает из-под к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комых себе на об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itel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7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9200" y="59436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inica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7480" y="59436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голос этой птицы узн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ркает 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ворона%20copy" descr=""/>
          <p:cNvPicPr/>
          <p:nvPr/>
        </p:nvPicPr>
        <p:blipFill>
          <a:blip r:embed="rId4"/>
          <a:stretch/>
        </p:blipFill>
        <p:spPr>
          <a:xfrm>
            <a:off x="838080" y="380880"/>
            <a:ext cx="74678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9400" y="5334120"/>
            <a:ext cx="28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поет-за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овей, сереньк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иметная пти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ightingale1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alerida_cristata_grested_lark_KJ7T5690_out_j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040" y="6019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щебечет жавор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Безымянный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11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63868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еще один знаменитый птичий певец – ск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ушай, какие трели он выв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dmitry</cp:lastModifiedBy>
  <dcterms:modified xsi:type="dcterms:W3CDTF">2006-04-03T08:02:32Z</dcterms:modified>
  <cp:revision>1</cp:revision>
  <dc:subject/>
  <dc:title>Лес и его голоса</dc:title>
</cp:coreProperties>
</file>