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CB1-5EDF-4CCB-BD1F-7E75B7C9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012-3439-44C4-A8CA-F1B77A7D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682-C861-4F63-8C40-50A687DA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9F7-37F4-4B66-A91A-41A96805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244A-C05E-4920-901E-BB81DFDC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9507-3517-4A08-9591-D88B1832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0733-FC23-4DEF-B843-8BCB915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6DA5-F9DB-40F5-ADFA-27A6DE24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BAF8-82AE-4908-B496-2D9E923B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D90A-A74F-47FB-9118-322F699E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D03A-E7D8-46DC-B0C0-984A560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71B-2ED6-4EDE-9E4B-AC3AE9E9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D101-BDD5-4E9F-868C-0E5DC5E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9846-BBC4-400F-B609-0A5B79E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D15A-D7EC-4D4A-9B4E-7E5AF77D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D8B2-3490-498E-A0D5-5F79405A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1648-812E-4DC1-BB58-72D209BA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AA3-249A-4D93-9117-95F04812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EEB-E8D0-4C05-8352-1908562D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AE5-0134-4EB8-9DB4-25E9A89C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EA4-C926-4E5F-B1CF-C220CED9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445-5211-499F-AFAD-9A5A6EB9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D56-E293-4A23-9D9D-B1FA798A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EE6-164A-415E-94D2-BE310C6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6084-A467-4969-8D5C-2A432A8AAD2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844E-9EE5-4E36-9F92-C9BA03EAF5A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i="1" lang="en-US" sz="4800" spc="-1" strike="noStrike">
                <a:solidFill>
                  <a:srgbClr val="996633"/>
                </a:solidFill>
                <a:latin typeface="Times New Roman"/>
              </a:rPr>
              <a:t>Тема урока:</a:t>
            </a:r>
            <a:br>
              <a:rPr sz="4800"/>
            </a:b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Познакомить учащихся с понятиями идеала и цен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Сформировать понятие конфликта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Воспитывать уважение к старшим, чувство долга и ч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95280" y="380880"/>
            <a:ext cx="7620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50000">
                      <a:srgbClr val="cc6600"/>
                    </a:gs>
                    <a:gs pos="100000">
                      <a:srgbClr val="99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« Ценности и идеалы»</a:t>
            </a:r>
            <a:endParaRPr b="1" i="1" lang="en-US" sz="2400" spc="1" strike="noStrike">
              <a:ln w="1908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50000">
                    <a:srgbClr val="cc6600"/>
                  </a:gs>
                  <a:gs pos="100000">
                    <a:srgbClr val="99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25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57400" y="304920"/>
            <a:ext cx="6781680" cy="9903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Выделите те положения, которые явля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ценными для вас в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2209680"/>
            <a:ext cx="2133720" cy="609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Хорошая учё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715000"/>
            <a:ext cx="1905120" cy="762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оним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495680"/>
            <a:ext cx="2362320" cy="838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осещ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театров и музе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2209680"/>
            <a:ext cx="2209680" cy="609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Верные друз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276720"/>
            <a:ext cx="1752480" cy="761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Ув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5562720"/>
            <a:ext cx="1676160" cy="761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3124080"/>
            <a:ext cx="1905120" cy="990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Хорош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тно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уч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057400"/>
            <a:ext cx="16765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Домаш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276720"/>
            <a:ext cx="2057400" cy="761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Спорти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успе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495680"/>
            <a:ext cx="2590560" cy="838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Карма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деньги на рас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5791320"/>
            <a:ext cx="160020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Мод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деж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71920" y="23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6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6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6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1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6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1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6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1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6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1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00200" y="228600"/>
            <a:ext cx="7315200" cy="11430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Выпишите, что вы никогда не сможете прост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человеку, с которым дружите или кого уважае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бъясните почему. Дополните спис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09680"/>
            <a:ext cx="2133720" cy="609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Хам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715000"/>
            <a:ext cx="1905120" cy="762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3124080"/>
            <a:ext cx="4343400" cy="609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Слабость  харак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209680"/>
            <a:ext cx="2209680" cy="609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Груб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5562720"/>
            <a:ext cx="1676520" cy="761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4114800"/>
            <a:ext cx="32767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ред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2057400"/>
            <a:ext cx="16765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Жад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4038480"/>
            <a:ext cx="2590920" cy="838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одл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5791320"/>
            <a:ext cx="160020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71920" y="23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900"/>
                            </p:stCondLst>
                            <p:childTnLst>
                              <p:par>
                                <p:cTn id="23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4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90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400"/>
                            </p:stCondLst>
                            <p:childTnLst>
                              <p:par>
                                <p:cTn id="26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2900"/>
                            </p:stCondLst>
                            <p:childTnLst>
                              <p:par>
                                <p:cTn id="2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400"/>
                            </p:stCondLst>
                            <p:childTnLst>
                              <p:par>
                                <p:cTn id="27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900"/>
                            </p:stCondLst>
                            <p:childTnLst>
                              <p:par>
                                <p:cTn id="2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4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4900"/>
                            </p:stCondLst>
                            <p:childTnLst>
                              <p:par>
                                <p:cTn id="2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3880" y="228600"/>
            <a:ext cx="7467840" cy="12193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Укажите, что вы себе никогда не позволяете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бщении с человеком, которого любите и кем дорож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бъясните почему. Добавьте свои вариа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2133720"/>
            <a:ext cx="289548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Нагруб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419720"/>
            <a:ext cx="3276360" cy="761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Говорить  неправ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5562720"/>
            <a:ext cx="1676520" cy="761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2133720"/>
            <a:ext cx="289548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бману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200400"/>
            <a:ext cx="2743200" cy="762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овысить  гол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715000"/>
            <a:ext cx="160020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71920" y="23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4419720"/>
            <a:ext cx="3200400" cy="761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Неопрятно  выгляде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5638680"/>
            <a:ext cx="1676520" cy="762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8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13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8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3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8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3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8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43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4800"/>
                            </p:stCondLst>
                            <p:childTnLst>
                              <p:par>
                                <p:cTn id="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3880" y="152280"/>
            <a:ext cx="7467840" cy="1524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Важнейшая ценность для любого человека – это жиз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но порой люди ею рискую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рочтите тексты и определите, во имя каких цен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люди рисковали жизн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4724280"/>
            <a:ext cx="3809880" cy="1905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Два друга-альпинис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в горах попали под обвал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камней. Один серьёз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пострадал, а второй спас его 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рискуя собственной жизнь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057400"/>
            <a:ext cx="3047760" cy="22860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Во время эпидем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тифа врач помог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больным, хотя знал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что эта болезн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2057400"/>
            <a:ext cx="3733560" cy="23623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В 1941 году на фрон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уходил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тысячи добровольцев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чтобы сражатьс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с фашистскими войскам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напавшими на нашу стран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4648320"/>
            <a:ext cx="2971800" cy="1904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Предложит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Ваш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ситуаци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71920" y="23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400"/>
                            </p:stCondLst>
                            <p:childTnLst>
                              <p:par>
                                <p:cTn id="36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968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«Золотое» правило нравственности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</a:rPr>
              <a:t>«Относись к людям так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i="1" lang="en-US" sz="4800" spc="-1" strike="noStrike">
                <a:solidFill>
                  <a:srgbClr val="800000"/>
                </a:solidFill>
                <a:latin typeface="Times New Roman"/>
              </a:rPr>
              <a:t>как ты хочешь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</a:rPr>
              <a:t>чтобы относилис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</a:rPr>
              <a:t>к тебе»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360" y="4581360"/>
            <a:ext cx="2158920" cy="2276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800"/>
                            </p:stCondLst>
                            <p:childTnLst>
                              <p:par>
                                <p:cTn id="38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3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900"/>
                            </p:stCondLst>
                            <p:childTnLst>
                              <p:par>
                                <p:cTn id="39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3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40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3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300"/>
                            </p:stCondLst>
                            <p:childTnLst>
                              <p:par>
                                <p:cTn id="40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3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996633"/>
                </a:solidFill>
                <a:latin typeface="Times New Roman"/>
              </a:rPr>
              <a:t>«Добрый человек не тот, кто умеет делать добро, а тот, кто не умеет делать зла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                          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В.О.Ключе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33720" y="457200"/>
            <a:ext cx="6095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754617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Мысли по теме</a:t>
            </a:r>
            <a:endParaRPr b="1" i="1" lang="en-US" sz="2400" spc="1" strike="noStrike">
              <a:ln w="1908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754617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267080"/>
            <a:ext cx="6400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«Злой человек вредит самому себе прежде, чем повредит другом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Times New Roman"/>
              </a:rPr>
              <a:t>                                       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Август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425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828800" y="22824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Сопоставьте термины и понят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1600200"/>
            <a:ext cx="220968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Мора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2. Право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3. Этикет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4. Э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2057400"/>
            <a:ext cx="464832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А) Учение о морали и                                                            нравств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Б)  Нормы, которые установило обще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В)  Нормы, которые установило государ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Г)  Правила поведения людей    в обще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5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75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175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75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7968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II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Сопоставьте термины и понятия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1. Грамотный чело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2. Просвещённый челове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3. Ученый чело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А)Проводит серьёзные исследования, расширяя представления о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Б) Разбирается в основах нау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В) Разбирается не только в основах наук, но в литературе и искус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7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III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Соотнесите области науки и науки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93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1. Естественные нау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2. Общественные нау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86692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А) Хим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Б) Б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В) Соц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Г) Демограф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Д) Физ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Е) Псих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Ответы к тесту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I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А-4,  Б-1,  В-2,  Г-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17760" y="3200400"/>
            <a:ext cx="762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II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А-3,   Б-1,   В-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7760" y="4267080"/>
            <a:ext cx="762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III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1 (А, Б, Д);     2 (В, Г, Е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Вопросы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по домашнему заданию: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3200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2.  Для многих выбросить мусор в неподобающем месте- невелика беда. Представьте, что вы съели конфету. Что вы сделаете с обёрткой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А)Незаметно выбросите куда-нибу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Б) Поищете мусорную корзи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В) Положите в карман, чтобы выбросить в ближайшую урну для мус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Г) Откровенно выкинете тут же на зем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90512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1.  Если человек нарушил нормы права, его наказывают, а если он совершил некрасивый поступок, в чем будет заключатся его наказание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</a:t>
            </a: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Что такое идеал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</a:rPr>
              <a:t>Идеал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 - образец, нечто совершенное,                                       высшая цель стрем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200400"/>
            <a:ext cx="706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996633"/>
                </a:solidFill>
                <a:uFillTx/>
                <a:latin typeface="Times New Roman"/>
              </a:rPr>
              <a:t>Идеалист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- бескорыстный человек, стремящийся к возвышенным цел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5257800"/>
            <a:ext cx="6649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996633"/>
                </a:solidFill>
                <a:uFillTx/>
                <a:latin typeface="Times New Roman"/>
              </a:rPr>
              <a:t>Материалист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- человек  стремящийся к материальной выгод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4191120"/>
            <a:ext cx="109285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996633"/>
                </a:solidFill>
                <a:uFillTx/>
                <a:latin typeface="Times New Roman"/>
              </a:rPr>
              <a:t>Идеализация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- представление кого-либо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чего-либо лучшим, чем есть в действи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200"/>
                            </p:stCondLst>
                            <p:childTnLst>
                              <p:par>
                                <p:cTn id="13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3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7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7968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А что такое ценности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Ценности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-это положительная значимость   чего-либо, не подвергающееся сомнени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Нравственные ценности служат идеалом для всех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Семь фундаментальных ценностей: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Истина, Добро, Польза, Господство,       Справедливость, Свобода, Крас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9:12:04Z</dcterms:created>
  <dc:creator>Студент</dc:creator>
  <dc:description/>
  <dc:language>en-US</dc:language>
  <cp:lastModifiedBy>User</cp:lastModifiedBy>
  <dcterms:modified xsi:type="dcterms:W3CDTF">2007-11-13T18:43:04Z</dcterms:modified>
  <cp:revision>12</cp:revision>
  <dc:subject/>
  <dc:title>             Тема урока: « Ценности и идеалы»</dc:title>
</cp:coreProperties>
</file>