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7591-5FDB-4806-BA7F-2CCADCFF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1571-8613-4543-BDF7-52BE440C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53134-741E-41EC-823F-33504517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A5CAC-DA21-4E27-B046-20C15912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84F6A-41AC-4D6B-A593-9E286F4F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1CD2F-3F77-401F-AD8E-82EEF53B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0EC16-8377-46EC-8A05-D5334BAA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E3D51-13D2-4B72-B695-20EB8A0B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B4124-79EB-4571-BE0C-E9FC97E8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DF8A8-F9CD-4E58-A125-D1748878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57E77-12A7-4223-ADC5-FB540720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FFEA2-5351-4CAC-9928-F101FD51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EF9C-C78D-45E5-9119-207D483B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1B0D2-B180-443F-8A36-838BF6AF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809E5-7E2D-4459-938F-2FB623BC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27154-3FFF-469D-BA15-62636C64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65AB8-A348-482C-8AFD-74FBD29E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2680D-6844-4875-B903-1B05BC79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6D965-60C7-47F4-9556-D44A1A42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A9F96-F3FF-46DE-B226-D0714CE7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9F2B6-C6C6-41DC-9ACA-7151CB55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A8B19-DE4F-40EA-92BA-FB2A5477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7A5ED-8DE4-4378-8026-5DB5045F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D3D-0E3F-42F3-A3A5-396E9266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3A991-1522-4830-BFE1-180214A7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62A46-322F-47F6-86DE-487F48C8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14E46-6F52-415E-8238-DF5E6246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AFA78-E904-4204-B489-42CA37AA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0DA88-B43B-48E0-91D9-27DE052F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97AAF-3C29-4E55-B483-FB2D7118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ABCB2-85FD-476D-838E-334E96AD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52EA6-0C30-45EB-8707-6D6870A0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095D6-32F2-401D-8193-75F0958E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455AF-1756-4FE7-9F3D-E5D449E3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4F97-1BC7-4AF5-9153-EED37B61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66FB0-9C37-463A-B693-7A36B122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3A0B2-663E-4734-AD58-E3A1A48E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B3C92-84E6-436B-9175-815CC389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B51C6-9387-4213-BC6D-254B59D9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089C0-1B67-499E-B4CF-6DB2A780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F0D2E-D1F0-4680-9D47-4FA94B33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CF5A0-F0D1-42C0-8552-C7EDDC2A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A44BE-6D0E-4605-8ED9-E5521733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BFE35-564A-44F1-8C05-D15D3146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6342A-749E-409A-A1E8-41366DE0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18D0-4052-4E85-A040-582AA6FB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0E63F-9DE5-426A-B577-747DA2A5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F61DA-4CFA-4AF6-AA38-02331D8B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5FDE9-14CB-4094-BFEC-7317C42B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E868B-7312-43C4-9542-F260C2DA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FD3A2-CC3E-484B-A9F0-A1369927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609ABB-8DE0-4993-9781-304FEAB9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62706-AA40-4AFC-98E3-B0BD9BF0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AE5D12-DC02-4667-B24C-2FF41BF0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31677-C2CF-46DC-B52D-82DD6E78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12315-C1F0-403D-B17C-58CF93E0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F754-C189-41C2-9BD5-822D2BB1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47274B-C287-4B5C-A89B-59887F26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F68C9-73CB-4A75-A28A-7067FF01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F5B89-A91D-4C08-AF2E-3AC476E4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DA4976-F007-4E9D-B5FC-4ACA7683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FA6D71-6C2A-4170-A61E-04E4B475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775CD0-7BEA-4D1C-8979-BB333325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BD06F4-DA87-4F0C-A51F-8B24B4D5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8BB1BD-74E3-467A-A729-0C5C44B3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078C78-7505-4176-A122-8F91351B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4877C8-B5A6-4800-BF9E-4219CF7A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806C-D5CE-4339-905C-F82A30F7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8CF980-A9A1-4FDB-836D-0883DEC8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AA47AA-1DFC-4513-8A73-B005B4B5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2C673-9524-4AF0-A46B-C3DAE74E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946145-DC4F-4CAC-8DCB-AE72B36F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5BAFC8-79CA-4B2A-9A37-BAA92EAC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90FF1B-5486-4328-A631-A2C1CB6B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7606CA-69C4-4F02-A179-A94139A0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3F300B-6C28-4E52-B8A9-6CBFA973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B3FA3F-90FD-4C92-8DE7-A2C1B15B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8F6B-E270-4EFB-9877-12863658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A86E-7BA7-4BAD-BC9E-65EAAED1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CD8E-1E5E-4317-9DEB-5CB14BFB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12E-F946-46F6-AD32-C183164B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D957-987D-456A-B75E-05C111FA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8B32-B362-40FA-855D-3BE3AE04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FE41-956C-4B99-8FF5-D58FA97C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171C-6EE3-4789-9590-4BE86F7C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465A-14F1-4F47-962D-E138477B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E7683-7F05-45C9-B4DB-CEF30735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66301-4B22-4EA8-B4BD-F1F99510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F7A0C-8F33-46C0-B25F-9042DA74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DD126-6993-416E-B4A0-164131B5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49F78-3B6C-45B8-AA5C-3EA480C9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CA3-15E5-40A3-96A8-190EE2A8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BCC95-7BCF-4629-923C-4F25FE0B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972E2-2E13-44BA-8E2A-2A4A7E92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D862F-188D-42B4-AE0D-2460A003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127AE-11BE-489D-AE5F-2EF43C7B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C9C7B-FF7F-42FB-8E25-35B84DAF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85B39-D352-40A8-A538-7AAAC8E2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98223-731E-4186-836C-583AF4D1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0FA2E-44B4-4072-865F-EE952041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904E7-6354-4A15-8895-369CDEE9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E1DA3-8345-4F7A-8376-66B22822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1DDB-5F99-4A56-9D80-4E1C64A4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FF520-4BB2-4DD8-8D07-878C3D2C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F3509-2848-47EA-B7CF-8A330609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E93E1-24D1-421F-994D-015A1005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1C594-B453-49F3-9FFB-C45450CA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9C105-33E2-4E95-BE59-D4DDD8B3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B09A7-6F6D-4301-B27F-10655370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2AA9C-4FA2-4FA7-9E04-CCEFA81D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46517-4099-44DD-AB52-54229EB9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5B756-73A1-46C2-8AD5-44436E84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0FFE8-F721-407A-9C11-F1190959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C6F4-CA85-492A-AD4C-88102D98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812DE-03DA-4DB6-98DA-69D3EE82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9851B-40D5-4466-8CC6-BA737D5E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D4B33-3848-4D4D-906B-9CE0D01D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0CA14-954C-46CD-A95A-BA7CE272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61F7B-5440-48EF-8372-A2A7E3BE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F8BBB-B4A5-4DA3-AD97-8B5014B1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561E2-7B45-41D6-AD30-95BAD28D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E6509-D293-4978-BEA7-9E986FB8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EC671-4169-476D-A475-6AD3F53B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83103-7A67-4529-9981-C705F6FD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F2C1-7021-4913-A7B2-07DC3FAF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FF4F3-FC1C-43DE-BF9D-655BD98A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31CE0-C4AA-445B-8E93-E2CA27F5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1C966-D1E9-454E-8D60-337F206B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15C3D-20B7-4678-A227-4C740E40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F4A2F-CF0A-4343-96C3-0D013E3D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0115B-4249-47D6-9968-E6C206CC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A2A3B-41D9-4E3D-9BD3-DA5E1C69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8B171-E75B-40B7-9E67-DB2C8FC3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279ED-95DC-4E17-B197-4CEFC9C4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0E224-5098-41BC-8BD8-02203B39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9097-BA70-4065-879C-C48E6ED1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71CA1-8104-48B1-9CE6-4F4772D7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24846-1907-4EEC-AAF2-6369CCF2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E6D8A-32BF-42EB-9324-FA7EDA89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943E5-5D4B-4EC1-9D7C-F524B593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74423-A575-4449-B55B-A427BB3B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17524-2574-4D35-8C89-6A945FA3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96C4C-4670-4D66-A4C7-4DC2560D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4268E-2D62-4472-83B3-26BEB39D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9DA4A-23E1-46C3-A153-D4D302EC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D25AF-B0B6-42DA-A227-F3CD74B6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0B81-518D-4A70-87E1-3D94688B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E6580-3FF0-4E63-93A9-D7151F65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702FA-07DA-46F6-B9DE-7BDAC176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936C4-47EB-4314-B990-22E6F2A4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5E6CC-C2A1-40FF-A209-C23406D9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7DD49-B456-48FE-9C26-3AA81A5D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22A38-0F28-4520-AADC-9D424AA8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4618B-7A9B-4467-A749-0C617DAA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95821-7CC3-42BA-9EF7-32423015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6E67D-22A3-421A-80B5-818257FB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0735D-90C6-4B2B-84FF-B720E4F5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36F2-C92A-4BB7-8658-4FB94DE4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C1175-514F-4E3E-9D1E-02E8F2FD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97CB8-3456-4B24-B947-235150A8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7C788-A807-4743-A115-9CAF7A74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628F0-83B5-4C88-A3F9-5461FD9F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84EB4-9E45-43BF-B844-57F136E3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1CF6C-3393-45B4-B29A-54623F08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5C8C6-5149-4AE9-97D0-3A3EFDB9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77AFA-85BB-4D33-A0D2-B3414E2C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7FE3B-8BB7-45CD-A0B5-88980EC0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B9227-1A1F-46E0-98E7-2DF07DAD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190F-617F-489A-A6A8-D26E8F6D6A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1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0CD4-B99E-40AD-A36F-5F8C751123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7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1D8A-B611-44B4-8B9A-3B13DB3ADE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3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F544-5B5D-4026-B004-EDB9A46562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9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DA4F-5E32-4C26-9995-D09BB1D64C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5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F28A-0A2D-42E5-AC8B-284E2C58E2C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D1BB-DAD6-4B54-8407-567E24086A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1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ED97-EADE-415C-BBED-BE65D7EB10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E27B-F785-4F99-AFAD-A3B7E1FAEF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5AAC-76A1-4207-86B2-9ACD4B8B30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7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2836-82A9-4782-B203-DDB775F2F6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AA6D-F006-4552-8287-5F6C65171A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8F73-2387-4BA7-8B8F-A512BBB59F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9D8E-011D-44E9-9A1A-BF69152FE4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38512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ce breakers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» на уроке английского язы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94920" y="1499760"/>
            <a:ext cx="82803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Ice brea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дания, которые обеспечивают активное включение учащихся в учебный процесс, способные создать определённую языковую среду и сформировать учебную группу таким образом, чтобы все принимали активное участие в уро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457200" y="4284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- цепочка слов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- сотри и восстанов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- от слова к предложению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- слова/ предложения- нескладушк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………………………………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тмосфера общ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14200" y="1571400"/>
            <a:ext cx="8786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Виды общ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ролевое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личностно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читель и ученик                 учитель и учени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к                                              ка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фициальные партнёры   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речевые партнё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 u="sng">
                <a:solidFill>
                  <a:srgbClr val="feec94"/>
                </a:solidFill>
                <a:uFillTx/>
                <a:latin typeface="Times New Roman"/>
              </a:rPr>
              <a:t>«A TOUR to LONDON.</a:t>
            </a:r>
            <a:br>
              <a:rPr sz="3600"/>
            </a:br>
            <a:r>
              <a:rPr b="1" i="1" lang="en-US" sz="3600" spc="-1" strike="noStrike">
                <a:solidFill>
                  <a:srgbClr val="feec94"/>
                </a:solidFill>
                <a:latin typeface="Times New Roman"/>
              </a:rPr>
              <a:t>It’s interesting to know.»</a:t>
            </a:r>
            <a:br>
              <a:rPr sz="3600"/>
            </a:b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457200" y="1348920"/>
            <a:ext cx="8344080" cy="591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ачало урока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Let us be more soc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Let us be more  friend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nd the life is wonder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When  we are more act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Учитель: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 wish you to b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ules of a successful less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e….. (active)  and … (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творческий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e … ( sociable ) and … ( friendly).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Believe in yourself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2"/>
          <p:cNvSpPr/>
          <p:nvPr/>
        </p:nvSpPr>
        <p:spPr>
          <a:xfrm>
            <a:off x="0" y="32760"/>
            <a:ext cx="914400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Would you like to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what will happen to you in 10 year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 10 years you’ll be ___(21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ou’ll travel round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nd you’ll have fu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ou’ll go to England and you’ll go to Sp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ou’ll travel by car, by bus and by pla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 10 years you’ll be a famous st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ou’ll have a small d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nd a very big c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ou’ll buy a nice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ith a swimming p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nd your friends will s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he is really cool!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оздание атмосферы общения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85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USA.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 Урок-путешеств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t us always meet each other with a smile, for the smile is the beginning of love.               Mother Te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Let’s begin our lesson with a smile…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ile is one of the American feature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Another feature of the American society. They say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lieve in Yourself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So I wish you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 you think it is important for a person …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Завершение уро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ot for the moon. Even if you miss, you’ll land among the st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you have a dream…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Стих-е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reams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Установки на уроке иностранного язы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- текст/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заметка, сказка, рассказ, мнение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- выучим, повторим слова/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научимся рассказывать о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- какие глаголы выучили?/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что, о чём уже можем рассказать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- отвечать/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рассказывать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45720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казочная интерпретация грамматических явле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Wi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глагол-призрак,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нцесса, которой всё разрешаетс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т. принц, который всё умеет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мл. принц, который всё должен делать или рыцарь без страха и упрёка, «сказал- отрезал»;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артикл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«липучка»;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houl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рцог- утончённая натура, «Всем следует делать то, что следует»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О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ugh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тое чувство долга. Моралист. Редко появляется при двор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инцип комплексности уро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ждая доза речевого материала«пропускается»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через 4 вида речевой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деятельности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. е. один и тот же речевой материал учащиес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воспринимают на слу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читаю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используют в реч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записываю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4" descr="IMG_6844"/>
          <p:cNvPicPr/>
          <p:nvPr/>
        </p:nvPicPr>
        <p:blipFill>
          <a:blip r:embed="rId1"/>
          <a:stretch/>
        </p:blipFill>
        <p:spPr>
          <a:xfrm>
            <a:off x="0" y="0"/>
            <a:ext cx="5076720" cy="400536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5" descr="SDC16693"/>
          <p:cNvPicPr/>
          <p:nvPr/>
        </p:nvPicPr>
        <p:blipFill>
          <a:blip r:embed="rId2"/>
          <a:stretch/>
        </p:blipFill>
        <p:spPr>
          <a:xfrm>
            <a:off x="4140360" y="3105000"/>
            <a:ext cx="5003640" cy="3753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Содержимое 3" descr="SDC17454.JPG"/>
          <p:cNvPicPr/>
          <p:nvPr/>
        </p:nvPicPr>
        <p:blipFill>
          <a:blip r:embed="rId1"/>
          <a:stretch/>
        </p:blipFill>
        <p:spPr>
          <a:xfrm>
            <a:off x="357120" y="142920"/>
            <a:ext cx="4071960" cy="3041640"/>
          </a:xfrm>
          <a:prstGeom prst="rect">
            <a:avLst/>
          </a:prstGeom>
          <a:ln w="0">
            <a:noFill/>
          </a:ln>
        </p:spPr>
      </p:pic>
      <p:pic>
        <p:nvPicPr>
          <p:cNvPr id="851" name="Рисунок 4" descr="SDC17672.JPG"/>
          <p:cNvPicPr/>
          <p:nvPr/>
        </p:nvPicPr>
        <p:blipFill>
          <a:blip r:embed="rId2"/>
          <a:stretch/>
        </p:blipFill>
        <p:spPr>
          <a:xfrm>
            <a:off x="4714920" y="214200"/>
            <a:ext cx="4286160" cy="3000600"/>
          </a:xfrm>
          <a:prstGeom prst="rect">
            <a:avLst/>
          </a:prstGeom>
          <a:ln w="0">
            <a:noFill/>
          </a:ln>
        </p:spPr>
      </p:pic>
      <p:pic>
        <p:nvPicPr>
          <p:cNvPr id="852" name="Рисунок 5" descr="SDC17673.JPG"/>
          <p:cNvPicPr/>
          <p:nvPr/>
        </p:nvPicPr>
        <p:blipFill>
          <a:blip r:embed="rId3"/>
          <a:stretch/>
        </p:blipFill>
        <p:spPr>
          <a:xfrm>
            <a:off x="428760" y="3214800"/>
            <a:ext cx="4314600" cy="323532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6" descr="SDC17278.JPG"/>
          <p:cNvPicPr/>
          <p:nvPr/>
        </p:nvPicPr>
        <p:blipFill>
          <a:blip r:embed="rId4"/>
          <a:stretch/>
        </p:blipFill>
        <p:spPr>
          <a:xfrm>
            <a:off x="4857840" y="3286080"/>
            <a:ext cx="395424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4176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ell me-I forget;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how me- I remember;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nvolve me- I understan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642920" y="188640"/>
            <a:ext cx="4216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кажи мне, я забуду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кажи мне, я смогу запомнить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зволь мне сделать это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И это станет моим навсегд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4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6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41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71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«Секреты» технологии 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методического мастерства на уроке.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250920" y="1214280"/>
            <a:ext cx="864216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Установление благоприятной творческой атмосферы речевого общения – необходимое условие успешности современного урока иностранного язы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.Избегайте искусственного языка на уроках. Говорите естественно, обращайте внимание на реакцию собеседни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. Добрые взаимоотношения- единственный канал, по которому от учителя к ученику переходят добрые мысли и добрые чув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 txBox="1"/>
          <p:nvPr/>
        </p:nvSpPr>
        <p:spPr>
          <a:xfrm>
            <a:off x="457200" y="21420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. Задача состоит в том, чтобы придать обучению форму общени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5. Поддерживайте у учащихся постоянную мотивационную готовность к общению на урок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6. Стимулирование эмоциональной сферы ученика позволяет ему учиться с подключением всех органов чувств. Это обеспечивает более прочное запоминание информаци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285840" y="0"/>
            <a:ext cx="85723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7. Только постоянное включение изученного материала в речевую деятельность позволяет хранить его в памяти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8. Приучайте учащихся к мысли, что они выполняют задание не ради оценки, а потому, что таково условие их успешного участия в общей работе на урок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Настоящий урок начинается не со звонка, а с того момента, когда вспыхивает детская мысл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y Wish for Russi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08000" y="1142640"/>
            <a:ext cx="8928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Защита проек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 Организация проблемного обсуждения, развитие критического мышления, постановка речемыслительных задач через использование высказываний, стихов, иллюстраций уч-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we wish to create peace, if we want to fight against war, we must begin with the children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Mahatma Gandh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 who loves not his country can love nothing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»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.Byr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f you do not think about the future, you cannot have one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. Galsworr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8229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Dream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ld fast to dre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r if dreams d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fe is a broken-winged bir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at cannot fl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ld fast to dre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r if dreams g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fe is a barren fiel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ozen with snow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поры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ЛСКП (логико-смысловая карта проблемы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Успешный человек», «Совершенный мир»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Проблема отцов и детей», «Соседи по комнате» (Основной тезис-отношение к проблеме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СК(семантическая карта) при повторении Л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Семантический бл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Дом моей мечты», «Мой день рождения»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Проблемы окружающей среды», «СМИ»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Землетрясение», «Совершенный мир»,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ЛСС «Времена года» и д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eec94"/>
                </a:solidFill>
                <a:uFillTx/>
                <a:latin typeface="Times New Roman"/>
              </a:rPr>
              <a:t>Развитие критического мышле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50560" y="1356840"/>
            <a:ext cx="871380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спользование техники чтения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jigs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Проблемное обсуждение на основе афоризмов, высказываний  «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on’t create a screen between you and your friends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», «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are the author of your own life story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»,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Восстановить логическую последовательность двух рассказов из перемешанных предложени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Метод проектов. Творческие задания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836640"/>
            <a:ext cx="84358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 Careful with the Futu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 a Friend to the Ear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Напишем книгу вмес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Создать свой имидж (своей семьи,…). Создавая эмблему, уч-ся украшают её словами, рисунк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AutoShape 5"/>
          <p:cNvSpPr/>
          <p:nvPr/>
        </p:nvSpPr>
        <p:spPr>
          <a:xfrm>
            <a:off x="611280" y="1557360"/>
            <a:ext cx="914400" cy="60948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AutoShape 6"/>
          <p:cNvSpPr/>
          <p:nvPr/>
        </p:nvSpPr>
        <p:spPr>
          <a:xfrm>
            <a:off x="2124000" y="1557360"/>
            <a:ext cx="914400" cy="60948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AutoShape 7"/>
          <p:cNvSpPr/>
          <p:nvPr/>
        </p:nvSpPr>
        <p:spPr>
          <a:xfrm>
            <a:off x="3708360" y="1557360"/>
            <a:ext cx="914400" cy="60948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eec94"/>
                </a:solidFill>
                <a:uFillTx/>
                <a:latin typeface="Times New Roman"/>
              </a:rPr>
              <a:t>Поэзия и грамматик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Friend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Kind and ni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Patient and loving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Like the stars in the sky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амые эффективные способы интенсификации урока иностранного язы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-игр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-творчеств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-любопытств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-самостоятель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ктивная позиция учени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AutoShape 4"/>
          <p:cNvSpPr/>
          <p:nvPr/>
        </p:nvSpPr>
        <p:spPr>
          <a:xfrm>
            <a:off x="4284720" y="4005360"/>
            <a:ext cx="574560" cy="718920"/>
          </a:xfrm>
          <a:prstGeom prst="downArrow">
            <a:avLst>
              <a:gd name="adj1" fmla="val 50000"/>
              <a:gd name="adj2" fmla="val 3128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4624560" y="539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4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4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2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Если спрашивают не тебя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 отключайся от работ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 Представь, что вопросы учителя, любого ученика , их ответы относятся к тебе лично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. Подумай, как бы прореагировал на сказанное ты сам. Не повторяй бездумно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. Скажи это (или повтори за говорящим) шёпотом, чтобы никому не меша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ак ты сможешь тренироваться в общении весь урок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имеры задач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. Расскажите, как вы поступите, если захотите есть, а у вас не будет ед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. Мне рассказали, что ваш одноклассник отказался помочь своему дедушке и поработать в саду. Выразите своё отношение к данной ситуаци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ровни самостоятельной работы учащихс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ченик копирует действия по образц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Ученик воспроизводит действия, материал по памят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Ученик применяет свои знания, умения, навыки для решения задач по аналогии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 образцовыми заданиям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Ученик сам решает новые задач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имулирование эмоциональной сфе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дключение всех органов чувст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олее прочное запоминание получаемой информ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AutoShape 4"/>
          <p:cNvSpPr/>
          <p:nvPr/>
        </p:nvSpPr>
        <p:spPr>
          <a:xfrm>
            <a:off x="4211640" y="981000"/>
            <a:ext cx="485640" cy="863640"/>
          </a:xfrm>
          <a:prstGeom prst="downArrow">
            <a:avLst>
              <a:gd name="adj1" fmla="val 50000"/>
              <a:gd name="adj2" fmla="val 444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AutoShape 5"/>
          <p:cNvSpPr/>
          <p:nvPr/>
        </p:nvSpPr>
        <p:spPr>
          <a:xfrm>
            <a:off x="4211640" y="2997360"/>
            <a:ext cx="485640" cy="863280"/>
          </a:xfrm>
          <a:prstGeom prst="downArrow">
            <a:avLst>
              <a:gd name="adj1" fmla="val 50000"/>
              <a:gd name="adj2" fmla="val 4444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Игровые элементы на уроках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13840" y="642600"/>
            <a:ext cx="864252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Игра «Дочки-матери», цикл уроков «Семья Гранди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- «Волшебные ворот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- «Волшебные (секретные)слова», «Волшебная фраз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(разрешается выполнить действие-физкультминутка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- загадки; стихи-диалог, грамматические структуры через стих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0040" y="14292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Работа в паре с буквами алфавита: У1держит в руке букву, У2  закрывает глаза, У1 пишет букву пальцем на ладони или спине У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хлопок- правильно, 2 хлопка- неправильн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йти парное предложе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( передвижение по классу, на карточках предложения, содержащие 2 или 3 форму гл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14:01:37Z</dcterms:created>
  <dc:creator>0</dc:creator>
  <dc:description/>
  <dc:language>en-US</dc:language>
  <cp:lastModifiedBy>school</cp:lastModifiedBy>
  <dcterms:modified xsi:type="dcterms:W3CDTF">2011-11-24T13:17:35Z</dcterms:modified>
  <cp:revision>20</cp:revision>
  <dc:subject/>
  <dc:title>«Ice breakers» на уроке английского языка</dc:title>
</cp:coreProperties>
</file>