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406-A434-4BB6-A06A-85A3AE74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4E6-73C0-4C67-A5AC-961029D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A81-7A5A-45DA-9997-BADEC585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16B-BE70-49A8-8049-42D0301E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C27-C2E6-4AF6-89FB-DCD72D09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1F1-7CE1-4A9A-8449-DFEE7BF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7C7E-04A3-4B03-903D-DC843EF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5E40-29FA-4893-98B8-E0E3D1E3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651-14D0-4CEE-B7EB-3EC9C34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1EE3-DE01-4178-8412-3983560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9EC2-5A2F-4FB1-8ECD-C2FC483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C7D-8B8D-4EB5-B7FC-F58CD72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F4D-8CD2-4187-8FA6-7C541BC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FCAB-6304-4235-A364-7639211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758F-6E0B-4C5B-AF8E-9F49209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2D5-7FB0-4D0E-AC6A-1B758CAF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02A5-CDA6-4F69-9776-55A0197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A3-F9C5-4345-8CCE-5940B93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AEF-C9D0-4BA3-95B0-CF07EBC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875-E810-4BB3-B0D0-A266928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636-49D0-45AB-8029-CF3FD22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1DA-E196-42FD-8FA6-9739519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B94-CED1-438B-BA09-3A0ABEA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3EC-5979-4722-AC6E-B73138B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A094-E746-4318-91E6-6995E53F1B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254-82F7-47C6-B9A0-859063C8E2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Моя малая Род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1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ученица 2 класса Макарова К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МБОУ «Юлдузская СОШ»Чистопольского муницип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района Республики Татар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                                 </a:t>
            </a:r>
            <a:r>
              <a:rPr b="1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Руководитель проекта: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Макарова Татьяна Алексе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МБОУ «Юлдузская СОШ» Чистопольского муницип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района Республики Татар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211280" y="-739080"/>
            <a:ext cx="4600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51316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Любимые уголки приро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624400" cy="196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771640" y="3933720"/>
            <a:ext cx="31323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иродная зона «Чистые луга»</a:t>
            </a: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е всё потеряно у нас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апротив Четырчей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Есть «Чистые луга»,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Хранящие и фауну, и флору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 за рекою «Прость»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Раскинулось привольно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о сердцу радостно и больно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е потерять бы эту красоту,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е разменять бы чистоту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Здесь лебеди и ласточки и цапли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Всё надо сохранить до капли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А вот и камыши, как воины на страже,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 охраняют милые кувшинки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т камышей разносятся пушинки…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Разнообразные породы рыб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хитроумные дома бобров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Заказник «Чистые луга»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усть будет людям на века».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                Л.В. Лоскутова.</a:t>
            </a:r>
            <a:br>
              <a:rPr sz="1600"/>
            </a:b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«Любите Родину, как мы её любили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19280" y="1557360"/>
          <a:ext cx="5832360" cy="486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557360"/>
                    <a:ext cx="58323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«Знаменитые земляки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итин Геннадий Павлович – вра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иатр г. Берёзов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нина Валентина Борисовна – пе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адемического хора Пермского опер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а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36000" y="1844640"/>
            <a:ext cx="12682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аши тради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ле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довый сп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оды в Арм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268720" cy="170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1517760" cy="2157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492360" y="404820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56360" y="4051440"/>
            <a:ext cx="2376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560" y="-847080"/>
            <a:ext cx="7769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i-main-pic" descr="Описание: Картинка 3 из 40483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4019400"/>
            <a:ext cx="42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Пусть я маленький ребен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Но патриот уже с пелен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И даже в возрасте своем,</a:t>
            </a:r>
            <a:br>
              <a:rPr sz="1800"/>
            </a:b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Стране мы пользу принесем!</a:t>
            </a:r>
            <a:br>
              <a:rPr sz="1800"/>
            </a:b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Пока мы ходим в школу</a:t>
            </a:r>
            <a:br>
              <a:rPr sz="1800"/>
            </a:b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И наша цель «Ученье – свет!»</a:t>
            </a:r>
            <a:br>
              <a:rPr sz="1800"/>
            </a:b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Но стать достойным гражданином,</a:t>
            </a:r>
            <a:br>
              <a:rPr sz="1800"/>
            </a:b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Мечтает каждый с малых ле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221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37"/>
          <p:cNvPicPr/>
          <p:nvPr/>
        </p:nvPicPr>
        <p:blipFill>
          <a:blip r:embed="rId2"/>
          <a:stretch/>
        </p:blipFill>
        <p:spPr>
          <a:xfrm>
            <a:off x="179280" y="674640"/>
            <a:ext cx="8964720" cy="6159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843120"/>
            <a:ext cx="516096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место, страна, где человек родился; где впервые сложился, возник этн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лова с корнем «РОД»:</a:t>
            </a:r>
            <a:br>
              <a:rPr sz="1800"/>
            </a:b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*</a:t>
            </a:r>
            <a:r>
              <a:rPr b="0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родить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– произвести на свет потомство;</a:t>
            </a:r>
            <a:br>
              <a:rPr sz="1800"/>
            </a:b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*</a:t>
            </a:r>
            <a:r>
              <a:rPr b="0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 – отец и мать, у которых рождаются дети;</a:t>
            </a:r>
            <a:br>
              <a:rPr sz="1800"/>
            </a:b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*</a:t>
            </a:r>
            <a:r>
              <a:rPr b="0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родня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– родственники;</a:t>
            </a:r>
            <a:br>
              <a:rPr sz="1800"/>
            </a:b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*</a:t>
            </a:r>
            <a:r>
              <a:rPr b="0" lang="ru-RU" sz="1800" spc="-1" strike="noStrike" u="sng">
                <a:solidFill>
                  <a:srgbClr val="66ff33"/>
                </a:solidFill>
                <a:uFillTx/>
                <a:latin typeface="Arial"/>
              </a:rPr>
              <a:t>родословная </a:t>
            </a:r>
            <a:r>
              <a:rPr b="0" lang="ru-RU" sz="1800" spc="-1" strike="noStrike">
                <a:solidFill>
                  <a:srgbClr val="66ff33"/>
                </a:solidFill>
                <a:latin typeface="Arial"/>
              </a:rPr>
              <a:t>– перечень поколений одного 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Пословицы о Род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Родимая сторона – мать, а чужая – маче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Жить – Родине служ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Береги землю родимую, как мать любим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Родина-мать, умей  за неё посто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Родина – всем матерям 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Герб села Четырч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2943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Интервью с Макаровой Александрой Александровной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92360" y="1949400"/>
          <a:ext cx="5327640" cy="423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949400"/>
                    <a:ext cx="53276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333000"/>
            <a:ext cx="8540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ЛЮБЛЮ ТЕБЯ,ЧЕТЫРЧИ!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МАК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Четырчи, Четыр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Ты душа не молч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Я люблю этот кра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Он похожий на ра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4457880"/>
            <a:ext cx="3097080" cy="2066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64000" y="2637000"/>
            <a:ext cx="3024360" cy="207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097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 ЧЕГО НАЧИНАЕТСЯ РОДИН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Мой дом, улиц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889440" cy="2187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39610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Гринина Л.Ю., заведующая ЧСДК, 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тихотворение «Родная сторона», в исполнении ученицы 2 класса Макаровой Ксении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08000" y="2060640"/>
          <a:ext cx="5185080" cy="43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060640"/>
                    <a:ext cx="51850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41:30Z</dcterms:created>
  <dc:creator>Дом</dc:creator>
  <dc:description/>
  <dc:language>en-US</dc:language>
  <cp:lastModifiedBy>Дом</cp:lastModifiedBy>
  <dcterms:modified xsi:type="dcterms:W3CDTF">2007-01-11T22:31:44Z</dcterms:modified>
  <cp:revision>20</cp:revision>
  <dc:subject/>
  <dc:title>Слайд 1</dc:title>
</cp:coreProperties>
</file>