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2E8-B69C-40D0-A564-A4448D63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D68E-3586-425D-9B4C-260F5456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B9AB-89CB-402C-B19E-CFA46122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8C8-FE58-42DE-9DC4-994881AD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EAB6-B2DB-4E42-8370-965D5CEA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1535-5209-465D-9DF5-5090420C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847D-4420-4929-8E1E-C8FC05F3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823F-2BA2-4654-8BCF-3B4E211B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DBF-D29C-4385-958E-9965C654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08FD-0F6D-470A-9244-FECCE830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0DD8-F108-4305-AF98-48D5AFAE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0D50-314A-4223-92A6-07610C48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E109-647E-4E4B-970F-7960485FA8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1268280"/>
            <a:ext cx="590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Monotype Corsiva"/>
              </a:rPr>
              <a:t>Славный путь 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Monotype Corsiva"/>
              </a:rPr>
              <a:t>М.В. Ломонос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коллаж Ломоносов"/>
          <p:cNvPicPr/>
          <p:nvPr/>
        </p:nvPicPr>
        <p:blipFill>
          <a:blip r:embed="rId2"/>
          <a:stretch/>
        </p:blipFill>
        <p:spPr>
          <a:xfrm>
            <a:off x="2700360" y="2276640"/>
            <a:ext cx="4219560" cy="3200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Monotype Corsiva"/>
              </a:rPr>
              <a:t>Заслуги М.В. Ломонос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91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Любимая наука Ломоносова – химия. Он создал химическую лабораторию в Петербурге и открыл новый закон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Занимаясь физикой, он раскрыл загадку грозы и северного сияни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Он любил наблюдать за звездами, усовершенствовал телескоп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Наблюдая за Венерой, установил, что у этой планеты есть атмосфер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Он первый в мире географ-полярник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Занимался историей древних славян, историей изготовления фарфор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А сколько он сделал для совершенствования русского языка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Сочинял стих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Возродил производство цветного стекла и сделал мозаичные картины ("Портрет Петра I", "Полтавская битва"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Открыл первый российский университет в Москве.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еловек исключительного ума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огромной силы воли, кипучей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творческой энергии,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неутомимой жажды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деятельн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моносов считал, что долг каждого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– трудиться не покладая рук для пользы общества, для блага народа, а если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надо, героически отдать свою жизнь  во имя Родины, торжества любимых ид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15900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истории отечественной и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мировой науки и культуры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М.В. Ломоносов занимает особое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место. Это был один из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образованнейших русских людей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XVIII века. Сложно назвать область науки, техники и культуры, в которую он не внес бы свой вклад. Его научные интересы были чрезвычайно широки и многогран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252108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Детст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дился М. В. Ломоносов 19 ноября  1711 года в селе Денисовка Куростровской волости около села Холмогоры Архангельской губернии.  С 10 лет он помогал отцу на промыслах. Они ходили как в дальние плавания в Северный Ледовитый океан (к Новой Земле, Шпицбергену), так и в ближние – до Соловецких остров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удные морские переход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зически закалили Ломоносова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ли его ум, наблюдательность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огатили разнообразным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ям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867280" y="3573360"/>
            <a:ext cx="288000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Моск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емление к знаниям, проблемы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в семье заставили Ломоносова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принять решение отправиться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Москву, чтобы «поступить там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ученье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учив паспорт, заняв у соседа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Фомы Шубного 3 рубля, в декабр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1730 г. 19-летний Ломоносов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отправился с рыбным обозом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столиц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рез 3 недели будущий учены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прибыл в Москв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2963880" cy="446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Учёба в Славяно-греко-латинской академ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январе 1731 г. Ломоносов подал прошение 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ислении его в Славяно-греко-латинскую академию, высшее духовное учебное заведение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торое готовило служителе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ркви и государственных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ужащих, где можно в совершенств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учить латинский язы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моносов утаил крестьянско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исхождение и выдал себя з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ына холмогорского дворянина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кольку крестьян 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авяно-греко-латинскую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адемию не принима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261936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Ломоносов - учё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735 г. в числе 12 самых способных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студентов, «отроков добрых, которые бы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приличных к украшению разума наука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довольное знание имели», Ломоносо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направлен для дальнейшего обучения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Санкт-Петербургскую Академию наук, гд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проявил огромный интерес к наукам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изучал математику, экспериментальну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физику, химию, минералог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ентябре 1736 г. вместе с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.И. Виноградовым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будущим изобретателем русског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арфора) и Г.У. Райзером ег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правляют для обуче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имии и горному делу в Герма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13"/>
          <p:cNvPicPr/>
          <p:nvPr/>
        </p:nvPicPr>
        <p:blipFill>
          <a:blip r:embed="rId1"/>
          <a:stretch/>
        </p:blipFill>
        <p:spPr>
          <a:xfrm>
            <a:off x="468360" y="836640"/>
            <a:ext cx="1905120" cy="287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lom1"/>
          <p:cNvPicPr/>
          <p:nvPr/>
        </p:nvPicPr>
        <p:blipFill>
          <a:blip r:embed="rId2"/>
          <a:stretch/>
        </p:blipFill>
        <p:spPr>
          <a:xfrm>
            <a:off x="6156360" y="3716280"/>
            <a:ext cx="226836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Ломоносов - поэт  и просветит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. В. Ломоносов выступает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как исследователь закон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сского языка, и как страстны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го защитник и реформатор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как популяризатор, своим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ературными произведениям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историческими сочинениям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бедительно доказавший, на чт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ен русский язы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огие годы своей жизни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Ломоносов отдал развитию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просвещения Росси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подготовке для неё кадр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8" descr="mb11"/>
          <p:cNvPicPr/>
          <p:nvPr/>
        </p:nvPicPr>
        <p:blipFill>
          <a:blip r:embed="rId1"/>
          <a:stretch/>
        </p:blipFill>
        <p:spPr>
          <a:xfrm>
            <a:off x="5580000" y="1341360"/>
            <a:ext cx="3168720" cy="230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mbb"/>
          <p:cNvPicPr/>
          <p:nvPr/>
        </p:nvPicPr>
        <p:blipFill>
          <a:blip r:embed="rId2"/>
          <a:stretch/>
        </p:blipFill>
        <p:spPr>
          <a:xfrm>
            <a:off x="468360" y="4437000"/>
            <a:ext cx="32400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Роль М. В. Ломоносова в возрождении мозаичного искусства в Росс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1752 г.  М.В. Ломоносов подал в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Сенат предложение об учреждении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в России «мозаичного дела», в этом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же году вышел Указ о постройк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фабрики цветного стекла в Усть–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Рудице под Ораниенбаумом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В течение трёх лет учёный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погружён в физико-химические испытания, касающиеся учения о цвете. Он провёл почти три тысячи опытов для воспроизведения разных цветов в стёклах. </a:t>
            </a:r>
            <a:br>
              <a:rPr sz="2200"/>
            </a:br>
            <a:br>
              <a:rPr sz="2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слуга М. В. Ломоносова в том, что он опытным путем, нигде не заимствуя, разработал технологию варки смальты и поставил это производство фактически на промышленную основ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lomu"/>
          <p:cNvPicPr/>
          <p:nvPr/>
        </p:nvPicPr>
        <p:blipFill>
          <a:blip r:embed="rId1"/>
          <a:stretch/>
        </p:blipFill>
        <p:spPr>
          <a:xfrm>
            <a:off x="539640" y="1557360"/>
            <a:ext cx="3240360" cy="214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20:05Z</dcterms:created>
  <dc:creator>Сафонов Сергей</dc:creator>
  <dc:description/>
  <dc:language>en-US</dc:language>
  <cp:lastModifiedBy>Admin</cp:lastModifiedBy>
  <dcterms:modified xsi:type="dcterms:W3CDTF">2012-01-15T06:55:14Z</dcterms:modified>
  <cp:revision>35</cp:revision>
  <dc:subject/>
  <dc:title>Заголовок слайда</dc:title>
</cp:coreProperties>
</file>