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6F19-9019-4A0B-B5A7-0DC20B96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0DA-CB7A-4558-B27F-4185E9A1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5A65-30C4-40E2-BB66-905A18C2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66EE-D802-45AB-B6AE-F17E181B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1C2D-34B2-4B3C-B767-71905A0F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EA2A-79FA-4C0C-87CE-00F1DF10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0F45-515F-40DF-A9B0-971D8217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33D4-48B9-49A5-A5D4-E606ADDD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92FF-7E78-4A9E-BC1F-CDA88AA6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C30B-4C91-4A53-B1FD-0A194AD8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EA45-DFCF-423F-85FA-D7D69B11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71AF-CB0F-4B6C-8227-2557CA87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192E-E8DD-4E75-BF88-38CEF493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54FF-4E8B-48E7-B06D-3A7BC68C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13A6-F3FA-464A-BA71-556C406E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2293-BAC8-4BDA-88CE-7EF0AEA8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A1EB-4651-4471-BAA2-16602E32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2DF3-D0DD-4262-A8F4-17161F34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92C0-F822-4C32-A6D6-9DF028D3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CC7A-6693-4891-9508-98B27CD4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F87-FC7D-4B11-91DB-1DDE4B12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96E7-AF35-4F2B-A1FD-13563672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E95E-B799-4001-9DE8-6F6334BE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3240-E3A0-4F38-B37A-046CF6F8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03AE-020A-4295-A28A-AF16EAFB33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65EC-8FDC-478F-A869-D33493EF983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«…усвоению каждого навыка должно предшествовать</a:t>
            </a:r>
            <a:br>
              <a:rPr sz="1800"/>
            </a:b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формирование психологических предпосылок, на кото-</a:t>
            </a:r>
            <a:br>
              <a:rPr sz="1800"/>
            </a:b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рые этот навык базируется»   </a:t>
            </a: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(А.Н.Корнев)  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ек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Трансдисциплинарный подход к организации в ДОУ подготовки детей к овладению функциональным базисом навыка чтения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920"/>
          </a:xfrm>
          <a:prstGeom prst="rect">
            <a:avLst/>
          </a:prstGeom>
          <a:noFill/>
          <a:ln w="0">
            <a:noFill/>
          </a:ln>
        </p:spPr>
        <p:txBody>
          <a:bodyPr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89000"/>
            <a:ext cx="800748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ать эффективные формы и методы по формированию функционального базиса навыков чт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следить динамику формирования функционального базисов навыка чтения у дошкольников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8. Гипотез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реализации трансдисциплинарного подхода усиливается коррекционный эффект работы дошкольного учреждения при формировании функционального базиса навыка чтения (предпосылок готовности к овладению чтением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9. Сроки реализации проект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008-2010 г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10. Ожидаемые результаты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рмализация зрительно-пространственных функц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ированность слухового восприятия и слуховой памя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ррекция речевого слуха и фонематического восприят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ированность звуковой стороны реч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рмализация мыслительных процессов анализа, синтеза, сравнения, обобщ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244080"/>
            <a:ext cx="8302680" cy="20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11. Предложения по возможному распространению результатов  по проекту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2565000"/>
            <a:ext cx="800748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ансляция опыта работы на городском и окружном уровн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1. Проблемы, на решение которых направлена работ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ждый специалист ДОУ решает свои программные задачи, а деятельность специалистов в одной образовательной среде должна преследовать общую цель – подготовку детей к обучению в школе и их социализац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2. Тема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Трансдисциплинарный подход к организации в ДОУ подготовки детей к овладению функциональным базисом навыка чтения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3. Актуальность тем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з грамотной организации использования потенциала каждого специалиста, без объединения усилий всех участников педагогического процесса и без преодоления разобщенности в их работе решить проблему комплексной подготовке детей к овладению чтением практически невозмож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4. Исходные теоретические положения, научные идеи, на основе которых предполагается решить поставленные проблем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овременной научно-методической литературе интерес к проблеме готовности к овладению чтением обусловлен необходимостью поиска основных направлений и приемов коррекционной работы по предупреждению у детей дошкольного возраста возможных нарушений чтения через организацию работы по развитию необходимых психических функций до начала обу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700280"/>
            <a:ext cx="80074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дель трансдисциплинарного подхода поможет сделать доступным процесс формирования высших психологических функций и овладение функциональным базисом навыка чтен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5. Инновационный потенциал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Эффективное использование  потенциала каждого специали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Объединение усилий всех участников педагогического процес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Организация комплексного подхода к подготовке детей к овладению функционального базиса навыка чт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6. Цель проек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функционального базиса навыка чтения у дошкольников с помощью трансдисциплинарного подхода к организации взаимодействия между членами педагогического коллекти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7. Задачи проек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анализировать теоретические основы трансдисциплинарного подхода к организации в ДОУ дошкольников к овладению функционального базиса навыков чт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аботать оптимальный план мероприятий по выработке ум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57:08Z</dcterms:created>
  <dc:creator>Алексей</dc:creator>
  <dc:description/>
  <dc:language>en-US</dc:language>
  <cp:lastModifiedBy>User</cp:lastModifiedBy>
  <dcterms:modified xsi:type="dcterms:W3CDTF">2011-11-09T08:46:19Z</dcterms:modified>
  <cp:revision>4</cp:revision>
  <dc:subject/>
  <dc:title>«…усвоению каждого навыка должно предшествовать формирование психологических предпосылок, на кото- рые этот навык базируется».     (А.Н.Корнев)  </dc:title>
</cp:coreProperties>
</file>