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jpeg" ContentType="image/jpeg"/>
  <Override PartName="/ppt/media/image12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07FC-3FF5-4C22-81B5-38FB01ED6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ECF6-1195-4882-A6E6-10EC6A697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D3D5-CC43-436C-8B85-446EC56D2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F868-5C8E-4486-BFD7-FCE7C9636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0CDBD-0E96-4247-904C-21C29DF30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91C01-D72B-4327-8FC7-A98B7EAF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1034D-FAFA-4DFC-B6FE-2F92B8E3E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2088D-352D-4B28-BD9D-62AE22CF9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72025-50F8-4095-83F8-509DA80FB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B4979-A4D4-4362-BEE7-4902B5556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DAE76-B35E-47CB-95A4-6365C5AC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7346-56BC-475D-BDAA-0FEB1D40B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1CC54-66DB-42F9-B8DB-5AC6D40E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13510-4252-42A9-88AC-3EA89988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A278B-12EF-408E-9B2C-7A1B0061E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BB658-B529-4F9E-B05C-52EB3467A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05992-148C-4FEE-8A0A-A8E14029A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8B0E-F5FF-4CD8-938B-BED856347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3E60-1FC6-42F9-93BF-9F10C1B65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AFAF-28B3-4881-B69A-E07E03F76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7968-18DD-48B0-895E-90C35C37B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D57C-4D07-45C2-80D1-A225F1EF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BC23-4162-4F54-A641-972ACC3C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E6B0-A2E7-4BDB-9DE3-370F5705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DB8A4-22EF-4AF0-91FD-796DC12E924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B1A97-6416-4D40-927A-93CE7C897A6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Расти здоровый, малыш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284720" y="549360"/>
            <a:ext cx="4859280" cy="5759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195640" y="1553400"/>
            <a:ext cx="446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оюсь врачей, врачей боюсь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раснея, в этом признаюсь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ричу: «Прививки не нужны!»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муля  улыбается врачу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 я: «Не надо, не хочу!»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500200" y="1295280"/>
            <a:ext cx="4143600" cy="47260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724360" y="1036440"/>
            <a:ext cx="3419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шли к зубному на приём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с вызывают, мы встаём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ходит врач навстречу нам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 где же я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е знаю сам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 rot="367800">
            <a:off x="5076720" y="531360"/>
            <a:ext cx="3743280" cy="56088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195640" y="1248840"/>
            <a:ext cx="3925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режу палец и молчу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 вдруг опять идти к врачу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 если ноги промочу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аблетку лучше проглочу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 rot="544200">
            <a:off x="5248440" y="831960"/>
            <a:ext cx="3456000" cy="50403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124000" y="1248840"/>
            <a:ext cx="3456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ой страх ничем не одолеть!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не просто нужно не болеть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сть утром кашу с молоком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 подружиться с турником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53388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508720" y="914760"/>
            <a:ext cx="3635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Эти добрые советы,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них и спрятаны секреты,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к здоровье сохранить.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учись его ценить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314440" y="0"/>
            <a:ext cx="628992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 flipV="1" rot="10800000">
            <a:off x="2717640" y="1344960"/>
            <a:ext cx="371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484360" y="189000"/>
            <a:ext cx="354024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доровья Вам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995640" y="5445000"/>
            <a:ext cx="514836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ашим близким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700360" y="2708280"/>
            <a:ext cx="86364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87684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940360" y="1248840"/>
            <a:ext cx="3203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тоб здоровье сохранить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рганизм свой укрепить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нает вся моя семья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олжен быть режим у дня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124000" y="100080"/>
            <a:ext cx="4305240" cy="6657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148360" y="702000"/>
            <a:ext cx="39956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ледует, ребята, знать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ужно всем подольше спать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у а утром не лениться–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 зарядку становиться!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932360" y="260280"/>
            <a:ext cx="4211640" cy="63374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124000" y="1433880"/>
            <a:ext cx="39229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истить зубы, умываться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 почаще улыбаться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каляться, и тогда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 страшна тебе ханд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 rot="21325200">
            <a:off x="2214360" y="510840"/>
            <a:ext cx="3797280" cy="59292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940360" y="459000"/>
            <a:ext cx="32036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 здоровья есть враги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 ними дружбы не води!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реди них тихоня лень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 ней борись ты каждый день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995640" y="0"/>
            <a:ext cx="514836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195640" y="1432440"/>
            <a:ext cx="38574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тобы ни один микроб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 попал случайно в рот,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уки мыть перед едой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ужно мылом и вод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694836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195640" y="1036440"/>
            <a:ext cx="3313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ушать овощи и фрукты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ыбу, молокопродуктыВот полезная еда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итаминами полна!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 rot="397200">
            <a:off x="5148000" y="620640"/>
            <a:ext cx="3671640" cy="5141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195640" y="702000"/>
            <a:ext cx="31683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 прогулку выходи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вежим воздухом дыши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олько помни при уходе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деваться по погоде!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666880" y="620640"/>
            <a:ext cx="3810240" cy="51897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940360" y="945000"/>
            <a:ext cx="32036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у, а если уж случилось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зболеться получилось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най, к врачу тебе пора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н поможет нам всегда!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8T11:28:51Z</dcterms:created>
  <dc:creator>DJ_Diesel</dc:creator>
  <dc:description/>
  <dc:language>en-US</dc:language>
  <cp:lastModifiedBy>User</cp:lastModifiedBy>
  <dcterms:modified xsi:type="dcterms:W3CDTF">2012-01-16T09:16:39Z</dcterms:modified>
  <cp:revision>3</cp:revision>
  <dc:subject/>
  <dc:title>Расти здоровый, малыш!</dc:title>
</cp:coreProperties>
</file>