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A04-1C08-4DE8-A426-B633C21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765-9872-4191-BEB2-D0147A7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283-1A3E-4074-B3DF-F4857777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B00-0C57-4D1B-8BA5-ED9CFEA9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1400-AA91-434D-BD40-C918D178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FBB-C95B-4B81-9700-D2162BA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162-D9E1-4BE0-8B51-9E278CE9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31DA-9639-4194-A0F2-5D6DA119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B282-6D81-44E4-89F2-5C60AEF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B37-B27E-4BC0-9BC6-5C06880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0CC5-51F2-4711-A6D0-E8CA74F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D5C-B57D-4946-A3CA-01D41F9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65A9-93A7-4842-988C-5E10E2F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5F4C-0D47-4004-97D8-B6C4242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022-226E-4893-B23D-AB8C4F9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84E-4A8E-422D-81CD-C40DE8A6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DE97-5DE2-4169-876E-1E1ADDC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D0F-2D44-4F99-BBF7-1F42B29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2FB-4F67-488A-97FA-ECA7A42F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F97-C8CC-4E05-AB54-9B87852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2D7-AC77-4596-B0C8-EE2AB5D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F93-4C46-4967-884B-B8C0473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1CC-8FBE-4539-9032-FB105E0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898-A704-403B-8340-02DA033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BC17-B218-4BD6-9C4D-28759119DD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9A4-7F9D-4126-9311-80B56AFF1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ти здоровый, малыш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859280" cy="575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155340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юсь врачей, врачей боюс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нея, в этом признаюсь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чу: «Прививки не нужны!»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уля  улыбается врачу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я: «Не надо, не хочу!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0200" y="1295280"/>
            <a:ext cx="4143600" cy="472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24360" y="10364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шли к зубному на приё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 вызывают, мы встаё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ит врач навстречу на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где же я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 са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367800">
            <a:off x="5076720" y="531360"/>
            <a:ext cx="3743280" cy="560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95640" y="1248840"/>
            <a:ext cx="392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режу палец и молч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вдруг опять идти к врачу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если ноги промоч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етку лучше проглоч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544200">
            <a:off x="5248440" y="83196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24000" y="12488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й страх ничем не одолеть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е просто нужно не боле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ь утром кашу с моло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дружиться с турнико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3388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08720" y="914760"/>
            <a:ext cx="363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 добрые советы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них и спрятаны секреты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здоровье сохранить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учись его цен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6289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 rot="10800000">
            <a:off x="2717640" y="1344960"/>
            <a:ext cx="37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84360" y="189000"/>
            <a:ext cx="35402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я Ва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95640" y="5445000"/>
            <a:ext cx="5148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шим близки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00360" y="2708280"/>
            <a:ext cx="863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876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0360" y="1248840"/>
            <a:ext cx="32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 здоровье сохрани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м свой укрепи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ет вся моя сем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лжен быть режим у дн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100080"/>
            <a:ext cx="4305240" cy="665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702000"/>
            <a:ext cx="399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ет, ребята, знат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жно всем подольше спать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 а утром не лениться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арядку становиться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211640" cy="633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1433880"/>
            <a:ext cx="392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тить зубы, умыватьс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очаще улыбатьс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аляться, и тогд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страшна тебе ханд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21325200">
            <a:off x="2214360" y="510840"/>
            <a:ext cx="3797280" cy="592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0360" y="459000"/>
            <a:ext cx="3203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здоровья есть враг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ними дружбы не води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них тихоня лен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ней борись ты каждый ден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1432440"/>
            <a:ext cx="3857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ни один микроб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опал случайно в рот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мыть перед едо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жно мылом и в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1036440"/>
            <a:ext cx="331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шать овощи и фрукт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у, молокопродуктыВот полезная ед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ами полна!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397200">
            <a:off x="5148000" y="620640"/>
            <a:ext cx="3671640" cy="514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702000"/>
            <a:ext cx="316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рогулку выход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жим воздухом дыш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лько помни при уходе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еваться по погоде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620640"/>
            <a:ext cx="3810240" cy="518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0360" y="945000"/>
            <a:ext cx="320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, а если уж случилось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олеться получило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й, к врачу тебе пор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поможет нам всегда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1:28:51Z</dcterms:created>
  <dc:creator>DJ_Diesel</dc:creator>
  <dc:description/>
  <dc:language>en-US</dc:language>
  <cp:lastModifiedBy>User</cp:lastModifiedBy>
  <dcterms:modified xsi:type="dcterms:W3CDTF">2012-01-16T09:16:39Z</dcterms:modified>
  <cp:revision>3</cp:revision>
  <dc:subject/>
  <dc:title>Расти здоровый, малыш!</dc:title>
</cp:coreProperties>
</file>