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2E41F-6FE0-421C-A8AF-F402EAC07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C9D38-A3B3-435B-A968-37D022725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35C3E-C109-4E45-9113-591A1854D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13F52-7E06-42BE-AFC4-9BE0B094A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DD979-EDAD-4336-81A2-32B643A94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466AE-A7C5-43A5-9DA6-808E32B96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FEA55-ABE7-4888-9768-9FF430C14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0BC65-BD1C-4C46-A7A2-5D60B8845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5B641-D17A-4AC5-8ED2-128622252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8236B-61DF-4C84-8A02-F8A4D9B24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F98CC-1C51-4EC2-A0DD-F58D8790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DA73E-BC37-4DC7-81F5-EE0B882A6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18407-4E0B-4CB3-BA0B-8AD497AD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7F2B9-75EB-4838-8EC3-A3645A9A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98CD5-5A45-45D1-843E-F2747E4D8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28E93-C896-4C54-B46E-D3FC5E31F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CC118-DBE1-4772-9D5B-3A1E87309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01AA8-4D47-4023-A46E-6D9A47F16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40969-A419-48D8-A705-B4336E2D6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96BDA-5491-4AFE-A382-F8E1FD8FE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1BAF4-3E60-4700-B0ED-188E82259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6E3FC-BF5C-4D53-BFF7-7B50E64F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6ED43-7C7E-444E-AB17-3A2F9B8E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877F5-677B-4DD6-A30A-BA99218F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8528E-65C5-44DB-AB64-4A785D756DE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AB943-2A9A-44A6-A4DD-F2DA19E1121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116000" y="189000"/>
            <a:ext cx="7772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ffffff"/>
                </a:solidFill>
                <a:latin typeface="Tahoma"/>
              </a:rPr>
              <a:t>Тема:</a:t>
            </a:r>
            <a:r>
              <a:rPr b="0" lang="tt-RU" sz="4400" spc="-1" strike="noStrike">
                <a:solidFill>
                  <a:srgbClr val="ffffff"/>
                </a:solidFill>
                <a:latin typeface="Tahoma"/>
              </a:rPr>
              <a:t> Мин яратам сине, Татарстан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200" spc="-1" strike="noStrike">
                <a:solidFill>
                  <a:srgbClr val="ffffcc"/>
                </a:solidFill>
                <a:latin typeface="Tahoma"/>
              </a:rPr>
              <a:t>Шиһабетдин Мәрҗан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6362" t="14621" r="0" b="4026"/>
          <a:stretch/>
        </p:blipFill>
        <p:spPr>
          <a:xfrm>
            <a:off x="1908000" y="1341360"/>
            <a:ext cx="5112000" cy="5516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200" spc="-1" strike="noStrike">
                <a:solidFill>
                  <a:srgbClr val="ffffcc"/>
                </a:solidFill>
                <a:latin typeface="Tahoma"/>
              </a:rPr>
              <a:t>Н.И.Лобачевский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979640" y="1268280"/>
            <a:ext cx="4897440" cy="55897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800" spc="-1" strike="noStrike">
                <a:solidFill>
                  <a:srgbClr val="ffffcc"/>
                </a:solidFill>
                <a:latin typeface="Tahoma"/>
              </a:rPr>
              <a:t>Казан Кремле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49600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200" spc="-1" strike="noStrike">
                <a:solidFill>
                  <a:srgbClr val="ffffcc"/>
                </a:solidFill>
                <a:latin typeface="Tahoma"/>
              </a:rPr>
              <a:t>Колшәриф мәчет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340000" y="1600200"/>
            <a:ext cx="4319640" cy="50688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200" spc="-1" strike="noStrike">
                <a:solidFill>
                  <a:srgbClr val="ffffcc"/>
                </a:solidFill>
                <a:latin typeface="Tahoma"/>
              </a:rPr>
              <a:t>Екатерина 2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268360" y="1341360"/>
            <a:ext cx="4464360" cy="5516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200" spc="-1" strike="noStrike">
                <a:solidFill>
                  <a:srgbClr val="ffffcc"/>
                </a:solidFill>
                <a:latin typeface="Tahoma"/>
              </a:rPr>
              <a:t>Федор Шаляпин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824720" cy="53737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800" spc="-1" strike="noStrike">
                <a:solidFill>
                  <a:srgbClr val="ffffcc"/>
                </a:solidFill>
                <a:latin typeface="Tahoma"/>
              </a:rPr>
              <a:t>Татарстан</a:t>
            </a:r>
            <a:r>
              <a:rPr b="0" lang="tt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800" spc="-1" strike="noStrike">
                <a:solidFill>
                  <a:srgbClr val="ffffff"/>
                </a:solidFill>
                <a:latin typeface="Tahoma"/>
              </a:rPr>
              <a:t>Туган илгә мәхәббәт дәүләт символларын хөрмәт итүдән башлан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200" spc="-1" strike="noStrike">
                <a:solidFill>
                  <a:srgbClr val="ffffcc"/>
                </a:solidFill>
                <a:latin typeface="Tahoma"/>
              </a:rPr>
              <a:t>Дәүләт символлары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ffff"/>
                </a:solidFill>
                <a:latin typeface="Tahoma"/>
              </a:rPr>
              <a:t>Герб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lnSpc>
                <a:spcPct val="90000"/>
              </a:lnSpc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ffff"/>
                </a:solidFill>
                <a:latin typeface="Tahoma"/>
              </a:rPr>
              <a:t>Флаг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lnSpc>
                <a:spcPct val="90000"/>
              </a:lnSpc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ffff"/>
                </a:solidFill>
                <a:latin typeface="Tahoma"/>
              </a:rPr>
              <a:t>Гим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lnSpc>
                <a:spcPct val="90000"/>
              </a:lnSpc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ffff"/>
                </a:solidFill>
                <a:latin typeface="Tahoma"/>
              </a:rPr>
              <a:t>Архитектура комплекслар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lnSpc>
                <a:spcPct val="90000"/>
              </a:lnSpc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ffff"/>
                </a:solidFill>
                <a:latin typeface="Tahoma"/>
              </a:rPr>
              <a:t>Скульптура һәйкәлләр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lnSpc>
                <a:spcPct val="90000"/>
              </a:lnSpc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ffff"/>
                </a:solidFill>
                <a:latin typeface="Tahoma"/>
              </a:rPr>
              <a:t>Дәүләт бүләкләре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cc"/>
                </a:solidFill>
                <a:latin typeface="Tahoma"/>
              </a:rPr>
              <a:t>Дәүләт герб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800" spc="-1" strike="noStrike">
                <a:solidFill>
                  <a:srgbClr val="ffffff"/>
                </a:solidFill>
                <a:latin typeface="Tahoma"/>
              </a:rPr>
              <a:t>Аерым бер дәүләтнең, өлкә яки шәһәрнең байракларында, акча һәм мөһерләренә ясалган тамгасы, дәүләт билгесе, махсус эмблемасы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03280" y="0"/>
            <a:ext cx="640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200" spc="-1" strike="noStrike">
                <a:solidFill>
                  <a:srgbClr val="ffffcc"/>
                </a:solidFill>
                <a:latin typeface="Tahoma"/>
              </a:rPr>
              <a:t>Дәүләт гимны -</a:t>
            </a:r>
            <a:r>
              <a:rPr b="0" lang="tt-RU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800" spc="-1" strike="noStrike">
                <a:solidFill>
                  <a:srgbClr val="ffffff"/>
                </a:solidFill>
                <a:latin typeface="Tahoma"/>
              </a:rPr>
              <a:t>Дәүләт яки аерым сыйныфның бердәмлеге символы итеп кабул ителгән тантаналы җыр, мәдхия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200" spc="-1" strike="noStrike">
                <a:solidFill>
                  <a:srgbClr val="ffffcc"/>
                </a:solidFill>
                <a:latin typeface="Tahoma"/>
              </a:rPr>
              <a:t>Дәүләт флагы -</a:t>
            </a:r>
            <a:r>
              <a:rPr b="0" lang="tt-RU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800" spc="-1" strike="noStrike">
                <a:solidFill>
                  <a:srgbClr val="ffffff"/>
                </a:solidFill>
                <a:latin typeface="Tahoma"/>
              </a:rPr>
              <a:t>Кабул ителгән зурлыктагы һәм төстәге гадәттә герблы, эмблемалы, бер ягы таякка яки  шнурга беркетелгән тукыма кисәге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200" spc="-1" strike="noStrike">
                <a:solidFill>
                  <a:srgbClr val="ffffcc"/>
                </a:solidFill>
                <a:latin typeface="Tahoma"/>
              </a:rPr>
              <a:t>Россия герб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ahoma"/>
              </a:rPr>
              <a:t>шәхеснең Россия гражданины булуын раслаучы документлар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ahoma"/>
              </a:rPr>
              <a:t>дәүләти үрнәктәге башка документлар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ahoma"/>
              </a:rPr>
              <a:t>чик буе баганаларын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ahoma"/>
              </a:rPr>
              <a:t>акча билгеләрендә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ahoma"/>
              </a:rPr>
              <a:t>дәүләт бүләкләрендә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ahoma"/>
              </a:rPr>
              <a:t>биналарның алгы ягын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200" spc="-1" strike="noStrike">
                <a:solidFill>
                  <a:srgbClr val="ffffcc"/>
                </a:solidFill>
                <a:latin typeface="Tahoma"/>
              </a:rPr>
              <a:t>Татарстан гербы -</a:t>
            </a:r>
            <a:r>
              <a:rPr b="0" lang="tt-RU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ahoma"/>
              </a:rPr>
              <a:t>Татарстан президенты резиденциясендә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ahoma"/>
              </a:rPr>
              <a:t>Татарстан министрлар, Татарстан судлары  кабинетларын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ahoma"/>
              </a:rPr>
              <a:t>Татарстан муниципаль берәмлекләре биналарын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ahoma"/>
              </a:rPr>
              <a:t>Татарстанда власть органнары җитәкчеләренең эш кабинетларын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ahoma"/>
              </a:rPr>
              <a:t>мөһерләрдә, рәсми матбугат басмаларын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7T11:34:48Z</dcterms:created>
  <dc:creator>Ирек</dc:creator>
  <dc:description/>
  <dc:language>en-US</dc:language>
  <cp:lastModifiedBy>Хайруллина</cp:lastModifiedBy>
  <dcterms:modified xsi:type="dcterms:W3CDTF">2011-04-25T06:42:52Z</dcterms:modified>
  <cp:revision>5</cp:revision>
  <dc:subject/>
  <dc:title>Слайд 1</dc:title>
</cp:coreProperties>
</file>