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BFE-B72F-445F-8059-BABAD280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91B-23D1-438D-A9CA-7C6783A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63E-16A8-4228-B807-959AAF75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012-79E1-42F9-A744-8051712C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F77-9A0E-4E8F-A3BD-71C10E02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1C97-8484-4B4F-873C-EAEA1544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78C1-8F0A-4D85-B6CC-328A78FB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7015-67B1-464F-8399-8798C8DE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6172-CBC0-4C19-92AA-A6E868A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E179-5BAE-43DF-B0C0-AB2A594B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EAB5-AD5D-4D9C-B17D-C995275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1A5-0A49-4F37-876A-7C6C7A65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3897-1FF1-4633-B4EC-464191B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5668-0534-4BD8-9F9C-C1E6247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17E4-E574-4B46-97DD-137E0386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98A4-CD86-4351-96F3-AB7782E6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8A01-1AA0-4504-8298-4F12CB94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643-0F76-4428-A2FD-C80DC17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999-F33B-4943-8038-B3379E4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9CF-FBCB-43EB-B597-6C1B40C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B6A-D6D1-4979-8377-E55C62F4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1DA-9944-4A45-96EE-A3B2B08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1E5-664A-428F-9A62-7CA40C7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5EA-C840-47D2-A78F-9B81D0F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65DA-4EC1-46C0-A0AA-088FE9DCA0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EDB-0B0A-470D-AA28-BB12B3BA0F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050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0066"/>
                </a:solidFill>
                <a:uFillTx/>
                <a:latin typeface="Arial"/>
              </a:rPr>
              <a:t>Урок-презентация </a:t>
            </a:r>
            <a:br>
              <a:rPr sz="3200"/>
            </a:b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Формула перехода от одного основания логарифма к другому</a:t>
            </a: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71640" y="4581360"/>
            <a:ext cx="6121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БОУ СОШ №593 Петрова Наталья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637000"/>
          <a:ext cx="91440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9144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360" y="1413000"/>
          <a:ext cx="468000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4680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24000" y="1844640"/>
          <a:ext cx="5256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5256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105520" y="2492280"/>
          <a:ext cx="403848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92280"/>
                    <a:ext cx="403848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0" y="1341360"/>
          <a:ext cx="4500720" cy="40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41360"/>
                    <a:ext cx="4500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2060640"/>
          <a:ext cx="507672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07672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771640" y="2519280"/>
          <a:ext cx="4140360" cy="23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519280"/>
                    <a:ext cx="414036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916280"/>
          <a:ext cx="727236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727236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549360"/>
          <a:ext cx="662616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6626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ести формулы перехода от одного основания логарифма к другом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репить решением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700280"/>
          <a:ext cx="822960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58920" y="1484280"/>
          <a:ext cx="8785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484280"/>
                    <a:ext cx="8785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557360"/>
          <a:ext cx="88200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820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149720"/>
          <a:ext cx="9144000" cy="18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49720"/>
                    <a:ext cx="914400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1557360"/>
          <a:ext cx="8820000" cy="20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57360"/>
                    <a:ext cx="8820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65000"/>
          <a:ext cx="8856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8856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765000"/>
          <a:ext cx="8856720" cy="511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5000"/>
                    <a:ext cx="8856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394160" y="2273400"/>
          <a:ext cx="91440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4160" y="227340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10160" y="2489040"/>
          <a:ext cx="914400" cy="1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0160" y="2489040"/>
                    <a:ext cx="914400" cy="1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394160" y="2273400"/>
          <a:ext cx="914400" cy="1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4160" y="227340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0920" y="476280"/>
          <a:ext cx="7561080" cy="518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76280"/>
                    <a:ext cx="75610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92360" y="189000"/>
          <a:ext cx="54720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9000"/>
                    <a:ext cx="54720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195640" y="1989000"/>
          <a:ext cx="3456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1989000"/>
                    <a:ext cx="3456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835280" y="3141720"/>
          <a:ext cx="4066920" cy="9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40669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484360" y="4508640"/>
          <a:ext cx="309564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508640"/>
                    <a:ext cx="30956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484360" y="404640"/>
          <a:ext cx="446580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44658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916360" y="1557360"/>
          <a:ext cx="360036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557360"/>
                    <a:ext cx="36003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340000" y="3141720"/>
          <a:ext cx="4680000" cy="10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3141720"/>
                    <a:ext cx="46800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556000" y="4581360"/>
          <a:ext cx="4032000" cy="14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4581360"/>
                    <a:ext cx="403200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4:08:38Z</dcterms:created>
  <dc:creator>admin</dc:creator>
  <dc:description/>
  <dc:language>en-US</dc:language>
  <cp:lastModifiedBy>1</cp:lastModifiedBy>
  <dcterms:modified xsi:type="dcterms:W3CDTF">2012-01-16T16:21:13Z</dcterms:modified>
  <cp:revision>8</cp:revision>
  <dc:subject/>
  <dc:title>Решение логарифмических уравнений</dc:title>
</cp:coreProperties>
</file>