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C6F-5F4D-48F0-91AC-955158A59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DB4-154B-4DEC-8E5F-34D8E2689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B948-FFFC-403B-A4A1-D5496796F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B22-CCC6-425F-8654-41FF6A42D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B88-E81C-42A6-9D99-3C88883CE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E858-BA80-4479-B670-2253BAC4E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188-C200-4098-89EC-49F069B11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060-B8BD-42C4-9CBF-B6A17496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A1F-C83E-4EED-857C-A84921B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140-6496-408E-A9E7-6AF1D167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E19-545B-43A7-AF9C-6F89A2DD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8B2-60D2-47C1-BF0C-7C6D1178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C51-E855-4A56-988B-24FBF674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FA4-6F3B-4ACB-AAFD-CCF5ED2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DD6-7A63-48E4-AB5A-AF0750A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1D3-DA74-4D48-B266-4505E235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F74-9CA8-4F9C-9F31-C3BD254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4BD-A70C-4BF9-BA60-7AE7EA7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622-BDEE-4311-A4E9-6330FA0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EA9-0884-44DC-A172-1A8B6081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scree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569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«Универсальные учебные действ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39600" y="4786200"/>
            <a:ext cx="55040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нюк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7642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</a:t>
            </a: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Arial"/>
              </a:rPr>
              <a:t>мыслообразова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ценностных ориентиров и смыслов учебной деятельности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звития познавательных интересов, учебных моти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я мотивов достижения и социального при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я границ собственного знания и «незн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74278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Arial"/>
              </a:rPr>
              <a:t>Морально-этическая ориентаци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14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нание основных    моральных норм (справедливое распределение, взаимопомощь, естествен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14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иентация на выполнение моральных нор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14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особность к решению моральных проблем на основе децент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14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ценка своих поступ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Organization Chart 3"/>
          <p:cNvGrpSpPr/>
          <p:nvPr/>
        </p:nvGrpSpPr>
        <p:grpSpPr>
          <a:xfrm>
            <a:off x="1279800" y="2053440"/>
            <a:ext cx="6438960" cy="3554640"/>
            <a:chOff x="1279800" y="2053440"/>
            <a:chExt cx="6438960" cy="3554640"/>
          </a:xfrm>
        </p:grpSpPr>
        <p:cxnSp>
          <p:nvCxnSpPr>
            <p:cNvPr id="83" name="_s2052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30800" y="2712960"/>
              <a:ext cx="773640" cy="2234160"/>
            </a:xfrm>
            <a:prstGeom prst="bentConnector3">
              <a:avLst>
                <a:gd name="adj1" fmla="val 16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053"/>
            <p:cNvCxnSpPr>
              <a:stCxn id="87" idx="0"/>
              <a:endCxn id="85" idx="2"/>
            </p:cNvCxnSpPr>
            <p:nvPr/>
          </p:nvCxnSpPr>
          <p:spPr>
            <a:xfrm flipV="1">
              <a:off x="4500720" y="3443400"/>
              <a:ext cx="2520" cy="77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054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996280" y="2712600"/>
              <a:ext cx="773640" cy="2235600"/>
            </a:xfrm>
            <a:prstGeom prst="bentConnector3">
              <a:avLst>
                <a:gd name="adj1" fmla="val 16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2055"/>
            <p:cNvSpPr/>
            <p:nvPr/>
          </p:nvSpPr>
          <p:spPr>
            <a:xfrm>
              <a:off x="3715920" y="2053440"/>
              <a:ext cx="1568160" cy="1390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Arial Black"/>
                </a:rPr>
                <a:t>Познав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Arial Black"/>
                </a:rPr>
                <a:t>тельны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Arial Black"/>
                </a:rPr>
                <a:t>действ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056"/>
            <p:cNvSpPr/>
            <p:nvPr/>
          </p:nvSpPr>
          <p:spPr>
            <a:xfrm>
              <a:off x="1279800" y="4217400"/>
              <a:ext cx="1971720" cy="1390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Обще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учеб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3513600" y="4217400"/>
              <a:ext cx="1971720" cy="1390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Логическ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2058"/>
            <p:cNvSpPr/>
            <p:nvPr/>
          </p:nvSpPr>
          <p:spPr>
            <a:xfrm>
              <a:off x="5747040" y="4217400"/>
              <a:ext cx="1971720" cy="1390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Постанов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и реш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 Black"/>
                </a:rPr>
                <a:t>пробле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6760" y="1357200"/>
            <a:ext cx="859788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бщеучебные универсаль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существление поиска необходимой информации для выполнения учебных заданий с использованием учеб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спользование знаково-символических средств, в том числе моделей и схем для решения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сознанное и произвольное построение речевого высказывания в устной и письменной фор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иентировка на разнообразие способов решения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труктурировани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64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6760" y="1356840"/>
            <a:ext cx="859788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огические учеб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Основы смыслового чтения художественных и познавательных текстов; уметь выделять существенную информацию из текстов разных ви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умение осуществлять анализ объектов с выделением существенных и несущественн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умение осуществлять синтез как составление целого из ча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умение осуществлять сравнение, сериацию и классификацию по заданным критер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умение устанавливать причинно-следственн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умение строить рассуждения в форме связи простых суждений об объекте, его строении, свойствах и связ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доказ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ыдвижение гипотез и их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мыслов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Чтение для понимания содержания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Чтение  для понимания смысла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Чтение  для создания своего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Постановка и 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Формулирование пробл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амостоятельное создание способов решени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ак недостаток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ак избыток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ак наличие противоре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ак нелогичность (непоследовательность) изложения с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гулятив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rganization Chart 3"/>
          <p:cNvGrpSpPr/>
          <p:nvPr/>
        </p:nvGrpSpPr>
        <p:grpSpPr>
          <a:xfrm>
            <a:off x="214200" y="1831680"/>
            <a:ext cx="8786520" cy="4168440"/>
            <a:chOff x="214200" y="1831680"/>
            <a:chExt cx="8786520" cy="4168440"/>
          </a:xfrm>
        </p:grpSpPr>
        <p:cxnSp>
          <p:nvCxnSpPr>
            <p:cNvPr id="102" name="_s3076"/>
            <p:cNvCxnSpPr>
              <a:stCxn id="103" idx="0"/>
              <a:endCxn id="104" idx="2"/>
            </p:cNvCxnSpPr>
            <p:nvPr/>
          </p:nvCxnSpPr>
          <p:spPr>
            <a:xfrm flipV="1">
              <a:off x="5356440" y="4340880"/>
              <a:ext cx="1800" cy="456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077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254640" y="1326960"/>
              <a:ext cx="456120" cy="374904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078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5505120" y="2076480"/>
              <a:ext cx="456120" cy="225036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3079"/>
            <p:cNvCxnSpPr>
              <a:stCxn id="104" idx="0"/>
              <a:endCxn id="107" idx="2"/>
            </p:cNvCxnSpPr>
            <p:nvPr/>
          </p:nvCxnSpPr>
          <p:spPr>
            <a:xfrm flipV="1" rot="16200000">
              <a:off x="4754160" y="2827440"/>
              <a:ext cx="456120" cy="74844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3080"/>
            <p:cNvCxnSpPr>
              <a:stCxn id="112" idx="0"/>
              <a:endCxn id="107" idx="2"/>
            </p:cNvCxnSpPr>
            <p:nvPr/>
          </p:nvCxnSpPr>
          <p:spPr>
            <a:xfrm flipH="1" flipV="1" rot="5400000">
              <a:off x="4005360" y="2826000"/>
              <a:ext cx="456120" cy="75132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3081"/>
            <p:cNvCxnSpPr>
              <a:stCxn id="114" idx="0"/>
              <a:endCxn id="107" idx="2"/>
            </p:cNvCxnSpPr>
            <p:nvPr/>
          </p:nvCxnSpPr>
          <p:spPr>
            <a:xfrm flipH="1" flipV="1" rot="5400000">
              <a:off x="3254400" y="2075400"/>
              <a:ext cx="456120" cy="225288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82"/>
            <p:cNvCxnSpPr>
              <a:stCxn id="116" idx="0"/>
              <a:endCxn id="107" idx="2"/>
            </p:cNvCxnSpPr>
            <p:nvPr/>
          </p:nvCxnSpPr>
          <p:spPr>
            <a:xfrm flipH="1" flipV="1" rot="5400000">
              <a:off x="2504880" y="1325880"/>
              <a:ext cx="456120" cy="3751560"/>
            </a:xfrm>
            <a:prstGeom prst="bentConnector3">
              <a:avLst>
                <a:gd name="adj1" fmla="val 246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3083"/>
            <p:cNvSpPr/>
            <p:nvPr/>
          </p:nvSpPr>
          <p:spPr>
            <a:xfrm>
              <a:off x="3668760" y="1831680"/>
              <a:ext cx="1878120" cy="114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Регулятив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действ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3084"/>
            <p:cNvSpPr/>
            <p:nvPr/>
          </p:nvSpPr>
          <p:spPr>
            <a:xfrm>
              <a:off x="214200" y="3430080"/>
              <a:ext cx="128520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Целепола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г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3085"/>
            <p:cNvSpPr/>
            <p:nvPr/>
          </p:nvSpPr>
          <p:spPr>
            <a:xfrm>
              <a:off x="1713960" y="3430080"/>
              <a:ext cx="128556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3333cc"/>
                  </a:solidFill>
                  <a:latin typeface="Arial Black"/>
                </a:rPr>
                <a:t>Планиро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3333cc"/>
                  </a:solidFill>
                  <a:latin typeface="Arial Black"/>
                </a:rPr>
                <a:t>вание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3086"/>
            <p:cNvSpPr/>
            <p:nvPr/>
          </p:nvSpPr>
          <p:spPr>
            <a:xfrm>
              <a:off x="3214440" y="3430080"/>
              <a:ext cx="128520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Прогно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3333cc"/>
                  </a:solidFill>
                  <a:latin typeface="Arial Black"/>
                </a:rPr>
                <a:t>зирование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3087"/>
            <p:cNvSpPr/>
            <p:nvPr/>
          </p:nvSpPr>
          <p:spPr>
            <a:xfrm>
              <a:off x="4714560" y="3430080"/>
              <a:ext cx="128556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3088"/>
            <p:cNvSpPr/>
            <p:nvPr/>
          </p:nvSpPr>
          <p:spPr>
            <a:xfrm>
              <a:off x="6215040" y="3430080"/>
              <a:ext cx="128556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Коррек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3089"/>
            <p:cNvSpPr/>
            <p:nvPr/>
          </p:nvSpPr>
          <p:spPr>
            <a:xfrm>
              <a:off x="7715520" y="3430080"/>
              <a:ext cx="1285200" cy="9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Black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3090"/>
            <p:cNvSpPr/>
            <p:nvPr/>
          </p:nvSpPr>
          <p:spPr>
            <a:xfrm>
              <a:off x="4714560" y="4797360"/>
              <a:ext cx="1285560" cy="120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Волева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са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рег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Arial Black"/>
                </a:rPr>
                <a:t>ля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гулятив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нимать и сохранять учебную зада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ланировать свое действие в соответствии с поставленной задачей и условиями ее реализации, в том числе во внутреннем план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Учебная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ем отличаются УУД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ежпредмет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щеучебны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840" y="189000"/>
            <a:ext cx="869472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гулятив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669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учитывать правило в планировании и контроле способа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осуществлять итоговый и пошаговый контроль по результа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адекватно воспринимать оценку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азличать способ и результат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уметь оценивать правильность выполнения действия на уровне адекватной ретроспективной оцен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гулятив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носить необходимые коррективы в действие после его завершения на основе его оценки и учета характера  сделанных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полнять учебные действия в материализованной, громкоречевой и умственной 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ммуникатив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3"/>
          <p:cNvGrpSpPr/>
          <p:nvPr/>
        </p:nvGrpSpPr>
        <p:grpSpPr>
          <a:xfrm>
            <a:off x="214200" y="1948680"/>
            <a:ext cx="8692920" cy="3401280"/>
            <a:chOff x="214200" y="1948680"/>
            <a:chExt cx="8692920" cy="3401280"/>
          </a:xfrm>
        </p:grpSpPr>
        <p:cxnSp>
          <p:nvCxnSpPr>
            <p:cNvPr id="125" name="_s4100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902200" y="1962720"/>
              <a:ext cx="679320" cy="3364200"/>
            </a:xfrm>
            <a:prstGeom prst="bentConnector3">
              <a:avLst>
                <a:gd name="adj1" fmla="val 16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101"/>
            <p:cNvCxnSpPr>
              <a:stCxn id="129" idx="0"/>
              <a:endCxn id="127" idx="2"/>
            </p:cNvCxnSpPr>
            <p:nvPr/>
          </p:nvCxnSpPr>
          <p:spPr>
            <a:xfrm flipV="1" rot="16200000">
              <a:off x="4781880" y="3083040"/>
              <a:ext cx="679320" cy="1123200"/>
            </a:xfrm>
            <a:prstGeom prst="bentConnector3">
              <a:avLst>
                <a:gd name="adj1" fmla="val 16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4102"/>
            <p:cNvCxnSpPr>
              <a:stCxn id="131" idx="0"/>
              <a:endCxn id="127" idx="2"/>
            </p:cNvCxnSpPr>
            <p:nvPr/>
          </p:nvCxnSpPr>
          <p:spPr>
            <a:xfrm flipH="1" flipV="1" rot="5400000">
              <a:off x="3660480" y="3084120"/>
              <a:ext cx="679320" cy="1121760"/>
            </a:xfrm>
            <a:prstGeom prst="bentConnector3">
              <a:avLst>
                <a:gd name="adj1" fmla="val 16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103"/>
            <p:cNvCxnSpPr>
              <a:stCxn id="133" idx="0"/>
              <a:endCxn id="127" idx="2"/>
            </p:cNvCxnSpPr>
            <p:nvPr/>
          </p:nvCxnSpPr>
          <p:spPr>
            <a:xfrm flipH="1" flipV="1" rot="5400000">
              <a:off x="2540160" y="1963800"/>
              <a:ext cx="679320" cy="3362400"/>
            </a:xfrm>
            <a:prstGeom prst="bentConnector3">
              <a:avLst>
                <a:gd name="adj1" fmla="val 16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4104"/>
            <p:cNvSpPr/>
            <p:nvPr/>
          </p:nvSpPr>
          <p:spPr>
            <a:xfrm>
              <a:off x="3652200" y="1948680"/>
              <a:ext cx="1816560" cy="13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Коммун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катив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 </a:t>
              </a: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4105"/>
            <p:cNvSpPr/>
            <p:nvPr/>
          </p:nvSpPr>
          <p:spPr>
            <a:xfrm>
              <a:off x="214200" y="3984480"/>
              <a:ext cx="1965960" cy="1365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Планиро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ва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учебног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сотрудни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чест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4106"/>
            <p:cNvSpPr/>
            <p:nvPr/>
          </p:nvSpPr>
          <p:spPr>
            <a:xfrm>
              <a:off x="2456280" y="3984480"/>
              <a:ext cx="1966320" cy="1365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Постановк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вопросо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4107"/>
            <p:cNvSpPr/>
            <p:nvPr/>
          </p:nvSpPr>
          <p:spPr>
            <a:xfrm>
              <a:off x="4698720" y="3984480"/>
              <a:ext cx="1965960" cy="1365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Постро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речев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высказы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 Black"/>
                </a:rPr>
                <a:t>в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4108"/>
            <p:cNvSpPr/>
            <p:nvPr/>
          </p:nvSpPr>
          <p:spPr>
            <a:xfrm>
              <a:off x="6941160" y="3984480"/>
              <a:ext cx="1965960" cy="1365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Лидерство 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согласова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действий 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Black"/>
                </a:rPr>
                <a:t>партнер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ммуника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SmartArt 3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263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ммуникация как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400" y="1642680"/>
            <a:ext cx="8055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онимать возможность различных позиций других людей, отличных от собственно,   и ориентироваться на позицию партнера в общении и взаимодейств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читывать разные мнения и стремиться к координации различных позиций в сотруднич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формулировать собственное мнение и поз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договариваться и приходить к общему решению в совместной деятельности, в том числе в ситуации столкновения интер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ммуникация как интерио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8597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 в коммуникации строить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понятные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для партнера высказывания, учитывающие, что он знает и видит, а что 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задавать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контролировать действия партн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меть использовать речь для регуляции своего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декватно использовать речевые средства для решения различных коммуникативных задач; строить монологическое высказывание, владеть диалогической форм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28684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ребования к результатам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иентация на результ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120" y="171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Личностные результат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– сформировавшиеся в образовательном процессе мотивы деятельности, система ценностных отношений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Метапредметные результат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– освоенные обучающимися на базе нескольких или всех учебных предметов обобщенные способ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едметные результат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- выражаются в усвоении обучаемыми конкретных элементов социального опыта, изучаемого в рамках отдельных 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E3D-70FA-41AD-9BDF-4BB78E23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429000" y="46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ребования к результатам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иентация на результ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80071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озникновение понятия «универсальные учебные действия» связано с изменением парадигмы образования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от усвоения знаний, умений и навыков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 развитию Личности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онятие УУ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400" y="928800"/>
            <a:ext cx="825804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мение учиться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Полноценное освоение школьниками компонентов учеб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Познавательные и учебные моти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чебная ц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чебная задач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чебные действия и операции (ориентировка, преобразование материал, контроль и оце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Универсальные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учебные действия  (УУД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cc"/>
                </a:solidFill>
                <a:latin typeface="Arial"/>
              </a:rPr>
              <a:t>обеспечивают способность учащегося к САМОразвитию и САМОсовершенствованию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33cc"/>
                </a:solidFill>
                <a:latin typeface="Arial"/>
              </a:rPr>
              <a:t>посредством сознательного и активного присвоения нового социального опыт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cc"/>
                </a:solidFill>
                <a:latin typeface="Arial"/>
              </a:rPr>
              <a:t>Умение учиться и развиватьс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580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иды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57280" y="1785600"/>
            <a:ext cx="74282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1666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зна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егуля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1666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"/>
          <p:cNvGrpSpPr/>
          <p:nvPr/>
        </p:nvGrpSpPr>
        <p:grpSpPr>
          <a:xfrm>
            <a:off x="285840" y="2325600"/>
            <a:ext cx="8672040" cy="3254760"/>
            <a:chOff x="285840" y="2325600"/>
            <a:chExt cx="8672040" cy="3254760"/>
          </a:xfrm>
        </p:grpSpPr>
        <p:cxnSp>
          <p:nvCxnSpPr>
            <p:cNvPr id="68" name="_s1028"/>
            <p:cNvCxnSpPr>
              <a:stCxn id="69" idx="0"/>
              <a:endCxn id="70" idx="2"/>
            </p:cNvCxnSpPr>
            <p:nvPr/>
          </p:nvCxnSpPr>
          <p:spPr>
            <a:xfrm flipV="1" rot="16200000">
              <a:off x="5799240" y="2450160"/>
              <a:ext cx="651600" cy="3005280"/>
            </a:xfrm>
            <a:prstGeom prst="bentConnector3">
              <a:avLst>
                <a:gd name="adj1" fmla="val 166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29"/>
            <p:cNvCxnSpPr>
              <a:stCxn id="72" idx="0"/>
              <a:endCxn id="70" idx="2"/>
            </p:cNvCxnSpPr>
            <p:nvPr/>
          </p:nvCxnSpPr>
          <p:spPr>
            <a:xfrm flipV="1">
              <a:off x="4622400" y="3627360"/>
              <a:ext cx="3240" cy="65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0"/>
            <p:cNvCxnSpPr>
              <a:stCxn id="74" idx="0"/>
              <a:endCxn id="70" idx="2"/>
            </p:cNvCxnSpPr>
            <p:nvPr/>
          </p:nvCxnSpPr>
          <p:spPr>
            <a:xfrm flipH="1" flipV="1" rot="5400000">
              <a:off x="2794680" y="2450520"/>
              <a:ext cx="651600" cy="3005280"/>
            </a:xfrm>
            <a:prstGeom prst="bentConnector3">
              <a:avLst>
                <a:gd name="adj1" fmla="val 166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0" name="_s1031"/>
            <p:cNvSpPr/>
            <p:nvPr/>
          </p:nvSpPr>
          <p:spPr>
            <a:xfrm>
              <a:off x="3598200" y="2325600"/>
              <a:ext cx="2046600" cy="130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cc"/>
                  </a:solidFill>
                  <a:latin typeface="Arial"/>
                </a:rPr>
                <a:t>Личностные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3333cc"/>
                  </a:solidFill>
                  <a:latin typeface="Arial"/>
                </a:rPr>
                <a:t>УУД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2"/>
            <p:cNvSpPr/>
            <p:nvPr/>
          </p:nvSpPr>
          <p:spPr>
            <a:xfrm>
              <a:off x="285840" y="4278600"/>
              <a:ext cx="2662920" cy="130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Самоопредел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033"/>
            <p:cNvSpPr/>
            <p:nvPr/>
          </p:nvSpPr>
          <p:spPr>
            <a:xfrm>
              <a:off x="3290400" y="4278600"/>
              <a:ext cx="2662920" cy="130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333cc"/>
                  </a:solidFill>
                  <a:latin typeface="Arial"/>
                </a:rPr>
                <a:t>Смыслообраз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034"/>
            <p:cNvSpPr/>
            <p:nvPr/>
          </p:nvSpPr>
          <p:spPr>
            <a:xfrm>
              <a:off x="6294960" y="4278600"/>
              <a:ext cx="2662920" cy="130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Нравственно-этическое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оцени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6760" y="1356840"/>
            <a:ext cx="82868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Arial"/>
              </a:rPr>
              <a:t>Самоопреде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49"/>
              </a:spcBef>
              <a:buNone/>
              <a:tabLst>
                <a:tab algn="l" pos="0"/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7240" indent="-163080"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Формирование  основ гражданской идентичности личности (чувство сопричастности к своей Родине, осознание своей этнической принадлежности и культурной идентичности на основе осознания «Я» как гражданина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163080"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Формирование картины мира культуры как порождения трудовой предметно-преобразующей деятельности человека (ознакомление с миром профессий, их социальной значимостью и содерж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163080"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звитие «Я-концепции» и самооценки личности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формирование самоиндентификации, адекватной позитивной самооценки, самоуважения и самопринятия)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6283440"/>
                <a:tab algn="l" pos="7078680"/>
                <a:tab algn="l" pos="718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6:33Z</dcterms:created>
  <dc:creator>USER</dc:creator>
  <dc:description/>
  <dc:language>en-US</dc:language>
  <cp:lastModifiedBy>Ольга</cp:lastModifiedBy>
  <dcterms:modified xsi:type="dcterms:W3CDTF">2011-11-24T03:46:00Z</dcterms:modified>
  <cp:revision>58</cp:revision>
  <dc:subject/>
  <dc:title>Логвинова И.М. – заместитель директора ИСИО РАО</dc:title>
</cp:coreProperties>
</file>