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0880-F412-417D-995A-467978153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917D-A277-4B08-BA26-E659C1233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030A-5DE3-4188-9C1A-A31B1F675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895E-4EC0-4090-8AD9-CCE3B22A0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D209B-2899-412A-A74F-498AC1662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23448-745B-4785-947C-E2097989A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9AC88-1F1C-4105-AEB9-B5C25BC30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C21A0-9380-4497-8A30-A9C4A3F5B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4FA24-A3B9-44A7-9A06-9802AAF1F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AEBB6-7690-40D4-8789-55DD4122A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9ED15-35B2-411A-A63B-A57A498BB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07C8-ABA0-4699-991B-78BEE63BC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F511E-41FC-4A52-95E4-A4F5EF2BE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EF605-B020-4854-9645-A504256C3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C1CB7-2574-4355-A613-F409A016D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836BB-09C8-477A-9143-8FE426DB2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DB524-92A5-42F2-BF63-A9F4B23D9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4A890E-517F-41C3-BC90-514D79789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6436D6-031A-483A-92E8-C522F9518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9183E0-4F83-4A7D-ACA5-93871C98B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1CF335-790F-4FAD-AD04-418C8A19B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E0C4CF-292A-40F9-BBE7-0C57C5E6C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B898-4ACC-4244-BEA1-F5CB6C26C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24379A-1366-4050-BA8F-05F5B34B0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FC7A93-EF0D-42D0-8E81-81E94CAE1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FD1602-3286-44BD-90DC-903E973ED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E7FB4D-93E9-4BF3-9677-2897ED0BB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696105-0882-4E1A-9A8B-B14948177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D86E18-3F6C-4F8F-A845-681E8B233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A3404F-6E18-4666-A96F-A804E47A6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3084A8-54AC-41F5-B254-1227D83A7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908171-65BA-418D-96D4-7595302C1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3C2E06-EA08-442A-B84B-61EA4260D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72AF-6933-4845-81AC-16F7CC29C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2115A1-7FE8-47C9-B63A-3C4D3870A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A14190-DFA1-4BAC-9C59-D7A1AD0BC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A6096B-ABB9-423E-88D4-A8A3B4E89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DF4FDD-E492-4758-9458-D6635C8FA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35562E-D833-4722-98B1-40390E680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B6AAF2-055E-410A-B057-65B3852C5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BA959E-1CCB-43B4-BA8A-CAF4AE454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1CE5A0-08FD-4206-9BD2-2A26C4272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5D86D4-4B6E-4561-AB24-17E7CB33E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8BBA25-2CD0-4181-A1E9-84037160B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0684-1F63-4211-B0E8-46EE44781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74F8EA-00EF-4DBD-8608-85245B105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11D674-4667-4059-8F85-41B533043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A2D41E-0C01-4647-A7A5-D38E55A75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4FF4D6-14DA-4B1A-8135-942080E9D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9BC463-0143-48F3-9A13-2919F922B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EFC0E4-4615-4CFF-88CF-7FC7EFB76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784C37-6228-4165-9117-A44F06BAB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AB5DC1-C22D-4802-98C0-51266AFEE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0A23BD-5329-43A0-A409-5F4696540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368121-03C1-449C-947C-07D5C6B99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C5BE-6FC3-45C0-8A42-F238F8ADF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1EEB73-2787-4008-AB69-E712FB7E3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92CE24D-336C-4E9A-8795-CFD14DB24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E57C1A5-C59F-442A-9999-A0B96CD9C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371376C-E03C-41C9-BC6C-607F67FD7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970B334-3BC6-4210-A7A3-15A6DE399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7B660E9-EA3D-4AD4-91B4-0EE6DFE8D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CC4B399-FE97-44A8-92DF-CE9711C05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87E1F59-F5E1-4B26-95A1-DF3600A65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70E6B4A-74AE-4255-BE89-933A78549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DD6C916-691F-4A56-92FA-55AADEFEF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2A3D-8609-4A4A-9A5F-41B9A2706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802E97E-0B33-491F-A039-41C0A1239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E69F22B-A7A7-42FE-B6EA-8C56B5F56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D12A96A-9C36-4576-9D74-0C13474CA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ED6CB4B-5A8B-4B7E-8D71-3FF21B6F7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2CA83AD-F0DD-4CBA-84EE-A36C298A3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FCFC55A-038E-48DE-BB86-425049A4E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4C853F1-9078-4B47-9C42-614BE46A0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EEC05C7-4002-4078-9FAC-EA69AD422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5892CE8-B49B-4C5A-AC74-02142FB6F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D68EF3B-F5E8-40E8-B11D-0E99B52E1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9D54-84E4-4A78-AA68-28CD1D193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156CC60-AC45-4163-8132-DA7B699CC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C86C08C-BB2B-4083-B0FB-9A77EBB6E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9550B42-B49B-48BD-9344-217E20F8F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D847BDD-2081-41CB-B0EF-08728633C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1BFC937-FDD0-4CEF-87A2-8410EFACF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F004-956A-4D66-BB06-DF99C377E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2CC11-8102-4942-A397-E82E82C664A5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40908-A53D-401D-ACFD-55C6B82B538C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8EC08-E52E-4168-9E95-6D0C22494442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49C46-6538-41FF-92EC-B91608A21040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F25C1-2956-47C3-B608-76EB2715EF1D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83406-883D-4830-8E61-87662DDCB1AA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EAB7D-5780-4DB0-831D-F484264D9BA8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785960" y="1071360"/>
            <a:ext cx="68580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e75c01"/>
                </a:solidFill>
                <a:uFillTx/>
                <a:latin typeface="Times New Roman"/>
                <a:ea typeface="Times New Roman"/>
              </a:rPr>
              <a:t>ВНЕУРОЧНАЯ ДЕЯТЕЛЬНОСТЬ В 1 «В» КЛАССЕ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000160" y="27860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e75c01"/>
                </a:solidFill>
                <a:latin typeface="Times New Roman"/>
                <a:ea typeface="Times New Roman"/>
              </a:rPr>
              <a:t>«Познаем окружающий нас мир»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wheel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Рисунок 1" descr="C:\Users\Алексей\Desktop\HPIM3253.JPG"/>
          <p:cNvPicPr/>
          <p:nvPr/>
        </p:nvPicPr>
        <p:blipFill>
          <a:blip r:embed="rId1"/>
          <a:stretch/>
        </p:blipFill>
        <p:spPr>
          <a:xfrm>
            <a:off x="285840" y="285840"/>
            <a:ext cx="3909960" cy="3000240"/>
          </a:xfrm>
          <a:prstGeom prst="rect">
            <a:avLst/>
          </a:prstGeom>
          <a:ln w="0">
            <a:noFill/>
          </a:ln>
        </p:spPr>
      </p:pic>
      <p:pic>
        <p:nvPicPr>
          <p:cNvPr id="386" name="Рисунок 2" descr="C:\Users\Алексей\Desktop\HPIM3263.JPG"/>
          <p:cNvPicPr/>
          <p:nvPr/>
        </p:nvPicPr>
        <p:blipFill>
          <a:blip r:embed="rId2"/>
          <a:stretch/>
        </p:blipFill>
        <p:spPr>
          <a:xfrm>
            <a:off x="4572000" y="214200"/>
            <a:ext cx="4071960" cy="3000600"/>
          </a:xfrm>
          <a:prstGeom prst="rect">
            <a:avLst/>
          </a:prstGeom>
          <a:ln w="0">
            <a:noFill/>
          </a:ln>
        </p:spPr>
      </p:pic>
      <p:pic>
        <p:nvPicPr>
          <p:cNvPr id="387" name="Рисунок 3" descr="C:\Users\Алексей\Desktop\HPIM3252.JPG"/>
          <p:cNvPicPr/>
          <p:nvPr/>
        </p:nvPicPr>
        <p:blipFill>
          <a:blip r:embed="rId3"/>
          <a:stretch/>
        </p:blipFill>
        <p:spPr>
          <a:xfrm>
            <a:off x="2143080" y="3429000"/>
            <a:ext cx="4303800" cy="32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Прямоугольник 1"/>
          <p:cNvSpPr/>
          <p:nvPr/>
        </p:nvSpPr>
        <p:spPr>
          <a:xfrm>
            <a:off x="294120" y="214200"/>
            <a:ext cx="46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исуем книгу «Зеленая Апте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Рисунок 3" descr="C:\Users\Алексей\Desktop\HPIM3218.jpg"/>
          <p:cNvPicPr/>
          <p:nvPr/>
        </p:nvPicPr>
        <p:blipFill>
          <a:blip r:embed="rId1"/>
          <a:stretch/>
        </p:blipFill>
        <p:spPr>
          <a:xfrm>
            <a:off x="500040" y="1000080"/>
            <a:ext cx="3357720" cy="2697120"/>
          </a:xfrm>
          <a:prstGeom prst="rect">
            <a:avLst/>
          </a:prstGeom>
          <a:ln w="0">
            <a:noFill/>
          </a:ln>
        </p:spPr>
      </p:pic>
      <p:pic>
        <p:nvPicPr>
          <p:cNvPr id="390" name="Рисунок 4" descr="C:\Users\Алексей\Desktop\IMG_2821.jpg"/>
          <p:cNvPicPr/>
          <p:nvPr/>
        </p:nvPicPr>
        <p:blipFill>
          <a:blip r:embed="rId2"/>
          <a:stretch/>
        </p:blipFill>
        <p:spPr>
          <a:xfrm>
            <a:off x="285840" y="3786120"/>
            <a:ext cx="3760560" cy="2786040"/>
          </a:xfrm>
          <a:prstGeom prst="rect">
            <a:avLst/>
          </a:prstGeom>
          <a:ln w="0">
            <a:noFill/>
          </a:ln>
        </p:spPr>
      </p:pic>
      <p:pic>
        <p:nvPicPr>
          <p:cNvPr id="391" name="Рисунок 4" descr="E:\фото внеурочка\HPIM3219.jpg"/>
          <p:cNvPicPr/>
          <p:nvPr/>
        </p:nvPicPr>
        <p:blipFill>
          <a:blip r:embed="rId3"/>
          <a:stretch/>
        </p:blipFill>
        <p:spPr>
          <a:xfrm>
            <a:off x="5000760" y="857160"/>
            <a:ext cx="3214440" cy="2630520"/>
          </a:xfrm>
          <a:prstGeom prst="rect">
            <a:avLst/>
          </a:prstGeom>
          <a:ln w="0">
            <a:noFill/>
          </a:ln>
        </p:spPr>
      </p:pic>
      <p:pic>
        <p:nvPicPr>
          <p:cNvPr id="392" name="Рисунок 5" descr="E:\фото внеурочка\HPIM3221.jpg"/>
          <p:cNvPicPr/>
          <p:nvPr/>
        </p:nvPicPr>
        <p:blipFill>
          <a:blip r:embed="rId4"/>
          <a:stretch/>
        </p:blipFill>
        <p:spPr>
          <a:xfrm>
            <a:off x="4572000" y="3714840"/>
            <a:ext cx="342900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Прямоугольник 1"/>
          <p:cNvSpPr/>
          <p:nvPr/>
        </p:nvSpPr>
        <p:spPr>
          <a:xfrm>
            <a:off x="1150920" y="285840"/>
            <a:ext cx="666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75c01"/>
                </a:solidFill>
                <a:latin typeface="Times New Roman"/>
                <a:ea typeface="Times New Roman"/>
              </a:rPr>
              <a:t>IV</a:t>
            </a:r>
            <a:r>
              <a:rPr b="1" i="1" lang="ru-RU" sz="3200" spc="-1" strike="noStrike">
                <a:solidFill>
                  <a:srgbClr val="e75c01"/>
                </a:solidFill>
                <a:latin typeface="Times New Roman"/>
                <a:ea typeface="Times New Roman"/>
              </a:rPr>
              <a:t> этап  Презентация продукта  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75c01"/>
                </a:solidFill>
                <a:latin typeface="Times New Roman"/>
                <a:ea typeface="Times New Roman"/>
              </a:rPr>
              <a:t>                            </a:t>
            </a:r>
            <a:r>
              <a:rPr b="1" i="1" lang="ru-RU" sz="3200" spc="-1" strike="noStrike">
                <a:solidFill>
                  <a:srgbClr val="e75c01"/>
                </a:solidFill>
                <a:latin typeface="Times New Roman"/>
                <a:ea typeface="Times New Roman"/>
              </a:rPr>
              <a:t>рефлекс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Прямоугольник 2"/>
          <p:cNvSpPr/>
          <p:nvPr/>
        </p:nvSpPr>
        <p:spPr>
          <a:xfrm>
            <a:off x="1571760" y="1928880"/>
            <a:ext cx="5857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тавка фотографий лекарственных расте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нига «Зеленая Аптек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Прямоугольник 1"/>
          <p:cNvSpPr/>
          <p:nvPr/>
        </p:nvSpPr>
        <p:spPr>
          <a:xfrm>
            <a:off x="235440" y="285840"/>
            <a:ext cx="823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e75c01"/>
                </a:solidFill>
                <a:latin typeface="Times New Roman"/>
                <a:ea typeface="Times New Roman"/>
              </a:rPr>
              <a:t>Использование цифровой лаборатори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Рисунок 2" descr="F:\фото внеурочка\IMG_2784.jpg"/>
          <p:cNvPicPr/>
          <p:nvPr/>
        </p:nvPicPr>
        <p:blipFill>
          <a:blip r:embed="rId1"/>
          <a:stretch/>
        </p:blipFill>
        <p:spPr>
          <a:xfrm>
            <a:off x="4714920" y="1071720"/>
            <a:ext cx="3741840" cy="250020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2" descr=""/>
          <p:cNvPicPr/>
          <p:nvPr/>
        </p:nvPicPr>
        <p:blipFill>
          <a:blip r:embed="rId2"/>
          <a:stretch/>
        </p:blipFill>
        <p:spPr>
          <a:xfrm>
            <a:off x="5357880" y="3591000"/>
            <a:ext cx="2786040" cy="3267000"/>
          </a:xfrm>
          <a:prstGeom prst="rect">
            <a:avLst/>
          </a:prstGeom>
          <a:ln w="0">
            <a:noFill/>
          </a:ln>
        </p:spPr>
      </p:pic>
      <p:sp>
        <p:nvSpPr>
          <p:cNvPr id="398" name="Прямоугольник 4"/>
          <p:cNvSpPr/>
          <p:nvPr/>
        </p:nvSpPr>
        <p:spPr>
          <a:xfrm>
            <a:off x="285840" y="1000080"/>
            <a:ext cx="38574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Цифровые микроскопы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преобразование визуальной информации в цифровую, передача в компьютер в реальном времени изображения объекта – использование учащимися в презентации продуктов проек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Прямоугольник 1"/>
          <p:cNvSpPr/>
          <p:nvPr/>
        </p:nvSpPr>
        <p:spPr>
          <a:xfrm>
            <a:off x="642240" y="357120"/>
            <a:ext cx="746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e75c01"/>
                </a:solidFill>
                <a:latin typeface="Times New Roman"/>
                <a:ea typeface="Times New Roman"/>
              </a:rPr>
              <a:t>Принципы построения программы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1"/>
          <p:cNvSpPr/>
          <p:nvPr/>
        </p:nvSpPr>
        <p:spPr>
          <a:xfrm>
            <a:off x="1285920" y="1789560"/>
            <a:ext cx="6715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e75c0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e75c01"/>
                </a:solidFill>
                <a:latin typeface="Times New Roman"/>
                <a:ea typeface="Times New Roman"/>
              </a:rPr>
              <a:t>Голографичность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каждый элемент в содержании программы одновременно несет в себе определенную  информацию и определенный вид деятельности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Прямоугольник 3"/>
          <p:cNvSpPr/>
          <p:nvPr/>
        </p:nvSpPr>
        <p:spPr>
          <a:xfrm>
            <a:off x="1214280" y="3357720"/>
            <a:ext cx="6643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e75c0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e75c01"/>
                </a:solidFill>
                <a:latin typeface="Times New Roman"/>
                <a:ea typeface="Times New Roman"/>
              </a:rPr>
              <a:t>деятельность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оздание условий, способствующих поддержанию природного любопытства учащихся, их интереса и стремления к самостоятельной работе над решением проблемы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Прямоугольник 1"/>
          <p:cNvSpPr/>
          <p:nvPr/>
        </p:nvSpPr>
        <p:spPr>
          <a:xfrm>
            <a:off x="584640" y="785880"/>
            <a:ext cx="735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75c01"/>
                </a:solidFill>
                <a:latin typeface="Times New Roman"/>
                <a:ea typeface="Times New Roman"/>
              </a:rPr>
              <a:t>Направление: Обще интеллектуаль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2"/>
          <p:cNvSpPr/>
          <p:nvPr/>
        </p:nvSpPr>
        <p:spPr>
          <a:xfrm>
            <a:off x="500040" y="2357280"/>
            <a:ext cx="8143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75c01"/>
                </a:solidFill>
                <a:latin typeface="Times New Roman"/>
                <a:ea typeface="Times New Roman"/>
              </a:rPr>
              <a:t>Вид деятельности: Лабораторны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75c01"/>
                </a:solidFill>
                <a:latin typeface="Times New Roman"/>
                <a:ea typeface="Times New Roman"/>
              </a:rPr>
              <a:t>                                        </a:t>
            </a:r>
            <a:r>
              <a:rPr b="1" i="1" lang="ru-RU" sz="3200" spc="-1" strike="noStrike">
                <a:solidFill>
                  <a:srgbClr val="e75c01"/>
                </a:solidFill>
                <a:latin typeface="Times New Roman"/>
                <a:ea typeface="Times New Roman"/>
              </a:rPr>
              <a:t>практику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3"/>
          <p:cNvSpPr/>
          <p:nvPr/>
        </p:nvSpPr>
        <p:spPr>
          <a:xfrm>
            <a:off x="571680" y="4143240"/>
            <a:ext cx="6215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75c01"/>
                </a:solidFill>
                <a:latin typeface="Times New Roman"/>
                <a:ea typeface="Times New Roman"/>
              </a:rPr>
              <a:t>Цель внеурочной деятельности: Социализация ребенка (получение социальных знаний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Прямоугольник 1"/>
          <p:cNvSpPr/>
          <p:nvPr/>
        </p:nvSpPr>
        <p:spPr>
          <a:xfrm>
            <a:off x="785880" y="500040"/>
            <a:ext cx="7143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75c01"/>
                </a:solidFill>
                <a:latin typeface="Times New Roman"/>
                <a:ea typeface="Times New Roman"/>
              </a:rPr>
              <a:t>Цель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e75c01"/>
                </a:solidFill>
                <a:latin typeface="Times New Roman"/>
                <a:ea typeface="Times New Roman"/>
              </a:rPr>
              <a:t>программы: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условий для развития УУД и социализации ребенка в рамках  проектной деятельности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2"/>
          <p:cNvSpPr/>
          <p:nvPr/>
        </p:nvSpPr>
        <p:spPr>
          <a:xfrm>
            <a:off x="785880" y="2286000"/>
            <a:ext cx="192888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e75c01"/>
                </a:solidFill>
                <a:latin typeface="Times New Roman"/>
                <a:ea typeface="Times New Roman"/>
              </a:rPr>
              <a:t>Задач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Прямоугольник 3"/>
          <p:cNvSpPr/>
          <p:nvPr/>
        </p:nvSpPr>
        <p:spPr>
          <a:xfrm>
            <a:off x="1285920" y="2928960"/>
            <a:ext cx="72867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познавательного интереса учащихся к объектам окружающей сред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интеллектуальных, творческих и коммуникативных способностей учащихс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личности младшего школьни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ние коммуникативности, инициативности, самостоятельно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Прямоугольник 1"/>
          <p:cNvSpPr/>
          <p:nvPr/>
        </p:nvSpPr>
        <p:spPr>
          <a:xfrm>
            <a:off x="1785960" y="571680"/>
            <a:ext cx="5143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75c01"/>
                </a:solidFill>
                <a:latin typeface="Times New Roman"/>
                <a:ea typeface="Times New Roman"/>
              </a:rPr>
              <a:t>Используемые подходы</a:t>
            </a:r>
            <a:r>
              <a:rPr b="1" i="1" lang="en-US" sz="3200" spc="-1" strike="noStrike">
                <a:solidFill>
                  <a:srgbClr val="e75c01"/>
                </a:solidFill>
                <a:latin typeface="Times New Roman"/>
                <a:ea typeface="Times New Roman"/>
              </a:rPr>
              <a:t>,</a:t>
            </a:r>
            <a:r>
              <a:rPr b="1" i="1" lang="ru-RU" sz="3200" spc="-1" strike="noStrike">
                <a:solidFill>
                  <a:srgbClr val="e75c01"/>
                </a:solidFill>
                <a:latin typeface="Times New Roman"/>
                <a:ea typeface="Times New Roman"/>
              </a:rPr>
              <a:t> для реализации програм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Выгнутая влево стрелка 2"/>
          <p:cNvSpPr/>
          <p:nvPr/>
        </p:nvSpPr>
        <p:spPr>
          <a:xfrm>
            <a:off x="571680" y="1714680"/>
            <a:ext cx="1928520" cy="1214280"/>
          </a:xfrm>
          <a:custGeom>
            <a:avLst/>
            <a:gdLst>
              <a:gd name="textAreaLeft" fmla="*/ 258120 w 1928520"/>
              <a:gd name="textAreaRight" fmla="*/ 1670400 w 1928520"/>
              <a:gd name="textAreaTop" fmla="*/ 189720 h 1214280"/>
              <a:gd name="textAreaBottom" fmla="*/ 87300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3778535"/>
                <a:lnTo>
                  <a:pt x="18200" y="21516"/>
                </a:lnTo>
                <a:lnTo>
                  <a:pt x="21600" y="16200"/>
                </a:lnTo>
                <a:lnTo>
                  <a:pt x="18200" y="10716"/>
                </a:lnTo>
                <a:lnTo>
                  <a:pt x="18200" y="13416"/>
                </a:lnTo>
                <a:arcTo wR="21600" hR="6750" stAng="7021465" swAng="3312549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Прямоугольник 3"/>
          <p:cNvSpPr/>
          <p:nvPr/>
        </p:nvSpPr>
        <p:spPr>
          <a:xfrm>
            <a:off x="2571840" y="2000160"/>
            <a:ext cx="5929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e75c01"/>
                </a:solidFill>
                <a:latin typeface="Times New Roman"/>
                <a:ea typeface="Times New Roman"/>
              </a:rPr>
              <a:t>Компетентностны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Выгнутая влево стрелка 4"/>
          <p:cNvSpPr/>
          <p:nvPr/>
        </p:nvSpPr>
        <p:spPr>
          <a:xfrm>
            <a:off x="285840" y="3286080"/>
            <a:ext cx="2071440" cy="1285920"/>
          </a:xfrm>
          <a:custGeom>
            <a:avLst/>
            <a:gdLst>
              <a:gd name="textAreaLeft" fmla="*/ 277560 w 2071440"/>
              <a:gd name="textAreaRight" fmla="*/ 1793880 w 2071440"/>
              <a:gd name="textAreaTop" fmla="*/ 200880 h 1285920"/>
              <a:gd name="textAreaBottom" fmla="*/ 92448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3798728"/>
                <a:lnTo>
                  <a:pt x="18248" y="21518"/>
                </a:lnTo>
                <a:lnTo>
                  <a:pt x="21600" y="16200"/>
                </a:lnTo>
                <a:lnTo>
                  <a:pt x="18248" y="10718"/>
                </a:lnTo>
                <a:lnTo>
                  <a:pt x="18248" y="13418"/>
                </a:lnTo>
                <a:arcTo wR="21600" hR="6750" stAng="7001272" swAng="3332742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Прямоугольник 5"/>
          <p:cNvSpPr/>
          <p:nvPr/>
        </p:nvSpPr>
        <p:spPr>
          <a:xfrm>
            <a:off x="2571840" y="3000240"/>
            <a:ext cx="6826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e75c01"/>
                </a:solidFill>
                <a:latin typeface="Times New Roman"/>
                <a:ea typeface="Times New Roman"/>
              </a:rPr>
              <a:t>Личностно – ориентированны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Выгнутая влево стрелка 6"/>
          <p:cNvSpPr/>
          <p:nvPr/>
        </p:nvSpPr>
        <p:spPr>
          <a:xfrm>
            <a:off x="285840" y="4929120"/>
            <a:ext cx="2143080" cy="1357560"/>
          </a:xfrm>
          <a:custGeom>
            <a:avLst/>
            <a:gdLst>
              <a:gd name="textAreaLeft" fmla="*/ 286920 w 2143080"/>
              <a:gd name="textAreaRight" fmla="*/ 1856160 w 2143080"/>
              <a:gd name="textAreaTop" fmla="*/ 212040 h 1357560"/>
              <a:gd name="textAreaBottom" fmla="*/ 975960 h 1357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3770151"/>
                <a:lnTo>
                  <a:pt x="18180" y="21515"/>
                </a:lnTo>
                <a:lnTo>
                  <a:pt x="21600" y="16200"/>
                </a:lnTo>
                <a:lnTo>
                  <a:pt x="18180" y="10715"/>
                </a:lnTo>
                <a:lnTo>
                  <a:pt x="18180" y="13415"/>
                </a:lnTo>
                <a:arcTo wR="21600" hR="6750" stAng="7029849" swAng="3304165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Прямоугольник 7"/>
          <p:cNvSpPr/>
          <p:nvPr/>
        </p:nvSpPr>
        <p:spPr>
          <a:xfrm>
            <a:off x="2652120" y="5072040"/>
            <a:ext cx="460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e75c01"/>
                </a:solidFill>
                <a:latin typeface="Times New Roman"/>
                <a:ea typeface="Times New Roman"/>
              </a:rPr>
              <a:t>Деятельностны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Прямоугольник 1"/>
          <p:cNvSpPr/>
          <p:nvPr/>
        </p:nvSpPr>
        <p:spPr>
          <a:xfrm>
            <a:off x="851040" y="500040"/>
            <a:ext cx="672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e75c01"/>
                </a:solidFill>
                <a:latin typeface="Times New Roman"/>
                <a:ea typeface="Times New Roman"/>
              </a:rPr>
              <a:t>Тематика проектных рабо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Прямоугольник 2"/>
          <p:cNvSpPr/>
          <p:nvPr/>
        </p:nvSpPr>
        <p:spPr>
          <a:xfrm>
            <a:off x="1357200" y="1571760"/>
            <a:ext cx="59295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комство с лекарственными растениями («Зеленая аптека»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ение – живое или нет? Условия выращивания растений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комство с животными («Дикие звери»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комство с ядовитыми грибами («Что мы знаем о ядовитых грибах»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Прямоугольник 2"/>
          <p:cNvSpPr/>
          <p:nvPr/>
        </p:nvSpPr>
        <p:spPr>
          <a:xfrm>
            <a:off x="945360" y="357120"/>
            <a:ext cx="6995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e75c01"/>
                </a:solidFill>
                <a:latin typeface="Times New Roman"/>
                <a:ea typeface="Times New Roman"/>
              </a:rPr>
              <a:t>Этапы работы над проект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75c01"/>
                </a:solidFill>
                <a:latin typeface="Times New Roman"/>
                <a:ea typeface="Times New Roman"/>
              </a:rPr>
              <a:t>I</a:t>
            </a:r>
            <a:r>
              <a:rPr b="1" i="1" lang="ru-RU" sz="4000" spc="-1" strike="noStrike">
                <a:solidFill>
                  <a:srgbClr val="e75c01"/>
                </a:solidFill>
                <a:latin typeface="Times New Roman"/>
                <a:ea typeface="Times New Roman"/>
              </a:rPr>
              <a:t>эта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Прямоугольник 3"/>
          <p:cNvSpPr/>
          <p:nvPr/>
        </p:nvSpPr>
        <p:spPr>
          <a:xfrm>
            <a:off x="357120" y="2214720"/>
            <a:ext cx="457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e75c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e75c01"/>
                </a:solidFill>
                <a:latin typeface="Times New Roman"/>
                <a:ea typeface="Times New Roman"/>
              </a:rPr>
              <a:t>Выбор темы проекта через введение учащихся в проблемную ситуацию</a:t>
            </a:r>
            <a:r>
              <a:rPr b="1" i="1" lang="en-US" sz="2800" spc="-1" strike="noStrike">
                <a:solidFill>
                  <a:srgbClr val="e75c01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Прямоугольник 4"/>
          <p:cNvSpPr/>
          <p:nvPr/>
        </p:nvSpPr>
        <p:spPr>
          <a:xfrm>
            <a:off x="357120" y="3786120"/>
            <a:ext cx="457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e75c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e75c01"/>
                </a:solidFill>
                <a:latin typeface="Times New Roman"/>
                <a:ea typeface="Times New Roman"/>
              </a:rPr>
              <a:t>Формулирование цели</a:t>
            </a:r>
            <a:r>
              <a:rPr b="1" i="1" lang="en-US" sz="2800" spc="-1" strike="noStrike">
                <a:solidFill>
                  <a:srgbClr val="e75c01"/>
                </a:solidFill>
                <a:latin typeface="Times New Roman"/>
                <a:ea typeface="Times New Roman"/>
              </a:rPr>
              <a:t>,</a:t>
            </a:r>
            <a:r>
              <a:rPr b="1" i="1" lang="ru-RU" sz="2800" spc="-1" strike="noStrike">
                <a:solidFill>
                  <a:srgbClr val="e75c01"/>
                </a:solidFill>
                <a:latin typeface="Times New Roman"/>
                <a:ea typeface="Times New Roman"/>
              </a:rPr>
              <a:t> задач и конечного продукта проекта</a:t>
            </a:r>
            <a:r>
              <a:rPr b="1" i="1" lang="en-US" sz="2800" spc="-1" strike="noStrike">
                <a:solidFill>
                  <a:srgbClr val="e75c01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Прямоугольник 5"/>
          <p:cNvSpPr/>
          <p:nvPr/>
        </p:nvSpPr>
        <p:spPr>
          <a:xfrm>
            <a:off x="317160" y="5357880"/>
            <a:ext cx="472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e75c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e75c01"/>
                </a:solidFill>
                <a:latin typeface="Times New Roman"/>
                <a:ea typeface="Times New Roman"/>
              </a:rPr>
              <a:t>Составление плана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Рисунок 6" descr="F:\фото внеурочка\IMG_2812.jpg"/>
          <p:cNvPicPr/>
          <p:nvPr/>
        </p:nvPicPr>
        <p:blipFill>
          <a:blip r:embed="rId1"/>
          <a:stretch/>
        </p:blipFill>
        <p:spPr>
          <a:xfrm>
            <a:off x="5429160" y="1143000"/>
            <a:ext cx="2759040" cy="35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Прямоугольник 2"/>
          <p:cNvSpPr/>
          <p:nvPr/>
        </p:nvSpPr>
        <p:spPr>
          <a:xfrm>
            <a:off x="731160" y="357120"/>
            <a:ext cx="6995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e75c01"/>
                </a:solidFill>
                <a:latin typeface="Times New Roman"/>
                <a:ea typeface="Times New Roman"/>
              </a:rPr>
              <a:t>Этапы работы над проект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75c01"/>
                </a:solidFill>
                <a:latin typeface="Times New Roman"/>
                <a:ea typeface="Times New Roman"/>
              </a:rPr>
              <a:t>II</a:t>
            </a:r>
            <a:r>
              <a:rPr b="1" i="1" lang="ru-RU" sz="4000" spc="-1" strike="noStrike">
                <a:solidFill>
                  <a:srgbClr val="e75c01"/>
                </a:solidFill>
                <a:latin typeface="Times New Roman"/>
                <a:ea typeface="Times New Roman"/>
              </a:rPr>
              <a:t>эта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Прямоугольник 3"/>
          <p:cNvSpPr/>
          <p:nvPr/>
        </p:nvSpPr>
        <p:spPr>
          <a:xfrm>
            <a:off x="2513880" y="1071720"/>
            <a:ext cx="586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e75c01"/>
                </a:solidFill>
                <a:latin typeface="Times New Roman"/>
                <a:ea typeface="Times New Roman"/>
              </a:rPr>
              <a:t>Сбор и анализ информаци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Прямоугольник 4"/>
          <p:cNvSpPr/>
          <p:nvPr/>
        </p:nvSpPr>
        <p:spPr>
          <a:xfrm>
            <a:off x="642960" y="1859040"/>
            <a:ext cx="77151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мотр видеофильма «Редкие растения и их лекарственные свойства», беседа по содержанию фильм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кетирование родителей  об использовании в качестве лекарств растений и если использование, то каких и в каком виде, далее, обмен информацией в виде сообщений между учащимися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левая игра «Доктор Айболит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в мини – группах по составлению правил сбора растен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Прямоугольник 1"/>
          <p:cNvSpPr/>
          <p:nvPr/>
        </p:nvSpPr>
        <p:spPr>
          <a:xfrm>
            <a:off x="1085400" y="285840"/>
            <a:ext cx="631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e75c01"/>
                </a:solidFill>
                <a:latin typeface="Times New Roman"/>
                <a:ea typeface="Times New Roman"/>
              </a:rPr>
              <a:t>Этапы работы над проект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Прямоугольник 2"/>
          <p:cNvSpPr/>
          <p:nvPr/>
        </p:nvSpPr>
        <p:spPr>
          <a:xfrm>
            <a:off x="362160" y="1000080"/>
            <a:ext cx="167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75c01"/>
                </a:solidFill>
                <a:latin typeface="Times New Roman"/>
                <a:ea typeface="Times New Roman"/>
              </a:rPr>
              <a:t>III</a:t>
            </a:r>
            <a:r>
              <a:rPr b="1" i="1" lang="ru-RU" sz="3200" spc="-1" strike="noStrike">
                <a:solidFill>
                  <a:srgbClr val="e75c01"/>
                </a:solidFill>
                <a:latin typeface="Times New Roman"/>
                <a:ea typeface="Times New Roman"/>
              </a:rPr>
              <a:t> эта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Прямоугольник 3"/>
          <p:cNvSpPr/>
          <p:nvPr/>
        </p:nvSpPr>
        <p:spPr>
          <a:xfrm>
            <a:off x="2070720" y="928800"/>
            <a:ext cx="678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e75c01"/>
                </a:solidFill>
                <a:latin typeface="Times New Roman"/>
                <a:ea typeface="Times New Roman"/>
              </a:rPr>
              <a:t>Работа над продуктом проек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Прямоугольник 4"/>
          <p:cNvSpPr/>
          <p:nvPr/>
        </p:nvSpPr>
        <p:spPr>
          <a:xfrm>
            <a:off x="285840" y="17146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матривание в цифровой микроскоп отдельных частей раст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Рисунок 5" descr="F:\фото внеурочка\IMG_2788.jpg"/>
          <p:cNvPicPr/>
          <p:nvPr/>
        </p:nvPicPr>
        <p:blipFill>
          <a:blip r:embed="rId1"/>
          <a:stretch/>
        </p:blipFill>
        <p:spPr>
          <a:xfrm>
            <a:off x="5000760" y="1857240"/>
            <a:ext cx="3406680" cy="2467080"/>
          </a:xfrm>
          <a:prstGeom prst="rect">
            <a:avLst/>
          </a:prstGeom>
          <a:ln w="0">
            <a:noFill/>
          </a:ln>
        </p:spPr>
      </p:pic>
      <p:pic>
        <p:nvPicPr>
          <p:cNvPr id="384" name="Рисунок 6" descr="F:\фото внеурочка\IMG_2794.jpg"/>
          <p:cNvPicPr/>
          <p:nvPr/>
        </p:nvPicPr>
        <p:blipFill>
          <a:blip r:embed="rId2"/>
          <a:stretch/>
        </p:blipFill>
        <p:spPr>
          <a:xfrm>
            <a:off x="357120" y="3000240"/>
            <a:ext cx="4286160" cy="34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9T18:41:40Z</dcterms:created>
  <dc:creator>Алексей</dc:creator>
  <dc:description/>
  <dc:language>en-US</dc:language>
  <cp:lastModifiedBy>ЦО №1884</cp:lastModifiedBy>
  <dcterms:modified xsi:type="dcterms:W3CDTF">2012-01-16T09:46:47Z</dcterms:modified>
  <cp:revision>64</cp:revision>
  <dc:subject/>
  <dc:title>Внеурочная деятельность в 1 «В» классе</dc:title>
</cp:coreProperties>
</file>