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944-7279-45A9-AAF5-94B048F6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477E-CC2F-45FC-932C-1897DFA1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8DE1-EA46-4830-BB1B-7155A49C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B76-7B97-4185-828E-BC375674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26CE-6EDB-4E33-A005-A88A4F37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1D2A-B0FE-4648-A077-C12E71A7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7E76-9ADC-4491-B6B7-929C75C4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2C05-E684-4932-934A-4D178E76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9412-673A-45E6-81C8-D126C34E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A48E-FACB-4280-A764-95F048CD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F3A8-33EF-4D04-ABFE-FBD0B793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8E1C-836D-4032-8F56-A41597A5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BBD1-9273-469E-88EF-4EB3EAFD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70E3-7B3A-4408-AD55-2DD53EED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B279-2093-4392-8EE6-CCC9674A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0BFD-98A7-47F4-AB50-4CDD4FB2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07B6-C504-4F0F-9726-721EA3F2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68D0-E499-44C2-8B68-5E834F86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146-16CB-44C6-9F97-19C9ED85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540B-9FBE-49F5-914E-1BA229B1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787-7C3A-4083-8F60-D4ED4C1A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C38-EB00-47EF-B6BC-02BD8591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B38E-F32F-4732-B807-1BD69C19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5FB-843E-4716-9952-45EEAFD2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0AAD-2F7B-48C8-92A6-1E53AA0DC2E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C8C2-7363-4CB3-9328-E84C8C62947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Нет слова, которое было бы так замашисто, бойко, так вырвалось бы из-под самого сердца, так бы кипело и животрепетало, как метко сказанное русское слово.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        Н. В. Гоголь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   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828440" y="2742840"/>
            <a:ext cx="6553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«Наше вам с кисточкой!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Автор: Заколпина Светлана Юрьевн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учитель русского языка и литератур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СОШ № 15 г. Балако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Arial Narrow"/>
              </a:rPr>
              <a:t>Что входит в понятие речевой культуры человека?</a:t>
            </a:r>
            <a:br>
              <a:rPr sz="32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86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изучает фразеологи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м фразеологизмы схожи со словами и чем отличаются от них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м фразеологизмы отличаются от свободных словосочетани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вы источники возникновения фразеологизмов в реч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свойства фразеологизмов позволяют им придавать речи выразительност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Учебный предмет – русский язы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Участники – ученики 6 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Дидактические цели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2192040"/>
            <a:ext cx="7543800" cy="39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компетентности в сфере  самостоятельной познавательн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тие интереса к процессу познания на уроках русского язы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бщение и систематизация знаний о фразеологизм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етодические задачи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38684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представления о фразеологии как о могучем стилистическом средстве меткой и доходчивой передачи мыс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работать навыки умелого использования фразеологизмов в повседневной ре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учить пользоватьс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Poin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мы самостоятельных исследований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330280"/>
            <a:ext cx="751392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разеология как наука о язы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разеологизм и его призна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отребление фразеологизмов в ре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чники русских фразеологизм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езультаты представления исследований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2469960"/>
            <a:ext cx="7543800" cy="36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по теме «Источники русских фразеологизмов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уклет по теме «Фразеология как наука о языке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лан проекта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5040" y="1981080"/>
            <a:ext cx="708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суждение проблемы; формулировка основополагающего вопроса, проблемных вопросов; выдвижение гипотез; создание групп для самостоятельных исследований (1 час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ота в группах по темам исследований, подбор информации (2-3 часа факультативных занятий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здание презентации, буклета (1-2 ча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щита проекта: обсуждение результатов, формулировка выводов, оценка результатов (1 час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нформационные ресурс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онные таблиц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граммы обработки изображ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граммы работы с мультимеди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. Т. Баранов, Т. А. Ладыженская, Л. А. Тростенцова, Л. Т. Григорян, И. И. Кулибаба. Русский язык: учеб. для 6 кл. общеобразоват. учреждений. – М.Просвещение, 2005 г. – 239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игорян Л. Т. Язык мой – друг мой: Материал для внеклас. работы по рус. яз.: Пособие для учителя. – М.: Просвещение, 1988. – 207 с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анский Н. М. В мире слов: Пособие для учителя. – М.: Прсвещение, 1978. – 319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ранов М. Т. Методика лексики и фразеологии на уроках русского языка: Пособие для учителя. – М.: Просвещение, 1988. – 191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лотов А. И. Фразеологический словарь русского языка,1998г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_2</cp:lastModifiedBy>
  <dcterms:modified xsi:type="dcterms:W3CDTF">2011-01-14T17:44:3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