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247-6AFF-41C5-9733-5B174B27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42E-208F-4F23-998B-6E73E41E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2B5-A149-485C-8F07-033C6155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D15-ED28-45B2-9AA9-480F826C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24AD-A374-47F9-B45F-C4B98D17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C0B-B1CA-40A6-A5D1-34291486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9847-AA68-4935-A924-0C41AA52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0278-2E28-4BAA-BFBF-E9289353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C793-E1EA-490A-8AE0-CE93519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3C01-037A-499F-8C7C-F73FF5AA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D98C-57A6-4B47-AC12-847BEB4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550-7291-476A-97B8-C805EBE0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57B5-A1EB-4BB0-AC34-50E54D14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16B-2767-4B9D-9A73-B504163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AC87-93A2-4489-BB88-E3907FBD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F22D-3DF1-49E4-9859-69293F1D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1209-54E0-498A-9C08-4FF41C2B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B13-3C7F-49B2-A486-54BE74E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655-FCE1-4816-9BC0-A84BBA60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8E4-5708-404B-93E2-F31006E4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7C8-CE05-45C8-AADD-1817B6F9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834-C8E4-4178-B89A-6FB7077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B32-D34E-4676-A654-CFA02116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851-095A-48E4-8C3D-886FF49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C9D2-9CAC-408F-8992-B09571FDFF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2039-0AB6-46BD-BD86-CC401B11A5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Нет слова, которое было бы так замашисто, бойко, так вырвалось бы из-под самого сердца, так бы кипело и животрепетало, как метко сказанное русское слово.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Н. В. Гоголь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828440" y="2742840"/>
            <a:ext cx="6553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«Наше вам с кисточкой!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Автор: Заколпина Светлана Юрьев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СОШ № 15 г. Балако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 Narrow"/>
              </a:rPr>
              <a:t>Что входит в понятие речевой культуры человека?</a:t>
            </a:r>
            <a:br>
              <a:rPr sz="32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изучает фразеолог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 фразеологизмы схожи со словами и чем отличаются от ни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 фразеологизмы отличаются от свободных словосочетани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ы источники возникновения фразеологизмов в реч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свойства фразеологизмов позволяют им придавать речи выразительнос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Учебный предмет – 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Участники – ученики 6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идактические цели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192040"/>
            <a:ext cx="75438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компетентности в сфере  самостоятельной познаватель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тие интереса к процессу познания на уроках русского язы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и систематизация знаний о фразеологизм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етодические задачи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3868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представления о фразеологии как о могучем стилистическом средстве меткой и доходчивой передачи мы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отать навыки умелого использования фразеологизмов в повседневн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учить пользоватьс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Poin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самостоятельных исследований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330280"/>
            <a:ext cx="75139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азеология как наука о я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азеологизм и его призна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отребление фразеологизмов в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чники русских фразеологиз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представления исследовани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2469960"/>
            <a:ext cx="754380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по теме «Источники русских фразеологизмо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клет по теме «Фразеология как наука о язык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лан проект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5040" y="1981080"/>
            <a:ext cx="708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е проблемы; формулировка основополагающего вопроса, проблемных вопросов; выдвижение гипотез; создание групп для самостоятельных исследований (1 ча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в группах по темам исследований, подбор информации (2-3 часа факультативных занят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презентации, буклета (1-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а проекта: обсуждение результатов, формулировка выводов, оценка результатов (1 ча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нформационные ресурс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нные таблиц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ы обработки изображ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граммы работы с мультимеди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Т. Баранов, Т. А. Ладыженская, Л. А. Тростенцова, Л. Т. Григорян, И. И. Кулибаба. Русский язык: учеб. для 6 кл. общеобразоват. учреждений. – М.Просвещение, 2005 г. – 239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игорян Л. Т. Язык мой – друг мой: Материал для внеклас. работы по рус. яз.: Пособие для учителя. – М.: Просвещение, 1988. – 207 с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нский Н. М. В мире слов: Пособие для учителя. – М.: Прсвещение, 1978. – 319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ранов М. Т. Методика лексики и фразеологии на уроках русского языка: Пособие для учителя. – М.: Просвещение, 1988. – 191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лотов А. И. Фразеологический словарь русского языка,1998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_2</cp:lastModifiedBy>
  <dcterms:modified xsi:type="dcterms:W3CDTF">2011-01-14T17:44:3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