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0F5-C815-4802-B37E-A9CE8299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EF2-2390-43B6-9146-EAC0B18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041-5E3F-4F04-8140-DD2E207F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369-3440-4496-8ED2-E9CE0A5D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D89-64EB-46B9-B4C9-AC3F38B8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F2F-37B0-4351-B848-4A0EE71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74D-9419-4302-B412-5303536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B29-0B67-452E-9EED-3753C95C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A91-C604-4B58-AA7B-9C303384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B8E-C3F8-4A01-9BD4-6274DCFA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98B-C4E4-44D2-A1A8-5B445A30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2BF-1E80-4E3B-9F57-EE97B4E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26D-541C-4CBF-854E-7F9333C4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chportal.ru/load/31-1-0-3636" TargetMode="External"/><Relationship Id="rId3" Type="http://schemas.openxmlformats.org/officeDocument/2006/relationships/hyperlink" Target="http://www.uchportal.ru/load/31-1-0-3636" TargetMode="External"/><Relationship Id="rId4" Type="http://schemas.openxmlformats.org/officeDocument/2006/relationships/hyperlink" Target="http://www.uchportal.ru/load/31-1-0-3636" TargetMode="External"/><Relationship Id="rId5" Type="http://schemas.openxmlformats.org/officeDocument/2006/relationships/hyperlink" Target="http://www.uchportal.ru/load/31-1-0-3636" TargetMode="External"/><Relationship Id="rId6" Type="http://schemas.openxmlformats.org/officeDocument/2006/relationships/hyperlink" Target="http://www.uchportal.ru/load/31-1-0-3636" TargetMode="External"/><Relationship Id="rId7" Type="http://schemas.openxmlformats.org/officeDocument/2006/relationships/hyperlink" Target="http://www.uchportal.ru/load/31-1-0-3636" TargetMode="External"/><Relationship Id="rId8" Type="http://schemas.openxmlformats.org/officeDocument/2006/relationships/hyperlink" Target="http://www.intergu.ru/" TargetMode="External"/><Relationship Id="rId9" Type="http://schemas.openxmlformats.org/officeDocument/2006/relationships/hyperlink" Target="http://www.intergu.ru/" TargetMode="External"/><Relationship Id="rId10" Type="http://schemas.openxmlformats.org/officeDocument/2006/relationships/hyperlink" Target="http://www.intergu.ru/" TargetMode="External"/><Relationship Id="rId11" Type="http://schemas.openxmlformats.org/officeDocument/2006/relationships/hyperlink" Target="http://www.intergu.ru/" TargetMode="External"/><Relationship Id="rId12" Type="http://schemas.openxmlformats.org/officeDocument/2006/relationships/hyperlink" Target="http://www.proshkolu.ru/" TargetMode="External"/><Relationship Id="rId13" Type="http://schemas.openxmlformats.org/officeDocument/2006/relationships/hyperlink" Target="http://www.proshkolu.ru/" TargetMode="External"/><Relationship Id="rId14" Type="http://schemas.openxmlformats.org/officeDocument/2006/relationships/hyperlink" Target="http://www.proshkolu.ru/" TargetMode="External"/><Relationship Id="rId15" Type="http://schemas.openxmlformats.org/officeDocument/2006/relationships/hyperlink" Target="http://www.proshkolu.ru/" TargetMode="External"/><Relationship Id="rId16" Type="http://schemas.openxmlformats.org/officeDocument/2006/relationships/hyperlink" Target="http://www.your-mind.ru/tag/dostizhenie/" TargetMode="External"/><Relationship Id="rId17" Type="http://schemas.openxmlformats.org/officeDocument/2006/relationships/hyperlink" Target="http://www.your-mind.ru/tag/dostizhenie/" TargetMode="External"/><Relationship Id="rId18" Type="http://schemas.openxmlformats.org/officeDocument/2006/relationships/hyperlink" Target="http://omisli.com/uncategorized/shagi-k-uspexu-lizy-nikols-ch-1/" TargetMode="External"/><Relationship Id="rId19" Type="http://schemas.openxmlformats.org/officeDocument/2006/relationships/hyperlink" Target="http://my-ekonomy.info/article_first_step.htm" TargetMode="External"/><Relationship Id="rId20" Type="http://schemas.openxmlformats.org/officeDocument/2006/relationships/hyperlink" Target="http://my-ekonomy.info/article_first_step.htm" TargetMode="External"/><Relationship Id="rId21" Type="http://schemas.openxmlformats.org/officeDocument/2006/relationships/hyperlink" Target="http://edu-teacherzv.ucoz.ru/load/shablony_i_fony_dlja_prezentacij/4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Сочинение: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семь шагов к успех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592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к части С 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476360" y="57405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уроков подготовлен учителем МОУ Заволжского лицея Голубевой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4920" y="4119480"/>
            <a:ext cx="244944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rcRect l="0" t="0" r="0" b="8875"/>
          <a:stretch/>
        </p:blipFill>
        <p:spPr>
          <a:xfrm>
            <a:off x="6372360" y="4668840"/>
            <a:ext cx="2771640" cy="192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7269120" y="549360"/>
            <a:ext cx="1550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формулировать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проблему можно несколькими спосо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В виде вопроса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ужны ли человеку зн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С помощью сло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блема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втор поднимает проблему эк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здесь вам могут помочь слова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ль, отнош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блема рол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чтения в жизни человека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блема отношени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к спорту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6769080" y="479736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280" y="4852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Шаг третий: 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комментарий к пробле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онцепцио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внимания – актуальность проблемы. Попробуйте ответить на такие вопросы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К какому типу принадлежит эта проблема? (Социальная, философская, экологическая, нравственна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ктуальна ли эта проблема в наши дни? Или, может быть, она относится к разряду «вечных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Когда мы сталкиваемся с этой проблемой? Касается ли она каждого из нас или только людей определенного возраста, рода занятий и т.п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эта проблема привлекла внимание ав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0" y="476280"/>
            <a:ext cx="1332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5661000"/>
            <a:ext cx="1403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Текстуальный коммент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Текстуальны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ментарий представляет собой объяснение текста, следование за автором в раскрытии проблемы. Здесь вам пригодится план, который вы составляли при анализе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ретизировать содержание комментария можно с помощью следующих вопро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 чем рассуждает (рассказывает)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 чем заостряет внимани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акие имена (факты, события) упоминает автор? Для ч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акие эмоции автора выражены в тек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ак выражено отношение автора к изображаемому? В чем это проявля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акие средства выразительности помогают выявить авторское отношение к пробл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мментируя авторскую позицию, можно воспользоваться и такими оборот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интересно и но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ише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о вечных проблем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вор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 тревогой о наболевших проблем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тави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яд важных вопросов, требующих немедленного раз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ставляе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читателя задуматься над проблем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пытается найти причины … 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образн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ссоздаё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картину происходящего (изображаемог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беждае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читателя в правоте своей пози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суждает, рассказывает, считает, вспоминает,  приводит в пример, подробно анализирует, комментирует, в заключение приходит к вы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985080" y="4941720"/>
            <a:ext cx="2124000" cy="1595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94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Шаг четвертый: позиция ав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аким образом, позиция автора такова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аким образом, автор призывает задуматься над вопросом: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использовать цитату из текста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аким образом, автор приводит читателя к мысли: «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исатель прямо не высказывает своего отношения к происходящему, но мы, читатели, прекрасно понимаем, что …» (условно говоря, так поступать недопустимо, потому что это влечет за собой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476280"/>
            <a:ext cx="1332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5661000"/>
            <a:ext cx="1403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0" y="27432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Шаг пятый: своя пози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 по анализу текста закончена. Вы определили проблему, прокомментировали ее, объяснили позицию автора. Теперь подумайте над вопросом: согласны ли вы с ним? Совпадают ли ваши размышления с авторски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аша позиция совпадает с авторской, можно использовать следующие речевые клиш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Я полностью согласен с авто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невозможно не согласиться с авто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я разделяю позицию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важно, чтобы было понятно, с чем именно вы соглашаетесь. Если в предыдущей  части вы четко определили позицию автора, то дополнения здесь не нужны. Если же позиция автора четко не определена, то обязательно объясните, с чем именно вы соглашаетесь. 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Я полностью разделяю позицию автора.  Действительно, мириться с наглостью нельзя.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476280"/>
            <a:ext cx="1332000" cy="1000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8352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Арг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049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гументы - это доказательства, приводимые в поддержку тезиса: факты, примеры, утверждения, объяснения тези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словом, все, что может подтвер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Первый тип примеров – из жизненн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-первых, это твои собственные наблюдения и выводы, то, что видел сам и можешь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-вторых, это рассказы близких и знакомых тебе людей. Тех, чьему мнению ты доверя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-третьих, это коллективный опыт народа, то, что вырабатывалось ве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Ввести аргументы в работу ты можешь такими оборот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16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споминается такой случа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есмотря на мой довольно скромный жизненный опыт, я вспоминаю похожую ситуацию, когда я (мой друг, одноклассник, знакомый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днажды со мной произошла подобная истор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бушка рассказывала мне о том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 моим дедом на войне произошел такой случа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сем известно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ольшинство врачей считают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Второй тип аргументов – 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из читательск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04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удожественная, публицистическая, научная литерат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Аргументами здесь будут считать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сылки на высказывания знаменитых люд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словицы и поговор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учные факты, доводы, гипотезы и т.д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бращения к материалам газет и журналов (интервью, очерки, репортажи и т.д.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итературные произ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С1 Напишите сочинение по прочитанном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формулируйте и прокомментируйт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одну  из проблем, поставленных автором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формулируйт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зицию автора. Напишите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огласны или не согласн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вы с его точкой зрения. Объясните почему. Свой ответ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ргументируйт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опираясь на знания, жизненный или читательский опыт (учитываются первые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в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аргумен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ъем сочинения – не менее 15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бота, написанная без опоры на прочитанный текст (не по данному тексту), не оцен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 считается засчитанным в том случае, если вы не просто на произведение сослались, а кратко проанализировали мысль автора, фрагмент произведения или поведение героя. 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 том, что внутренняя красота важнее внешней писали многие классики. Вспомним, например, Наташу Ростову из произведения Л.Н.Толстого «Война и мир». Автор часто обращает внимание на некрасивость Наташи, особенно в сравнении с Элен Курагиной. Но ее внутренняя красота для писателя намного важ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Шаг шестой: вступление и 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ша работа идет к завершению. Не забудьте продумать вступление и заключение, которые должны перекликаться, образуя своеобразный круг, внутри которого находятся ваши размыш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т примерные варианты вступл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Проблемный вопр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Общие сведения об обсуждаемой пробл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Ссылка на авторитетное мнение по вопросу, близкому к обсуждаемой пробл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Обращение к читателю с целью вызвать в его памяти определенные жизненные ситуации, связанные с проблемой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Создание определенного эмоционального настр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писание чувств, мыслей, которые возникли после чтения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Цитата из исходного текста (или другого источника), связанная с рассматриваемой пробл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 Обращение к фактам биографии автора, его взглядам, убежде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Заклю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едем различные способы оформления заклю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в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аким образом, А.Лиханов поднимает проблему, важную для каждого из нас, призывает сохранять детство в душе, не оставлять в прошлом радостное, по-детски непосредственное восприятие жизни. А ведь окружающий мир поистине прекрасен. Просто, взрослея, люди часто забывают об э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просительное предложение, в том числе риторический вопрос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ый возвращает читателя к проблеме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Призыв, обращение к чита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Использование цит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6985080" y="4941720"/>
            <a:ext cx="21240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! Работа написана! Можно немного передохнуть, перевести дух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доваться за себя! Скажите себе: «Я молодец! Я справился!»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не расслабляйтесь. Впереди у вас очень важная работа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дний шаг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до обязательно проверить сочинение. Во-первых, вы следили за своими мыслями и забыли о грамматике. Во-вторых, оценивается не только содержание сочинения, но и грамотность. Поэтому мы познакомимся с критериями проверки, по которым вы будете оценивать свою работу. 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826920" y="404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Шаг седьмой и последний: литературная 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6985080" y="4941720"/>
            <a:ext cx="21240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Вместо заклю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можно сказать: работа закончена. Вы прошли сложный путь длиной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в семь шагов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ый шаг – маленькая ступенька вверх -  по лестнице вашего успеха. Трудно вы поднимались или взлетели легко – зависело от каждого из вас: от ваших способностей и старания, целеустремленности и упорства. Но я надеюсь, что сейчас каждый поднялся на вершину своего успеха. Маленькую или большую – решать вам, но в одном я уверена: это восхождение не было напрасны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аю вам пройти такой же путь на экзамене! И пусть он не будет для вас трудным. Ни пуха, ни пе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64000" y="4869000"/>
            <a:ext cx="154764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писок использованных источ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андров В.Н. , Александрова О. И.  Энциклопедия арг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исенко Н.А., Нарушевич А.Г., Шапиро Н. А. Требования к содержанию части С на ЕГЭ по русскому языку, - http://rus.1september.ru/topic.php?TopicID=18&amp;Page=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вич А.Г. Способы выявления проблемы текста и авторской позиции. Комментирование как аналитико-синтетическая работа с текстом.- «Русский язык», №22, 200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вич А. Г. Основные требования к сочинению.  Выявление проблемы текста. Что такое комментарий? Трудности выявления авторской позиции. Способы аргументации в сочинении ЕГЭ по русскому языку. «Русский язык». № 24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ланова Н.Г. Пишем сочинение по исходному тексту, или часть С ЕГЭ по  русскому языку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uchportal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oa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31-1-0-363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ы сай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intergu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proshkolu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инк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your-mind.ru/tag/dostizheni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omisli.com/uncategorized/shagi-k-uspexu-lizy-nikols-ch-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my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ekonomy.info/article_first_step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edu-teacherzv.ucoz.ru/load/shablony_i_fony_dlja_prezentacij/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шабл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Семь шагов к успех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сформулируйте одну из проблем (только одну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прокомментируйте эту пробл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сформулируйте позицию ав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согласны вы с ним или нет (объясните свою позиц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приведит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г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и, конечно, «обрамите»  высказывание – напишите вступление и  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Не забудьте проверить и скорректировать    черн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0" y="476280"/>
            <a:ext cx="1332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6769080" y="484200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зиция автора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—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тношение создателя текста к поднятой теме, проблемам, героям и т.д. (иначе говоря, это то, что думает обо всем этом автор, как он сам отвечает на поставленные вопрос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840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определить позицию автора? Она обычно выражается через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тез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Это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главная мыс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текста или выступления), выраженная словами, главное утверждение оратора, которое он старается обосноват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258920" y="40464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Шаг первый: 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5661000"/>
            <a:ext cx="1403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0" y="476280"/>
            <a:ext cx="1332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ублицистический сти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5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иция  может быть предъявле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чале тек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затем подтверждена какими-либо доводами и примерами (такой способ в риторике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дуктивны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мысль может быть сформулирова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нце тек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как вывод, ответ на проблемный вопрос, поставленный в нача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онец, мысль автора может прозвуча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жд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начале текста как тезис, требующий доказательств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н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как более широкий, доказанный 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, если вы для себя состав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Разделите текст на 3-4 части, определите главную мысль каждой. Так вам будет понятна логика рассуждения автора, вы увидите, какими примерами подтверждает он свои мысли, к каким ситуациям обращается, чтобы заявить свою пози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Художественный сти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озиция автора публицистического текста обычно выражена четко и ясно, то выявление авторской позиции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ек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го сти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потребовать от вас бoльших усилий. Постарайтесь ответить на следующие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вопрос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хотел сказать своим читателям автор, создавая текст? Какую конкретную ситуацию он рисует? Как  оценивает поступки геро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ите внимание на слова, художественные приемы, которые выражают авторское отношение (неодобрение, иронию, осуждение – сочувствие, восхищение), дают отрицательную или положительную оценку описываемым фактам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5661000"/>
            <a:ext cx="1403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6769080" y="479736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Шаг второй: 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, о чем автор рассказывает, – это тем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рассуждает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о влиянии природ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на челове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значит, обращается 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ме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природ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о том, что современные школьники мало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читаю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- к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теме чт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споминает свое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детство, родителей, школьных друз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 теме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род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или, возможно, к теме детства, а может, отчего дома). Автор пишет о том, что его волнует. Не забывай, что тебе важно уловить тему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вяза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е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бле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0" y="476280"/>
            <a:ext cx="1332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Что же такое пробле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512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то, что автор хотел сказать о тем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сновной вопрос, который он рассматривает в тексте. Например, автор рассуждает о детстве. Но что он хочет о нем сказ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, что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детство – важнейший этап в становлении личности челов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то именно в детстве закладывается характер. Тогда проблема текста –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роль детства в становлении лич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, возможно, автор рассуждает о том, что даже спустя годы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человек вспоминает самые яркие моменты своего дет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ему хочется вернуться туда, где прошли его детские годы, повидать родителей, встретиться с друзьями. Тогда проблема текста другая –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связь с миром своего дет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Все проблемы можно разделить на несколько групп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нравственные (милосердия, любви, дружбы, одиночества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философские ( смысла жизни, добра и зла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социальные (проблемы выбора профессии, бедности, бесправия – те, которые характерны для общ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экологические (человек и прир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политические  (национализма, взаимоотношения государст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образования, науки и искусства (чтения, роли Интернета, сохранения язы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35:31Z</dcterms:created>
  <dc:creator>Test</dc:creator>
  <dc:description/>
  <dc:language>en-US</dc:language>
  <cp:lastModifiedBy>test</cp:lastModifiedBy>
  <dcterms:modified xsi:type="dcterms:W3CDTF">2011-09-02T15:56:58Z</dcterms:modified>
  <cp:revision>12</cp:revision>
  <dc:subject/>
  <dc:title>Слайд 1</dc:title>
</cp:coreProperties>
</file>