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502-824E-4C20-BEF9-FCAA63AB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C1B-249A-4F62-B949-6186DE8A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305-4BDB-4D71-BBE4-67F3352F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80F-78E9-4E4B-B3E9-85E96B4F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620E-E586-4465-9467-E3A662B0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D6DB-FAF6-44E6-A48F-F6DD512D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B180-9184-4F80-85C0-A279C8A3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65BC-20CD-42F3-8666-29FC77F9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974A-CF99-4247-BBFD-EDFAABB8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5DF9-3FE1-4481-B68C-F0CF21F2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09E-C879-4F49-B251-4A677B7F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A05-848F-4D05-A2BC-49F0015C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1329-2C88-4141-9DE5-92212C0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7308-40AE-4366-AFE7-BFB7FE88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5AEE-E800-4E72-AB25-CAC2F449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FA3F-4260-47CA-8A33-0A610575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07D8-2409-4ACC-8B2C-DB1A2145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52F8-2808-4D03-8CF7-0DB2DD6B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FF3E-C9F9-4F25-9DBD-5E1142B1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EAD0C-B594-49B8-BE70-42CDD42E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2F4C7-DB70-4CA8-9262-5A6A85BA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89FA-8C2C-4FEC-B4A2-B724ECBA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B09-7457-4279-8F3B-A9C98FC4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8DBB9-4FBA-46E9-A278-81E3C579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AA09-2E78-4EE6-B45C-92B61B98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0F64-D9D0-4D25-957C-D27C7551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45C2-EF7B-4C12-99C2-95F95A06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18AF0-9063-475C-BD04-7F315DAD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4248-C761-4200-8F1B-A7DC54B8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6677-E35A-4F23-BDBA-5149F883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E635B-A98D-45F8-84C4-7E0B3F5F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A38B-0871-4986-B491-5CD26FDF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5044-D834-4741-B6CE-3D914431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9C1-42F4-4851-A585-BF8F780B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9594-E632-402A-98EF-21492864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71E91-65BA-4E7D-AB83-96B790C1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37924-E6BF-43C6-A8E5-52429D2E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3AA06-284B-432A-A504-5122C117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96DFB-FB6A-461A-9B91-3E03E595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D3E96-838B-4128-96B3-D28E1A8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14E89-5532-45FF-AF9F-51D0DA04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5F96-18D3-4FD5-8A6E-873AECC2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8971-BA78-4477-A3BA-B329783D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7A7-3B70-4E29-B0F3-E380379E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DCE-9005-4EE3-BB11-AE61856C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968-8C6E-4C17-AB89-CCCFE210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0F5-0A9F-487F-A73E-AC71936B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661-A57F-488B-8D8B-6A7A8B72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51CF-86AF-4D66-8B84-A13241FA50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9E23-E2C8-47E6-9F27-EC8615FF33B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A6F6-ECCD-4576-B52F-C8869F3CF53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3D1B-A92F-4281-8DF5-89C9B51414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41280" y="208080"/>
            <a:ext cx="8412120" cy="1066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13880" y="1428480"/>
            <a:ext cx="4714920" cy="5143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Т</a:t>
            </a:r>
            <a:r>
              <a:rPr b="0" lang="ru-RU" sz="2600" spc="-1" strike="noStrike">
                <a:solidFill>
                  <a:srgbClr val="ffff00"/>
                </a:solidFill>
                <a:latin typeface="Arial Cyr Chuv"/>
              </a:rPr>
              <a:t>.р.к ч.лхилл. халёхсем </a:t>
            </a:r>
            <a:r>
              <a:rPr b="0" lang="en-US" sz="2600" spc="-1" strike="noStrike">
                <a:solidFill>
                  <a:srgbClr val="ffff00"/>
                </a:solidFill>
                <a:latin typeface="Arial Cyr Chuv"/>
              </a:rPr>
              <a:t>XIII-XIV </a:t>
            </a:r>
            <a:r>
              <a:rPr b="0" lang="ru-RU" sz="2600" spc="-1" strike="noStrike">
                <a:solidFill>
                  <a:srgbClr val="ffff00"/>
                </a:solidFill>
                <a:latin typeface="Arial Cyr Chuv"/>
              </a:rPr>
              <a:t>.м.рсенче хальхи сён-сёпат иле==.: хальхи этнонимсемпе паллё пула==.? Унчченхи тапхёр вара м.нпур т.р.к халёх.сен ум историй. пулса тёрать?+авна май халёхсем чёмёртаниччен хайланё литература палёк.сене т.р.к ч.лхилл. Халёхсенчен кашниех хёй.н тесе хисеплеме тив.=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Documents and Settings\Admin\Рабочий стол\др.тюрксакая лит\846130141.jpg"/>
          <p:cNvPicPr/>
          <p:nvPr/>
        </p:nvPicPr>
        <p:blipFill>
          <a:blip r:embed="rId2"/>
          <a:stretch/>
        </p:blipFill>
        <p:spPr>
          <a:xfrm>
            <a:off x="5643720" y="1428840"/>
            <a:ext cx="292896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 Cyr Chuv"/>
              </a:rPr>
              <a:t>Т.р.к каганач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2855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  </a:t>
            </a:r>
            <a:r>
              <a:rPr b="0" lang="ru-RU" sz="2600" spc="-1" strike="noStrike">
                <a:solidFill>
                  <a:srgbClr val="000000"/>
                </a:solidFill>
                <a:latin typeface="Arial Cyr Chuv"/>
              </a:rPr>
              <a:t>.м.рте Т.п тата Вётам Азире: Кёнтёр +.п.р тёрёх.нче Т.р.к каганач. й.ркеленсе аталанма тытёнать? Каганата к.рекен т.р.к халёх.сем </a:t>
            </a:r>
            <a:r>
              <a:rPr b="0" lang="ru-RU" sz="2600" spc="-1" strike="noStrike">
                <a:solidFill>
                  <a:srgbClr val="ff0000"/>
                </a:solidFill>
                <a:latin typeface="Arial Cyr Chuv"/>
              </a:rPr>
              <a:t>руна: манихей тата уйгур </a:t>
            </a:r>
            <a:r>
              <a:rPr b="0" lang="ru-RU" sz="2600" spc="-1" strike="noStrike">
                <a:solidFill>
                  <a:srgbClr val="000000"/>
                </a:solidFill>
                <a:latin typeface="Arial Cyr Chuv"/>
              </a:rPr>
              <a:t>=ырёв.семпе усё курнё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C:\Documents and Settings\Admin\Рабочий стол\др.тюрксакая лит\тюркский каганат.jpg"/>
          <p:cNvPicPr/>
          <p:nvPr/>
        </p:nvPicPr>
        <p:blipFill>
          <a:blip r:embed="rId1"/>
          <a:stretch/>
        </p:blipFill>
        <p:spPr>
          <a:xfrm>
            <a:off x="714240" y="3000240"/>
            <a:ext cx="7586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0438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Орхонпа Енисей </a:t>
            </a:r>
            <a:r>
              <a:rPr b="0" lang="ru-RU" sz="5000" spc="-1" strike="noStrike">
                <a:solidFill>
                  <a:srgbClr val="c00000"/>
                </a:solidFill>
                <a:latin typeface="Arial Cyr Chuv"/>
              </a:rPr>
              <a:t>=ырёв.се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57840" y="2857320"/>
            <a:ext cx="311472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4" descr="C:\Documents and Settings\Admin\Рабочий стол\др.тюрксакая лит\551.gif"/>
          <p:cNvPicPr/>
          <p:nvPr/>
        </p:nvPicPr>
        <p:blipFill>
          <a:blip r:embed="rId1"/>
          <a:stretch/>
        </p:blipFill>
        <p:spPr>
          <a:xfrm>
            <a:off x="500040" y="785880"/>
            <a:ext cx="3263760" cy="5786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Admin\Рабочий стол\др.тюрксакая лит\800px-Selenga.png"/>
          <p:cNvPicPr/>
          <p:nvPr/>
        </p:nvPicPr>
        <p:blipFill>
          <a:blip r:embed="rId2"/>
          <a:stretch/>
        </p:blipFill>
        <p:spPr>
          <a:xfrm>
            <a:off x="4000680" y="1143000"/>
            <a:ext cx="436716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Documents and Settings\Admin\Рабочий стол\др.тюрксакая лит\Ob_Enisei_basin_map.jpg.gif"/>
          <p:cNvPicPr/>
          <p:nvPr/>
        </p:nvPicPr>
        <p:blipFill>
          <a:blip r:embed="rId3"/>
          <a:stretch/>
        </p:blipFill>
        <p:spPr>
          <a:xfrm>
            <a:off x="4000680" y="3786120"/>
            <a:ext cx="4429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рхонпа Енисей </a:t>
            </a:r>
            <a:r>
              <a:rPr b="0" lang="ru-RU" sz="5000" spc="-1" strike="noStrike">
                <a:solidFill>
                  <a:srgbClr val="04617b"/>
                </a:solidFill>
                <a:latin typeface="Arial Cyr Chuv"/>
              </a:rPr>
              <a:t>=ырёв.се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9288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Cyr Chuv"/>
              </a:rPr>
              <a:t>Т.п Азири руна =ырёвне т.пчев=.се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Cyr Chuv"/>
              </a:rPr>
              <a:t>Орхон тата Енисей</a:t>
            </a:r>
            <a:r>
              <a:rPr b="0" lang="ru-RU" sz="2600" spc="-1" strike="noStrike">
                <a:solidFill>
                  <a:srgbClr val="000000"/>
                </a:solidFill>
                <a:latin typeface="Arial Cyr Chuv"/>
              </a:rPr>
              <a:t> тексч.сем =ине пайла==.? В.сем авалхи т.р.к эпитафи т.сл.х.сем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C:\Documents and Settings\Admin\Рабочий стол\др.тюрксакая лит\uighur_inscriptions.jpg"/>
          <p:cNvPicPr/>
          <p:nvPr/>
        </p:nvPicPr>
        <p:blipFill>
          <a:blip r:embed="rId1"/>
          <a:stretch/>
        </p:blipFill>
        <p:spPr>
          <a:xfrm>
            <a:off x="2786040" y="2500200"/>
            <a:ext cx="3379680" cy="2357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C:\Documents and Settings\Admin\Рабочий стол\др.тюрксакая лит\e57a.jpg"/>
          <p:cNvPicPr/>
          <p:nvPr/>
        </p:nvPicPr>
        <p:blipFill>
          <a:blip r:embed="rId2"/>
          <a:stretch/>
        </p:blipFill>
        <p:spPr>
          <a:xfrm>
            <a:off x="6572160" y="2428920"/>
            <a:ext cx="2138400" cy="4056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C:\Documents and Settings\Admin\Рабочий стол\др.тюрксакая лит\Kyzyl_orkhon_inscription.jpg"/>
          <p:cNvPicPr/>
          <p:nvPr/>
        </p:nvPicPr>
        <p:blipFill>
          <a:blip r:embed="rId3"/>
          <a:stretch/>
        </p:blipFill>
        <p:spPr>
          <a:xfrm>
            <a:off x="357120" y="2425680"/>
            <a:ext cx="2143080" cy="4194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C:\Documents and Settings\Admin\Рабочий стол\др.тюрксакая лит\Kokturk_Tengri.gif"/>
          <p:cNvPicPr/>
          <p:nvPr/>
        </p:nvPicPr>
        <p:blipFill>
          <a:blip r:embed="rId4"/>
          <a:stretch/>
        </p:blipFill>
        <p:spPr>
          <a:xfrm>
            <a:off x="2857680" y="5000760"/>
            <a:ext cx="3571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2060"/>
                </a:solidFill>
                <a:latin typeface="Calibri"/>
              </a:rPr>
              <a:t>Тоньюкук </a:t>
            </a:r>
            <a:r>
              <a:rPr b="0" lang="ru-RU" sz="4500" spc="-1" strike="noStrike">
                <a:solidFill>
                  <a:srgbClr val="002060"/>
                </a:solidFill>
                <a:latin typeface="Arial Cyr Chuv"/>
              </a:rPr>
              <a:t>яч.пе лартнё чул юп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214600" y="4357800"/>
            <a:ext cx="3786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Туньюкук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 Cyr Chuv"/>
              </a:rPr>
              <a:t>т.р.ксен =ар пу=.? Вёл хёй.н паттёрлёх. =инчен калать: Т.р.к каганач. й.ркеленн. вёхёта аса илет: патшалёх т.рекленсе пынине: т.рл. походсене =\ренине кётартать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Documents and Settings\Admin\Рабочий стол\др.тюрксакая лит\308.jpg"/>
          <p:cNvPicPr/>
          <p:nvPr/>
        </p:nvPicPr>
        <p:blipFill>
          <a:blip r:embed="rId1"/>
          <a:stretch/>
        </p:blipFill>
        <p:spPr>
          <a:xfrm>
            <a:off x="357120" y="1071720"/>
            <a:ext cx="4714920" cy="557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Admin\Рабочий стол\др.тюрксакая лит\tonukuk.jpg"/>
          <p:cNvPicPr/>
          <p:nvPr/>
        </p:nvPicPr>
        <p:blipFill>
          <a:blip r:embed="rId2"/>
          <a:stretch/>
        </p:blipFill>
        <p:spPr>
          <a:xfrm>
            <a:off x="5857920" y="1071720"/>
            <a:ext cx="253980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2060"/>
                </a:solidFill>
                <a:latin typeface="Calibri"/>
              </a:rPr>
              <a:t>Юсуф Хас-Хаджиб Баласагуни</a:t>
            </a:r>
            <a:br>
              <a:rPr sz="4500"/>
            </a:br>
            <a:r>
              <a:rPr b="0" lang="ru-RU" sz="4500" spc="-1" strike="noStrike">
                <a:solidFill>
                  <a:srgbClr val="002060"/>
                </a:solidFill>
                <a:latin typeface="Calibri"/>
              </a:rPr>
              <a:t>«Кутадгу били» </a:t>
            </a:r>
            <a:r>
              <a:rPr b="0" lang="ru-RU" sz="4500" spc="-1" strike="noStrike">
                <a:solidFill>
                  <a:srgbClr val="002060"/>
                </a:solidFill>
                <a:latin typeface="Arial Cyr Chuv"/>
              </a:rPr>
              <a:t>(«Хётлё п.л\»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071600" y="1499760"/>
            <a:ext cx="4614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 .м.рте т.р.к ч.лхилл.х халёхсен фиодал.сем ислам т.нне йышёна==.: руна =ырулёхне пёрахё=ласа араб графики =ине ку=а==.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1060-1070 =улсенче Кашгар =ынни Юсуф Баласагуни «Хётлё п.л\»  дидактикёллё поэма =ырать?Автор хёй.н поэминче феодалсен пусмёрне питлет: патшалёха чёмёртас: наукёсене: суту-ил.ве аталантарас шухёшсене ырлать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Documents and Settings\Admin\Рабочий стол\др.тюрксакая лит\balasaguni_un.jpg"/>
          <p:cNvPicPr/>
          <p:nvPr/>
        </p:nvPicPr>
        <p:blipFill>
          <a:blip r:embed="rId1"/>
          <a:stretch/>
        </p:blipFill>
        <p:spPr>
          <a:xfrm>
            <a:off x="357120" y="1285920"/>
            <a:ext cx="3430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57840" y="21384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ахмуд ибн ал-Хусайн ибн Мухаммад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л-Кашгари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(1029-1101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0"/>
            <a:ext cx="5043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072-1078 </a:t>
            </a: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=улсенче Багдад хулинче пурёнакан Кашгар Махмуч. </a:t>
            </a:r>
            <a:r>
              <a:rPr b="0" lang="ru-RU" sz="2400" spc="-1" strike="noStrike">
                <a:solidFill>
                  <a:srgbClr val="ff0000"/>
                </a:solidFill>
                <a:latin typeface="Arial Cyr Chuv"/>
              </a:rPr>
              <a:t>«Т.р.к сёмах.сен пуххи» («Диван лугат ат-т\рк») </a:t>
            </a: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пысёк .= =ырать?     Махмут т.р.к ч.лхилл. йёхсен =.р.сене =итсе курнё: в.сен этнографи уйрёмлёх.сене т.пчен.: халёх сёмахлёх.н уйрёмлёх.сене пу=тарнё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C:\Documents and Settings\Admin\Рабочий стол\др.тюрксакая лит\махмут.jpg"/>
          <p:cNvPicPr/>
          <p:nvPr/>
        </p:nvPicPr>
        <p:blipFill>
          <a:blip r:embed="rId1"/>
          <a:stretch/>
        </p:blipFill>
        <p:spPr>
          <a:xfrm>
            <a:off x="5715000" y="2071800"/>
            <a:ext cx="3090960" cy="439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Admin\Рабочий стол\др.тюрксакая лит\резиденция и мавзолей.jpg"/>
          <p:cNvPicPr/>
          <p:nvPr/>
        </p:nvPicPr>
        <p:blipFill>
          <a:blip r:embed="rId2"/>
          <a:stretch/>
        </p:blipFill>
        <p:spPr>
          <a:xfrm>
            <a:off x="642960" y="3714840"/>
            <a:ext cx="4286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Ибн Фадлан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04617b"/>
                </a:solidFill>
                <a:latin typeface="Calibri"/>
              </a:rPr>
              <a:t>Ахмед ибн-аль-'Аббас ибн Рашид ибн-Хаммад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840" y="1356840"/>
            <a:ext cx="442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Ахмед ибн-Фадлан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, —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рабсен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ислам тĕнне сарса çӳрекен </a:t>
            </a: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=ул =\рев=.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=ырав=ё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. Вăл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.м.рте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пурăнн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922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çулта </a:t>
            </a: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Атёл=и Пёлхар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патшалăхне </a:t>
            </a: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ислам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тĕнне явăçтарас тĕлĕшпе килсе çӳренĕ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Кĕскен каласан, хăй куçĕпе авалхи </a:t>
            </a: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чёвашсене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курнă хыççăн, питĕ тĕлĕннĕ. Хăйĕн кун кĕнекинче вĕсен йăли-йĕркине, кун-çулне çырса хăварнă, çапла унăн çырăвĕсем паянкуна та çитнĕ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D:\др.тюрксакая лит\Bulgar_volga.jpg"/>
          <p:cNvPicPr/>
          <p:nvPr/>
        </p:nvPicPr>
        <p:blipFill>
          <a:blip r:embed="rId1"/>
          <a:stretch/>
        </p:blipFill>
        <p:spPr>
          <a:xfrm>
            <a:off x="4786200" y="2000160"/>
            <a:ext cx="41436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5:24:49Z</dcterms:created>
  <dc:creator>Admin</dc:creator>
  <dc:description/>
  <dc:language>en-US</dc:language>
  <cp:lastModifiedBy>Admin</cp:lastModifiedBy>
  <dcterms:modified xsi:type="dcterms:W3CDTF">2010-09-11T04:27:13Z</dcterms:modified>
  <cp:revision>34</cp:revision>
  <dc:subject/>
  <dc:title>Авалхи т.р.к литератури</dc:title>
</cp:coreProperties>
</file>