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877-5715-4481-BBFA-832262B1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8A3-B9B5-41EC-BBCC-5CDCA703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773-D67F-4AA5-9083-1B7F8A10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29E-DE56-417C-B1BA-03933F58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CCE5-13D8-4C51-84AF-A546329E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A1FC-4BD4-4C8C-980A-F4AB8DFB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EFF0-6B2F-4243-990D-9B1AC07A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A80C-5E7E-4224-94AB-4C8F8CE8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417C-E7BF-4B82-BB86-970047AD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C433-068B-40AC-A24E-8BA5C771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E93F-BB13-4207-9637-A3137ABD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DD0-3367-479D-A670-B6AA30A9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09D9-4E6D-48F9-8C52-55E7CF41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C3EA-B500-4A2C-B9BE-37EB3007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ED00-7994-4245-8E29-5BF950E5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7C91-D2A4-4487-92B6-8E46ED92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5C6E-B0C4-4233-BF9C-1B0B6EA7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EACA4-8564-414F-B19C-7F1982B3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7378C-1EF1-4512-AFC1-1C2C09C1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ADDB-AB2E-456E-BCC8-C4408DFB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D0439-BD35-4779-87CC-995F1A9C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46363-FF5D-4288-800C-E630CB19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C3C-C69C-4FF9-A08A-27CFDC68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0C30-DCEF-482D-8248-86817BB9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66339-54F2-4C69-89C9-6790B083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7D36-1128-4D41-99A9-56EF5B54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F47D3-739F-4577-B6C5-D49A58B7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2342F-B3E0-49F8-A0E1-51B08EF7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5603-777C-4F94-8F0B-65F43F4D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F219C-D908-4A67-8559-D1858E0B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11811-47CC-40EC-BCA5-3BA64DC4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E0AC8-B7EB-47E1-BA31-8C3E19F1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3F7B5-599B-4EE8-985D-534033C0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B6E-4C5A-44A0-97B7-A63A8D0B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E3A2C-D178-4D68-A832-D528FF9A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361A5-A6FE-4DA3-AEA4-A0B31C0B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C88E0-C096-48DC-92DB-2D39EC9F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189C7-9B7C-47AF-8700-DA7F5515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5E739-D8A7-4C73-AC0C-7F30F8C5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B0EC2-535C-4A52-A432-88B2F659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60537-BFDA-46D6-A4C7-17543207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1195F-02C5-498E-9A26-597B9E16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366EF-2D61-4056-B8DC-5EAABE19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DC14F-1CC5-4B12-8F9E-D55616F7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476-A348-447C-A818-353B1A31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ECD39-8DF0-410B-B939-06A51DB0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838D4-F120-4384-8241-28BF74E2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0E12A-2108-439B-A813-7F300F68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7CE35-2D79-40EC-86C6-C656859B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906D7-B4D2-4ABB-BD43-350DC2FF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1E90E-701A-4213-807F-A8267407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54D28-902B-4B43-9096-2CC426B7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65F8F-0B6C-480A-94EC-EA80321D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192C4-4FE5-4148-A739-5EA8F4FF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3C03C-AE53-45EB-A5EC-E620FEA2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6D0-C49F-4ED5-AE2D-C4CD9E41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3236E-C181-478E-9A1C-7BAAC314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D5984-1501-461C-A4F2-81A4EA68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22921-89B9-4C80-879F-E82FD3C1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F152C-7796-485B-9B5E-BAAD1711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0F424-3DA4-45A8-BE1F-1E5ABFA4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6EB22-7748-4948-BDE2-34C52DD6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1E217-D6BE-4A90-8C66-C97FDDC8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E7EFF-BFD1-4AF3-9218-1E21EB7A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37C8F-2BBC-4B92-B03C-E2999333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BDBE1-D38B-4697-8957-5502D137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57B-B8A2-497C-8FE7-9C3C36BB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32E86-630F-49F1-A4FF-5BB6CE48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7C189-9B40-4631-A795-49C0AB2F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265D6-F414-4C60-8546-71892FD4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E49C5-F4A0-4FD8-A53F-0DE9253D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819F5-9090-46DA-A263-942601FB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D66C7-B70A-440F-B0DC-73E8D819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03D86-D909-4E77-8158-E5D2D6D3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8D419-9F92-4986-83A5-BA456AF8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CD8F3-A568-49AB-8DBC-ED83A143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4EC93-1EFB-4424-8887-38FB7CBE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CAA-EA2E-4B7C-AAC3-E409269E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059AE-DE26-41D3-89C7-622287B9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0B1C9-9C59-47AF-AF51-0F8A83BE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33152-1D02-4D19-906C-DCD189FB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94669-5FEA-4391-B38B-A12F2CDE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20E39-3E28-4982-8D8E-79B22FC9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B3B-0A7B-422D-8782-253BBC92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46A0-418B-4E73-92C7-198D6D0FEFE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11F8-C3D6-431E-989A-A4741BDD97D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4FB0-7CF0-434F-AD40-DD5ACA85A6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61EF-BF12-4416-9B0A-29023A62D5F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3863-0DDA-468D-B020-9760EDBC1C7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0A96-422D-4265-8180-699F31933B5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65CD-47E6-4C28-9B04-0BBE9822AA9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3880" y="1447920"/>
            <a:ext cx="7407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верочные задания по тексту повести А. С. Пушкин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47560" y="373392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20e04"/>
                </a:solidFill>
                <a:latin typeface="Corbel"/>
              </a:rPr>
              <a:t>«Капитанская дочка»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20e04"/>
                </a:solidFill>
                <a:latin typeface="Corbel"/>
              </a:rPr>
              <a:t>8 класс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опрос № 9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О каком персонаже повести идет речь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94920" y="18284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шедший в офицеры из солдатских детей, человек необразованный и простой, но самый честный и добрый. Жена его им управляла, что согласовывалось с его беспечность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опрос № 10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О каком персонаже повести идет речь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371240" y="22856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на была в белом утреннем платье, в ночном чепце и душегрейке. Ей казалось лет сорок. Лицо её, полное и румяное, выражало важность и спокойствие, а голубые глаза и легкая улыбка имели прелесть неизъясниму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2209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Corbel"/>
              </a:rPr>
              <a:t>Проверим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294920" y="44575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240" y="-7621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47560" y="6091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Петр Гринев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Мария Миронов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Пугачев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Швабрин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Зурин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Пугачев (вожатый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.Василиса Егоровна (жена коменданта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8.Мария Миронов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9.Иван Кузьмич (комендант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0.Императрица Екатерина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I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опрос № 1.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Кому из персонажей повести принадлежат эти слова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47560" y="24379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Нет, - отвечал я с твёрдостию, - Я природный дворянин; я присягал государыне императрице: тебе служить не могу. Коли ты в самом деле желаешь мне добра, так отпусти меня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Оренбур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опрос № 2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Кому из персонажей повести принадлежат эти слова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47560" y="18284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«Я так и обмерла, - сказала она, - когда сказали нам, что вы намерены биться на шпагах. Как мужчины странны! За одно слово, о котором через неделю                           верно б они позабыли, они готовы резаться и жертвовать не только жизнию, но и совестию, и благополучием тех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оторые… Нет, я уверена, что вы не зачинщик ссоры. Верно виноват Алексей Иваныч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опрос № 3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Кому из персонажей повести принадлежат эти слова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371240" y="24379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Что, ваше благородие? – сказал он мне. – Струсил ты, признайся, когда молодцы мои накинули тебе верёвку на  шею? Я чаю, небо в овчинку показалось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опрос № 4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Кому из персонажей повести принадлежат эти слова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94920" y="18284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вините меня, - сказал он мне по-французски, - что я без церемонии прихожу с вами познакомиться. Вчера узнал я о вашем приезде; желание увидеть наконец человеческое лицо так овладело мною, что я не вытерпел. Вы это поймёте, когда проживёте здесь ещё несколько времен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опрос № 5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Кому из персонажей повести принадлежат эти слова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71240" y="2590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…одно нехорошо: зачем тебя черт несет жениться?  Я, честный офицер, не захочу тебя обманывать: поверь же ты мне, что женитьба блажь.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опрос № 6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 каком персонаже повести идет речь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47560" y="17521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ружность его показалась мне замечательна: он был лет сорока, росту среднего, худощав и широкоплеч. В чёрной бороде его показывалась проседь; живые большие глаза так и бегали. Лиц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го имело выражение довольно приятное, но плутовск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опрос № 7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О каком персонаже повести идет речь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47560" y="2590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 окна сидела старушка в телогрейке и с  платком на голове. Она разматывала нитки, которые держал, распялив на руках, кривой старичок в офицерском мундир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опрос № 8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О каком персонаже повести идет речь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371240" y="17521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ут вошла девушка лет осьмнадцат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углолицая, румяная, с светло-русыми волосами, гладко зачёсанными за уши, которые у ней так и горели. С первого взгляда она не очень мне понравилас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2-01-18T15:28:55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