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B65-EBC7-4547-A436-BAC825C3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07C-A93F-4C9C-8EB3-270BFD3E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0DF-C5B9-483C-A2D1-E6AE0941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582-AAC1-40E9-9F79-8E5298D8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AD4-CF39-4385-AD37-DCEFAA5B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52C-BD43-4852-971D-12AE50B1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693-2B97-486F-B235-F5B07D1C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011-D012-4EC8-84E3-1EB92403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8BE-94AC-426A-B118-86DEA61A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044-EE02-409E-B205-31F7EA47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B9F-9EC4-4FBA-BA1E-5D7F92C7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993E-CB0D-4B35-AC85-EA1B1B0C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9D81-1B8B-4750-9D95-3B9BA9067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1371600"/>
            <a:ext cx="76960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дел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вивающего    цикл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048120" y="533520"/>
            <a:ext cx="3362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тверг, 17 мар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chair1"/>
          <p:cNvSpPr/>
          <p:nvPr/>
        </p:nvSpPr>
        <p:spPr>
          <a:xfrm>
            <a:off x="4952880" y="1828800"/>
            <a:ext cx="3962520" cy="46483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овременность и традиция» - конкурс коллекций моделей из экологически чистых материалов, объединяющих современный стиль и народные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743200" y="457200"/>
            <a:ext cx="3543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ятница, 18 мар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chair3"/>
          <p:cNvSpPr/>
          <p:nvPr/>
        </p:nvSpPr>
        <p:spPr>
          <a:xfrm>
            <a:off x="1371600" y="3962520"/>
            <a:ext cx="7772400" cy="2166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рода. Культура. Экология» - конкурс фольклорных и театральных коллективов (агитбрига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23880" y="609480"/>
            <a:ext cx="6705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ббота, 19 мар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219320" y="4572000"/>
            <a:ext cx="716256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нь здоровь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filecab3"/>
          <p:cNvSpPr/>
          <p:nvPr/>
        </p:nvSpPr>
        <p:spPr>
          <a:xfrm>
            <a:off x="380880" y="304920"/>
            <a:ext cx="3733920" cy="13716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Ребя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ринимайте активное участие в конкурсах недел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7162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400000">
            <a:off x="-2210040" y="26668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Цель   недели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PubOvalCallout"/>
          <p:cNvSpPr/>
          <p:nvPr/>
        </p:nvSpPr>
        <p:spPr>
          <a:xfrm>
            <a:off x="3809880" y="0"/>
            <a:ext cx="5105520" cy="3772080"/>
          </a:xfrm>
          <a:custGeom>
            <a:avLst/>
            <a:gdLst>
              <a:gd name="textAreaLeft" fmla="*/ 747360 w 5105520"/>
              <a:gd name="textAreaRight" fmla="*/ 4358160 w 5105520"/>
              <a:gd name="textAreaTop" fmla="*/ 414360 h 3772080"/>
              <a:gd name="textAreaBottom" fmla="*/ 2416320 h 37720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Подготовка к Всероссийскому детскому экологическому фору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«Зелёная плане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ubOvalCallout"/>
          <p:cNvSpPr/>
          <p:nvPr/>
        </p:nvSpPr>
        <p:spPr>
          <a:xfrm>
            <a:off x="3657600" y="533520"/>
            <a:ext cx="5334120" cy="5943600"/>
          </a:xfrm>
          <a:custGeom>
            <a:avLst/>
            <a:gdLst>
              <a:gd name="textAreaLeft" fmla="*/ 780840 w 5334120"/>
              <a:gd name="textAreaRight" fmla="*/ 4553280 w 5334120"/>
              <a:gd name="textAreaTop" fmla="*/ 653040 h 5943600"/>
              <a:gd name="textAreaBottom" fmla="*/ 3807360 h 59436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рогие  ребя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тите внимание на уникальность планеты Земля, в том числе и малой родины, дарующей жизнь всему живому, а также на значение освоения космического пространства для развития науки и современных технол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ubOvalCallout"/>
          <p:cNvSpPr/>
          <p:nvPr/>
        </p:nvSpPr>
        <p:spPr>
          <a:xfrm>
            <a:off x="228600" y="1066680"/>
            <a:ext cx="5257800" cy="5181840"/>
          </a:xfrm>
          <a:custGeom>
            <a:avLst/>
            <a:gdLst>
              <a:gd name="textAreaLeft" fmla="*/ 769680 w 5257800"/>
              <a:gd name="textAreaRight" fmla="*/ 4488120 w 5257800"/>
              <a:gd name="textAreaTop" fmla="*/ 569520 h 5181840"/>
              <a:gd name="textAreaBottom" fmla="*/ 3319200 h 51818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ежно относитесь к единым общественным ценностям в соответствии с принципом сохранения культурного и природного разнообр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ubOvalCallout"/>
          <p:cNvSpPr/>
          <p:nvPr/>
        </p:nvSpPr>
        <p:spPr>
          <a:xfrm>
            <a:off x="0" y="228600"/>
            <a:ext cx="6095880" cy="4876920"/>
          </a:xfrm>
          <a:custGeom>
            <a:avLst/>
            <a:gdLst>
              <a:gd name="textAreaLeft" fmla="*/ 892440 w 6095880"/>
              <a:gd name="textAreaRight" fmla="*/ 5203440 w 6095880"/>
              <a:gd name="textAreaTop" fmla="*/ 536040 h 4876920"/>
              <a:gd name="textAreaBottom" fmla="*/ 3124080 h 48769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ируйте в себе и в своих товарищах экологическую культуру и активную жизненную позицию по отношению к экологическим проблемам России и Ту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80880" y="1447920"/>
            <a:ext cx="83822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  недел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371600" y="0"/>
            <a:ext cx="685800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недельник, 14 мар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PubBanner"/>
          <p:cNvSpPr/>
          <p:nvPr/>
        </p:nvSpPr>
        <p:spPr>
          <a:xfrm>
            <a:off x="533520" y="1676520"/>
            <a:ext cx="7924680" cy="4724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Открытие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росмотр видеофильма «Балту» -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4 часов, конференцз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219320" y="152280"/>
            <a:ext cx="6553080" cy="14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торник, 15 мар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DownRibbonSharp"/>
          <p:cNvSpPr/>
          <p:nvPr/>
        </p:nvSpPr>
        <p:spPr>
          <a:xfrm>
            <a:off x="0" y="1828800"/>
            <a:ext cx="9144000" cy="44956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56196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«Жизнь леса и судьбы людей» -литературный конкурс (проза, стихи, публикации, эссе, сценарии) о красоте и экологических проблемах родного края, а также о людях, посвятивших свою жизнь охране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«Зеленая планета глазами детей» - конкурс рису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«Экообъектив» - конкурс фотографий об экологической социально-полезной деятельности детских коллектив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росмотр фильма «Медведь» - в 14 часов в конференцз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133720" y="152280"/>
            <a:ext cx="5943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еда, 16 мар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Cloud"/>
          <p:cNvSpPr/>
          <p:nvPr/>
        </p:nvSpPr>
        <p:spPr>
          <a:xfrm>
            <a:off x="1143000" y="2509920"/>
            <a:ext cx="6934320" cy="3205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Многообразие вековых традиций» - конкурс отдельных поделок и композиций из природного материала, отражающих самобытность народов, населяющих планету Земля (выставка в кабинете физика в 14.30 час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Ивановна</cp:lastModifiedBy>
  <dcterms:modified xsi:type="dcterms:W3CDTF">2012-01-18T18:08:0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