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582-8392-4C42-AB5B-101F3E3F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06D-1672-4180-83D8-EC970D4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E09-1596-42D3-8612-A6E6E5B5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CAE-823A-495A-B4D1-53EFFB0A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7BB-21BB-437B-984A-5C13DA7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9B5-842E-4CF2-A8B0-185B1C46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30C-F6EE-4BEC-9628-D73B3CE1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A92-9E36-4A3F-9C51-E4582C5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07C-6A8E-493F-B211-C0DA639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801-7B54-4D18-AD70-3A25188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A10-ECBD-4D81-95D5-F2CA09E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108-95EC-49C8-8AED-9F54F27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3BC-40D2-45C6-B41A-3DA59398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371600"/>
            <a:ext cx="7696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ел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вивающего    цикл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048120" y="533520"/>
            <a:ext cx="3362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тверг, 17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chair1"/>
          <p:cNvSpPr/>
          <p:nvPr/>
        </p:nvSpPr>
        <p:spPr>
          <a:xfrm>
            <a:off x="4952880" y="1828800"/>
            <a:ext cx="3962520" cy="4648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овременность и традиция» - конкурс коллекций моделей из экологически чистых материалов, объединяющих современный стиль и народные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743200" y="457200"/>
            <a:ext cx="354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ятница, 18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chair3"/>
          <p:cNvSpPr/>
          <p:nvPr/>
        </p:nvSpPr>
        <p:spPr>
          <a:xfrm>
            <a:off x="1371600" y="3962520"/>
            <a:ext cx="7772400" cy="2166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рода. Культура. Экология» - конкурс фольклорных и театральных коллективов (агитбрига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3880" y="609480"/>
            <a:ext cx="6705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ббота, 19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19320" y="4572000"/>
            <a:ext cx="716256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доровь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filecab3"/>
          <p:cNvSpPr/>
          <p:nvPr/>
        </p:nvSpPr>
        <p:spPr>
          <a:xfrm>
            <a:off x="380880" y="304920"/>
            <a:ext cx="3733920" cy="1371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Принимайте активное участие в конкурсах неде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16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-2210040" y="26668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Цель   недели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PubOvalCallout"/>
          <p:cNvSpPr/>
          <p:nvPr/>
        </p:nvSpPr>
        <p:spPr>
          <a:xfrm>
            <a:off x="3809880" y="0"/>
            <a:ext cx="5105520" cy="3772080"/>
          </a:xfrm>
          <a:custGeom>
            <a:avLst/>
            <a:gdLst>
              <a:gd name="textAreaLeft" fmla="*/ 747360 w 5105520"/>
              <a:gd name="textAreaRight" fmla="*/ 4358160 w 5105520"/>
              <a:gd name="textAreaTop" fmla="*/ 414360 h 3772080"/>
              <a:gd name="textAreaBottom" fmla="*/ 2416320 h 3772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одготовка к Всероссийскому детскому экологическому фо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«Зелёная план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ubOvalCallout"/>
          <p:cNvSpPr/>
          <p:nvPr/>
        </p:nvSpPr>
        <p:spPr>
          <a:xfrm>
            <a:off x="3657600" y="533520"/>
            <a:ext cx="5334120" cy="5943600"/>
          </a:xfrm>
          <a:custGeom>
            <a:avLst/>
            <a:gdLst>
              <a:gd name="textAreaLeft" fmla="*/ 780840 w 5334120"/>
              <a:gd name="textAreaRight" fmla="*/ 4553280 w 5334120"/>
              <a:gd name="textAreaTop" fmla="*/ 653040 h 5943600"/>
              <a:gd name="textAreaBottom" fmla="*/ 3807360 h 59436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ие 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тите внимание на уникальность планеты Земля, в том числе и малой родины, дарующей жизнь всему живому, а также на значение освоения космического пространства для развития науки и совреме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ubOvalCallout"/>
          <p:cNvSpPr/>
          <p:nvPr/>
        </p:nvSpPr>
        <p:spPr>
          <a:xfrm>
            <a:off x="228600" y="1066680"/>
            <a:ext cx="5257800" cy="5181840"/>
          </a:xfrm>
          <a:custGeom>
            <a:avLst/>
            <a:gdLst>
              <a:gd name="textAreaLeft" fmla="*/ 769680 w 5257800"/>
              <a:gd name="textAreaRight" fmla="*/ 4488120 w 5257800"/>
              <a:gd name="textAreaTop" fmla="*/ 569520 h 5181840"/>
              <a:gd name="textAreaBottom" fmla="*/ 3319200 h 51818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жно относитесь к единым общественным ценностям в соответствии с принципом сохранения культурного и природного разнообр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ubOvalCallout"/>
          <p:cNvSpPr/>
          <p:nvPr/>
        </p:nvSpPr>
        <p:spPr>
          <a:xfrm>
            <a:off x="0" y="228600"/>
            <a:ext cx="6095880" cy="4876920"/>
          </a:xfrm>
          <a:custGeom>
            <a:avLst/>
            <a:gdLst>
              <a:gd name="textAreaLeft" fmla="*/ 892440 w 6095880"/>
              <a:gd name="textAreaRight" fmla="*/ 5203440 w 6095880"/>
              <a:gd name="textAreaTop" fmla="*/ 536040 h 4876920"/>
              <a:gd name="textAreaBottom" fmla="*/ 3124080 h 4876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уйте в себе и в своих товарищах экологическую культуру и активную жизненную позицию по отношению к экологическим проблемам России и Ту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447920"/>
            <a:ext cx="8382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 неде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0"/>
            <a:ext cx="6858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недельник, 14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PubBanner"/>
          <p:cNvSpPr/>
          <p:nvPr/>
        </p:nvSpPr>
        <p:spPr>
          <a:xfrm>
            <a:off x="533520" y="1676520"/>
            <a:ext cx="7924680" cy="4724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ткрытие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росмотр видеофильма «Балту» -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4 часов, конференцз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19320" y="152280"/>
            <a:ext cx="655308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торник, 15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DownRibbonSharp"/>
          <p:cNvSpPr/>
          <p:nvPr/>
        </p:nvSpPr>
        <p:spPr>
          <a:xfrm>
            <a:off x="0" y="1828800"/>
            <a:ext cx="9144000" cy="44956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6196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Жизнь леса и судьбы людей» -литературный конкурс (проза, стихи, публикации, эссе, сценарии) о красоте и экологических проблемах родного края, а также о людях, посвятивших свою жизнь охран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Зеленая планета глазами детей» - конкурс рису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Экообъектив» - конкурс фотографий об экологической социально-полезной деятельности детских коллек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смотр фильма «Медведь» - в 14 часов в конференцз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33720" y="1522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а, 16 ма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Cloud"/>
          <p:cNvSpPr/>
          <p:nvPr/>
        </p:nvSpPr>
        <p:spPr>
          <a:xfrm>
            <a:off x="1143000" y="2509920"/>
            <a:ext cx="6934320" cy="32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ногообразие вековых традиций» - конкурс отдельных поделок и композиций из природного материала, отражающих самобытность народов, населяющих планету Земля (выставка в кабинете физика в 14.30 ча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вановна</cp:lastModifiedBy>
  <dcterms:modified xsi:type="dcterms:W3CDTF">2012-01-18T18:08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