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06E-851F-49D3-9BB8-9540079D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01D-F274-4FE3-9196-1999B9C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D50-D864-4207-A752-FEB38D2A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B4D-0EB4-49B5-B6C7-8010F3A5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F665-98EF-4395-B9E7-BFFDB104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FF4F-FB1F-4DA6-8093-B7CD390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D9B8-6F3F-4A32-9C1A-1057CCF5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23AF-3775-48F0-AEAB-D0A06B4B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CE8C-4BD5-485F-9EA1-FEA7C388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D1C4-77B8-405C-8526-33C0118E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B933-A69B-45C1-B034-0BA0B66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7BE-4249-429A-AFC0-74577F66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7085-BE8A-4228-9D54-504D57C6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E02-565C-440B-A286-CDA94DFE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11A9-AA5D-46E4-832A-E5E7A2B7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94B0-F50B-494A-BE9F-CE964C36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4355-3ADD-4CC1-A8F5-C9790EB0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F49-2548-426A-9908-21F5192E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D77-8C2E-493F-9961-F180807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BE5-989E-4771-BC39-5CC8CA69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4A1-B64F-452B-A3A4-32D6BF0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90B-D809-425C-9635-D8F8FB5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A4F-194B-4B7E-B8B3-4FEBEDE5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F22-E85E-4D6A-9277-B514C0D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1851-34FE-4758-AAA8-22AD947A90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152-3AEE-4043-8A54-E1A0B23A5C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498160" cy="371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РОЕКТ </a:t>
            </a:r>
            <a:br>
              <a:rPr sz="4400"/>
            </a:b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«Овощной калейдоскоп»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дготовительная к школе группа</a:t>
            </a:r>
            <a:br>
              <a:rPr sz="2800"/>
            </a:b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БДОУ «Детский сад «Солнышко» г.Вуктыл</a:t>
            </a:r>
            <a:br>
              <a:rPr sz="2800"/>
            </a:b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оспитатель – Мартюшева Е.Л., 2011 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G:\Овощной калейдоскоп, подг. гр\P1010344.JPG"/>
          <p:cNvPicPr/>
          <p:nvPr/>
        </p:nvPicPr>
        <p:blipFill>
          <a:blip r:embed="rId1"/>
          <a:stretch/>
        </p:blipFill>
        <p:spPr>
          <a:xfrm>
            <a:off x="2428920" y="4000680"/>
            <a:ext cx="4071960" cy="26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6870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Цел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85723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крепление знаний детей об овощах, их пользе для здоровья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развитие творческих способностей детей средствами  разных видов художественно – продуктивн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развитие способностей детей 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поисков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G:\Овощной калейдоскоп, подг. гр\P1010350.JPG"/>
          <p:cNvPicPr/>
          <p:nvPr/>
        </p:nvPicPr>
        <p:blipFill>
          <a:blip r:embed="rId1"/>
          <a:stretch/>
        </p:blipFill>
        <p:spPr>
          <a:xfrm>
            <a:off x="1000080" y="3786120"/>
            <a:ext cx="4000680" cy="2786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:\Овощной калейдоскоп, подг. гр\P1010361.JPG"/>
          <p:cNvPicPr/>
          <p:nvPr/>
        </p:nvPicPr>
        <p:blipFill>
          <a:blip r:embed="rId2"/>
          <a:stretch/>
        </p:blipFill>
        <p:spPr>
          <a:xfrm>
            <a:off x="5214960" y="3000240"/>
            <a:ext cx="3500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87096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ЭТАПЫ РЕАЛИЗАЦИИ ПРОЕК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9898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1 этап – накопление зн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b800"/>
                </a:solidFill>
                <a:uFillTx/>
                <a:latin typeface="Comic Sans MS"/>
              </a:rPr>
              <a:t>Воспитатели + дети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Читали художественные и энциклопедические издания об овоща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Играли в дидактические, словесные, хороводные,подвижные иг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Сочиняли  и разгадывали  загадки, кроссворды, разучивали стих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G:\Овощной калейдоскоп, подг. гр\P1010335.JPG"/>
          <p:cNvPicPr/>
          <p:nvPr/>
        </p:nvPicPr>
        <p:blipFill>
          <a:blip r:embed="rId1"/>
          <a:stretch/>
        </p:blipFill>
        <p:spPr>
          <a:xfrm>
            <a:off x="285840" y="21420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G:\Овощной калейдоскоп, подг. гр\P1010341.JPG"/>
          <p:cNvPicPr/>
          <p:nvPr/>
        </p:nvPicPr>
        <p:blipFill>
          <a:blip r:embed="rId2"/>
          <a:stretch/>
        </p:blipFill>
        <p:spPr>
          <a:xfrm>
            <a:off x="4429080" y="3286080"/>
            <a:ext cx="4071960" cy="314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G:\Овощной калейдоскоп, подг. гр\P1010442.JPG"/>
          <p:cNvPicPr/>
          <p:nvPr/>
        </p:nvPicPr>
        <p:blipFill>
          <a:blip r:embed="rId3"/>
          <a:stretch/>
        </p:blipFill>
        <p:spPr>
          <a:xfrm>
            <a:off x="214200" y="3286080"/>
            <a:ext cx="4000680" cy="3143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G:\Овощной калейдоскоп, подг. гр\P1010337.JPG"/>
          <p:cNvPicPr/>
          <p:nvPr/>
        </p:nvPicPr>
        <p:blipFill>
          <a:blip r:embed="rId4"/>
          <a:stretch/>
        </p:blipFill>
        <p:spPr>
          <a:xfrm>
            <a:off x="4357800" y="214200"/>
            <a:ext cx="4143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2 этап – практическ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i="1" lang="ru-RU" sz="2800" spc="-1" strike="noStrike" u="sng">
                <a:solidFill>
                  <a:srgbClr val="ffb800"/>
                </a:solidFill>
                <a:uFillTx/>
                <a:latin typeface="Comic Sans MS"/>
              </a:rPr>
              <a:t>Воспитатели + де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b2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ассматривал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b2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исследовали: пробовали на вкус, ощупывали, описывали и определяли где растут овощ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b2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нимались творчеством: рисование- «Сказочные превращения овощей», «Что растет на грядке?», «Собираем урожай»; аппликация «Мой любимый овощной сок»; лепка «Дары огород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09604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3 этап – завершающ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i="1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Воспитатели + дети +родит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-  изготовили маски – овощ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-  собрали рецепты овощных салатов и     заготово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- создали альб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«Все овощи хорош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выбирай на вкус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-провели развле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           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для малыш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G:\Овощной калейдоскоп, подг. гр\DSC01963.JPG"/>
          <p:cNvPicPr/>
          <p:nvPr/>
        </p:nvPicPr>
        <p:blipFill>
          <a:blip r:embed="rId1"/>
          <a:stretch/>
        </p:blipFill>
        <p:spPr>
          <a:xfrm>
            <a:off x="4786200" y="3357720"/>
            <a:ext cx="4214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G:\Овощной калейдоскоп, подг. гр\DSC01992.JPG"/>
          <p:cNvPicPr/>
          <p:nvPr/>
        </p:nvPicPr>
        <p:blipFill>
          <a:blip r:embed="rId1"/>
          <a:stretch/>
        </p:blipFill>
        <p:spPr>
          <a:xfrm>
            <a:off x="214200" y="285840"/>
            <a:ext cx="3953160" cy="564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:\Овощной калейдоскоп, подг. гр\DSC01995.JPG"/>
          <p:cNvPicPr/>
          <p:nvPr/>
        </p:nvPicPr>
        <p:blipFill>
          <a:blip r:embed="rId2"/>
          <a:stretch/>
        </p:blipFill>
        <p:spPr>
          <a:xfrm>
            <a:off x="4429080" y="34290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G:\Овощной калейдоскоп, подг. гр\DSC01978.JPG"/>
          <p:cNvPicPr/>
          <p:nvPr/>
        </p:nvPicPr>
        <p:blipFill>
          <a:blip r:embed="rId3"/>
          <a:stretch/>
        </p:blipFill>
        <p:spPr>
          <a:xfrm>
            <a:off x="4429080" y="214200"/>
            <a:ext cx="44290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6:16:10Z</dcterms:created>
  <dc:creator>Завуч</dc:creator>
  <dc:description/>
  <dc:language>en-US</dc:language>
  <cp:lastModifiedBy>Manich</cp:lastModifiedBy>
  <dcterms:modified xsi:type="dcterms:W3CDTF">2012-01-18T17:55:40Z</dcterms:modified>
  <cp:revision>32</cp:revision>
  <dc:subject/>
  <dc:title>ПРОЕКТ «Становление основ экологической культуры в дошкольном возрасте»</dc:title>
</cp:coreProperties>
</file>