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C02-0471-43E4-A4BC-CCEB0371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068-6485-48DF-8E70-EF8D7B96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FC7-6C5C-4F30-BBBE-1BA50441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C8E-F63F-44BF-AD2B-EA30E792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B5E43-7239-40CB-807F-DC6C02DC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AFC8E-4C6F-47A0-A025-B7D95D50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C9FDE-C4BF-4EA6-8F56-DEA76A10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9202A-9EB3-4284-B87C-658B480F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FD8CF-0F3D-4F21-8B5F-D2089591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7DEFF-A340-4486-8353-853196C3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133A5-22DC-4451-A02F-5047EE0C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146-20D9-4328-BC51-332A4C5A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87B1C-556A-4E4A-81A1-C66CDE2D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81D51-8F17-42BC-B186-B07C5C83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2C527-3E0A-43C2-BAEB-8298F7A8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33DCD-2A25-49A5-A8DF-ECE1154F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14CD3-FECF-4FD8-AF62-69B50E47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10D07-1DDF-4681-BD5E-5ADAD9F5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65C8-26A3-4BC2-A496-6FC77E12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5FA6-CA5C-4B4C-A5C2-90EA5CDF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5F87F-862B-41DE-8799-8B89F7A7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C5A2-4643-46F9-B340-A0B68C5B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ED79-13D4-4BF0-AC20-7B894BF7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E4077-2FEC-414A-955B-A50E862F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31AD8-FA5A-430D-B44B-3CD276C0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B7130-0834-4B26-808F-B9817F5B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4B81-A64A-4803-A134-25C76FD7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F5F18-EB13-4A51-B84F-868B7B5B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32AED-819F-4264-A8A6-316AB041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5C799-02F1-4DBB-BBEF-6A086977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120226-1045-4DA0-BE40-E45C745D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F296FB-078C-42F3-A27F-8859B658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82634B-F06A-447E-A8FF-BCAE4953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F97-816A-4D84-B859-00DE5748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31812F-135D-451B-ADCD-761BEF90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BB347-A034-47F0-9E25-2BB5529A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0F27B-E09C-41E0-B3B4-0E2593BA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62DEF9-1CE1-4F30-AC36-9BE305D6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55844-446B-4D48-B3DE-1FBA4297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4E30E3-9D10-4B20-ABAA-094E2299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A63210-53D9-4451-96B6-72DEC0A3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3BDAAC-16B8-4AB1-BF44-78A7A5D0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A79DE2-2C43-4091-B67C-D4D58818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4E4-026F-4893-A757-DFDC7E7B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B60-084F-461F-AA51-E52B2D9F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CAA-2514-44D2-A4B0-45D5D145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8B2-D5F2-41F6-AE1B-5EC5E5C1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167-200F-4E00-9062-C991A140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c0c5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e5b6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F7FB-5BBA-4341-B5B7-7B58D43F66FA}" type="slidenum">
              <a:rPr b="0" lang="ru-RU" sz="1600" spc="-1" strike="noStrike">
                <a:solidFill>
                  <a:srgbClr val="4e5b6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8f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8f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ea157a"/>
          </a:solidFill>
          <a:ln w="38160">
            <a:solidFill>
              <a:srgbClr val="ea157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c0c5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e5b6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3090-05A5-44F5-A387-FDAD4BABE4B5}" type="slidenum">
              <a:rPr b="0" lang="ru-RU" sz="1600" spc="-1" strike="noStrike">
                <a:solidFill>
                  <a:srgbClr val="4e5b6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c0c5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e5b6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6247-9302-490E-9D30-98D6DF3C73F5}" type="slidenum">
              <a:rPr b="0" lang="ru-RU" sz="1600" spc="-1" strike="noStrike">
                <a:solidFill>
                  <a:srgbClr val="4e5b6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8f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8f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c0c5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e5b6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6BCA-0310-4F5B-935D-D536251E2E08}" type="slidenum">
              <a:rPr b="0" lang="ru-RU" sz="1600" spc="-1" strike="noStrike">
                <a:solidFill>
                  <a:srgbClr val="4e5b6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img035"/>
          <p:cNvPicPr/>
          <p:nvPr/>
        </p:nvPicPr>
        <p:blipFill>
          <a:blip r:embed="rId1"/>
          <a:stretch/>
        </p:blipFill>
        <p:spPr>
          <a:xfrm>
            <a:off x="500040" y="2857680"/>
            <a:ext cx="3786120" cy="271440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4" descr=""/>
          <p:cNvPicPr/>
          <p:nvPr/>
        </p:nvPicPr>
        <p:blipFill>
          <a:blip r:embed="rId2"/>
          <a:stretch/>
        </p:blipFill>
        <p:spPr>
          <a:xfrm>
            <a:off x="469800" y="66600"/>
            <a:ext cx="8485200" cy="2279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786200" y="4431960"/>
            <a:ext cx="385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оликарпова Ольга Вячеслав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социальный педагог МОУ СОШ №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.Комсомольск-на-Ам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571680" y="928800"/>
            <a:ext cx="8072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Constantia"/>
              </a:rPr>
              <a:t>Пубертатный период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ажный, ответственный и нелёгкий этап жизни. Он характерен полным отсутствием гармонии. Ни мальчик с пробивающимися усиками, ни девочка с вполне развивающимися женственными формами ещё не пришли во взрослый мир, но уже покинули мир детства. Отсюда двойственность их положения и поступков, отсюда многие беды. Потеря равновесия вызвана перестройкой гормональной системы в организме, разницей в темпах физического, духовного развития подростка и степенью его социальной зрелости, самосто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357120" y="522720"/>
            <a:ext cx="8286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3-14 лет мальчишки становятся очень влюбчивыми. В отличии от девочек они более склонны к сексуальным фантазиям. И здесь надо активно пропагандировать о правильном отношении к девочкам, девушкам, женщинам. Это отношение закладывается в детстве, поддерживается и формируется всю жизнь, огромная роль здесь отводится личному примеру отца. Если юноша не приучен с детства относиться с уважением к женщинам, если он может позволить в их присутствии нецензурные выражения, если не чувствует себя виноватым, вступая с ними в разговор, будучи пьяным, он невоспитан, и тогда сексуальные отношения для него никогда не станут чем-то свет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D:\!!! Документы и Р.С. - Не трогать!!!!!\Рабочий стол\Работа\картинки для всего\Анимации\114527594539.gif"/>
          <p:cNvPicPr/>
          <p:nvPr/>
        </p:nvPicPr>
        <p:blipFill>
          <a:blip r:embed="rId1"/>
          <a:stretch/>
        </p:blipFill>
        <p:spPr>
          <a:xfrm>
            <a:off x="6643800" y="52862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3"/>
          <p:cNvSpPr/>
          <p:nvPr/>
        </p:nvSpPr>
        <p:spPr>
          <a:xfrm>
            <a:off x="6643800" y="6143760"/>
            <a:ext cx="928440" cy="117360"/>
          </a:xfrm>
          <a:prstGeom prst="rect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928800" y="35928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“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лово принадлежит наполовину тому, кто говорит, и наполовину тому, кто слушает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”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 (М. Монте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1384920"/>
            <a:ext cx="84294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нажды на пир к богатому и знаменитому купцу пришли гости, кто-то из них сказал хозяин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у городу известно, что у тебя остроумный и находчивый раб. Пошли его на базар, пусть принесет нам самое прекрасное на свете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зяин велел позвать Эзоп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ы слышишь, Эзоп. Вот тебе деньги, сходи на базар и купи самое прекрасное, что есть на свете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 уходит и возвращается с подносом, покрытым салфеткой. Ее поднимают, а там лежит язы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зоп, ты же принес язык?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разве это не самое прекрасное, что есть на свете? Языком мы произносим слова нежности, верности, любви, языком мы провозглашаем мир, языком мы произносим слово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обода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ез некоторое время кто-то подсказывает хозяин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твой раб пойдет и принесет самое ужасное, что есть на свете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овь Эзоп возвращается с тем же подносом. Под салфеткой лежит язы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ивлению гостей нет пред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зоп, ты же опять принес язык?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разве это не самое ужасное, что есть на свете? Языком мы произносим слова ненависти, языком мы объявляем войну, языком мы произносим слово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714240" y="597600"/>
            <a:ext cx="78584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ДРЕВНЕГРЕЧЕСКИЙ МИ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-то на свете не было мужчин и женщин, а жили и процветали на земле сросшиеся двуполые существа – андрогины. Красоты они были изумительной, доброты необычайной, а самое главное, они обладали огромной силой, которая из года в год умножалась. Сила андрогинов привлекла внимание самого Зевса, который, опасаясь, что они когда-нибудь дерзнут посягнуть на трон богов, рассек их пополам. Каждая половина устремилась к другой: они обнимали друг друга, сплетались между собой, стремились срастись и вновь стать одним целым. Зевс, видя это стремление, смешал все половинки и, чтобы они не смогли найти друг друга, раскидал их по всему белому свету. С тех пор эти половинки ищут друг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D:\!!! Документы и Р.С. - Не трогать!!!!!\Рабочий стол\Работа\картинки для всего\Анимации\9.gif"/>
          <p:cNvPicPr/>
          <p:nvPr/>
        </p:nvPicPr>
        <p:blipFill>
          <a:blip r:embed="rId1"/>
          <a:stretch/>
        </p:blipFill>
        <p:spPr>
          <a:xfrm>
            <a:off x="7500960" y="5786280"/>
            <a:ext cx="100008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571680" y="453240"/>
            <a:ext cx="8215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Главнейшая цель полового воспита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у подрастающего поколения нравственных форм в области взаимоотношения полов во всех сферах деятельности. «Воспитывая в ребёнке честность, работоспособность, искренность, прямоту, привычку к чистоте, привычку говорить правду, уважение к другому человеку, к его переживаниям и интересам, любовь к своей Родине, мы тем самым воспитываем его и в половом отношении»-так считал А.С. Мак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785880" y="50148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зиологические  изменения  у   дево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714240" y="1301040"/>
            <a:ext cx="7858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вочек этот процесс начинается приблизительно на 2 года раньше и длится в течение более короткого времени (3–4 года), чем у мальчиков (4–5 л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промежуток происходит половое созревание ребенка, которое сопряжено с ускоренным физическим развитием, которое призвано подготовить его ко взрослой жизни и нагрузкам. Также окончательное развитие в этот период получают все внутренние органы и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D:\!!! Документы и Р.С. - Не трогать!!!!!\Рабочий стол\Работа\картинки для всего\Анимации\2.gif"/>
          <p:cNvPicPr/>
          <p:nvPr/>
        </p:nvPicPr>
        <p:blipFill>
          <a:blip r:embed="rId1"/>
          <a:stretch/>
        </p:blipFill>
        <p:spPr>
          <a:xfrm>
            <a:off x="6572160" y="5000760"/>
            <a:ext cx="13575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500040" y="313920"/>
            <a:ext cx="8143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и начинают ощущать наступление периода полового созревания раньше мальчиков, и оно у них проходит быстр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8–10 л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заметны округление бедер и ягодиц, расширение т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9–10 л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 развиваться гру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10–11 л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ляются первые волосы в подмышечных впадинах, отмечается дальнейшее развитие молочных желе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11–12 л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наступить первая менструация (чаще всего в 13–14 л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15–16 л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струации становятся регуляр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 с половым созреванием происходит усиленный рост организма.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ик скорости роста в среднем выпадает на 12 лет и может достигать 9 см в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год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6–18 лет наступает постепенная остановка р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857160" y="501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зиологические  изменения  у  мальч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428760" y="1379160"/>
            <a:ext cx="8001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ое созревание ребенка призвано подготовить его ко взрослой жизни и нагрузкам. Также окончательное развитие в этот период получают все внутренние органы и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льчиков начало и скорость полового созревания колеблются в довольно широких пределах. Чаще начало полового созревания приходится на 12–14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ие изме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10–13 л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 первые признаки взросления, меняется характер, появляется скрытность, большая стеснительность по отношению к родителям и сверстни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13–14 л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ся деформация голоса, появляются волосы в подмышечной области, на верхней губе, происходит развитие мускул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возраст считается периодом выраженного увеличения сексуальных желаний и сексуальной энергии, особенно у мальч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D:\!!! Документы и Р.С. - Не трогать!!!!!\Рабочий стол\Работа\картинки для всего\Анимации\de8.gif"/>
          <p:cNvPicPr/>
          <p:nvPr/>
        </p:nvPicPr>
        <p:blipFill>
          <a:blip r:embed="rId1"/>
          <a:stretch/>
        </p:blipFill>
        <p:spPr>
          <a:xfrm>
            <a:off x="7358040" y="428760"/>
            <a:ext cx="15001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500040" y="698400"/>
            <a:ext cx="8072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фазами биологического созревания у подростков совпадают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азы развития интерес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 одной стороны, теряется интерес к вещам, которые его интересовали раньше (презрительное отношение к детским забавам, «россказням» и т. д.). При этом не утрачиваются ни навыки, ни сложившиеся механизмы поведения. С другой стороны, возникают новые интересы: новые книги, в основном, эротического характера, острый сексуальный интер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смены интересов есть момент, когда кажется, что у подростка вообще отсутствует какой бы то ни было интерес. Эта разрушительная, опустошительная фаза расставания с детством и дала повод Л. Толстому назвать период «пустыней отрочест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357120" y="1357200"/>
            <a:ext cx="807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00"/>
                </a:solidFill>
                <a:uFillTx/>
                <a:latin typeface="Constantia"/>
              </a:rPr>
              <a:t>ВЫВОД:</a:t>
            </a:r>
            <a:r>
              <a:rPr b="1" i="1" lang="ru-RU" sz="4800" spc="-1" strike="noStrike">
                <a:solidFill>
                  <a:srgbClr val="ffff00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nstantia"/>
              </a:rPr>
              <a:t>в возрасте 13-14 лет у подростков происходит половое созре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D:\!!! Документы и Р.С. - Не трогать!!!!!\Рабочий стол\Работа\картинки для всего\Анимации\9.gif"/>
          <p:cNvPicPr/>
          <p:nvPr/>
        </p:nvPicPr>
        <p:blipFill>
          <a:blip r:embed="rId1"/>
          <a:stretch/>
        </p:blipFill>
        <p:spPr>
          <a:xfrm>
            <a:off x="6500880" y="4857840"/>
            <a:ext cx="17859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357120" y="642960"/>
            <a:ext cx="8358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 целом за последние несколько десятилетий развитие и созревание детей проходит намного быстрее. Все мы знакомы с термином 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«акселерация»,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то означает 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«ускорение».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Акселерация, в первую очередь отразилась на физическом развитии: увеличился рост, масса тела подростков, раньше стало наступать половое созревание. Причины этих явлений до конца не изучены. Учёные склоняются к мысли о том, что улучшилось питание учащихся, увеличились различные раздражители во внешней среде, включая ионизирующие излучения и многое друг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6:17:43Z</dcterms:created>
  <dc:creator>USER</dc:creator>
  <dc:description/>
  <dc:language>en-US</dc:language>
  <cp:lastModifiedBy>USER</cp:lastModifiedBy>
  <dcterms:modified xsi:type="dcterms:W3CDTF">2010-02-15T07:58:09Z</dcterms:modified>
  <cp:revision>9</cp:revision>
  <dc:subject/>
  <dc:title>Слайд 1</dc:title>
</cp:coreProperties>
</file>