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2F2C-10AA-456B-965C-0378CD80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D63C-8CC1-4504-912F-7C148FA2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C30-2366-46E5-87A5-D48C8D0E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D9B3-F593-4188-926D-74F46CBB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3C68-1D42-48FE-8FDD-AE435D7B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251B-5757-4A89-98C5-F3852887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5E3A-5FAD-48CB-A5D5-C8CA68F5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4354-47E6-40CE-9815-B3E2781A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58EE-4A4C-42B9-9870-9BDA7451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6C36-519E-4B0F-BC62-F2C16AE5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60BD-6607-4A8C-84DF-5ACCA76D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FCFD-5FAD-41A5-AD86-260C4699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1577-E7DB-4266-97DA-19A11B0A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042C-FAD5-4C25-8C04-D9A84FF9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9272-9728-40BF-9965-DCC3FC21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A9A5-C356-4305-8611-9666D9F1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06AD-392C-4475-9066-D6D42397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1634A-B549-46CA-94FE-DD430858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8AB97-DDB3-49D7-9414-477A2059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9B9DC-1740-45BB-ABC3-D763533C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4BDF4-14A0-47D7-8172-DFD1C5A4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C5D03-0155-447C-8DE3-60A6DDA0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0126-DA8F-4220-B0F5-FC0EAEB1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F6FD4-1EC1-48CF-AA8B-06E536B0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5D692-5A05-40CC-8ED6-4D84E572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383CC-A5A6-46D9-B588-764DE791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632A4-2AA3-4346-982B-C3234CCE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CE2DC-D3BD-499E-BF1A-E98EB03A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71A49-D252-4E77-9242-A379EC3E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6CA52-5E27-435D-B9F2-4C499A06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790D5-F57A-45F4-BCC0-0C652B21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76F0B-95C7-4C74-8BDF-18CB734E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30A24-66BE-4D86-998A-826322D5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161A-8A0A-493D-A2AA-D52D3711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4F7EA-B87A-4B98-83AC-B2B4CBD2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44B88-EA08-463A-857F-20B2FFC1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27233-F267-42E3-887B-F577D2F9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84444-E596-417C-8618-2E25E61C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ECB1A-6EF6-4340-9614-88AAC50E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5346D-E1EC-45F7-8562-EF71270E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8B84D-730D-42B0-AEA2-0E43E2F9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95DB6-7172-47E4-8705-DE7E1FD4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56FAA-5F71-419E-A92F-70C9BF0A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094DB-9949-4191-AAEE-2FCE77AA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0EE0-7AE9-4456-B0A6-2E096C30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7AE8A-2EF3-4DB0-B830-619F4925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EAADB-3CE2-49B2-8198-E90EFBE0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901FD-DFE3-421A-8495-721318C1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56A7D-3DC1-4B09-B3B0-0B7A52B8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DADDA-5E71-481A-BC18-FB9B8671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6BF27-4610-435A-B47D-0A5CA91A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B4042-4BFD-4711-B416-99ADDEB4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220F6-3BFA-45B3-98C0-319EDA2B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5FF5E-3566-416A-89CF-BD1F61AF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74895-5D21-4588-A932-51A9B68A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DA77-3C3B-4C5E-B386-2315884A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0904F-F13F-43BE-880B-9D4806F7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BA0E5-015F-4260-8AB9-84974C3F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B594F-810D-4DE0-88AA-321A4A5F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C29FE-421D-4D34-B2D2-957B7B94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F9B7D-29C7-422B-AB45-58629A1E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55F29-C73D-4CC6-942F-4DFC72E0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F5F49-ED78-42F5-B7CA-3A8A7C5B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73E54-315B-414E-AD6A-F9E83468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69AD5-14CA-420D-999B-56790DC0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B9BBB-2E35-40C8-9797-B142EE0D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E72-95F9-44BD-8F58-30503FC4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311C7-0EC1-43F3-A370-708599A4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12851-B9C6-4E6E-A901-945FC632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EE233-EE5B-4A07-84FF-FABC25F2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7D9F5-6E90-4BC8-BD94-C58B3D3B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8D015-1CF7-4FA6-889C-91C087E9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77D07-1662-4AA6-8143-AA7BB04D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D9297-8F17-44E8-8C33-F34AB985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D4323-5495-4272-B7E0-0AE170C0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A3E7D-0921-49C6-A911-E10D7FEB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7571C-DB09-479E-B2E8-1CBDC349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92DA-0ECA-420C-B471-E40DB69E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B58D1-9E07-4B49-A4A9-30227943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9C505-6260-4946-A418-25925623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48DAE-E405-4802-A484-9EBD1B12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3B5B8-9B11-4D79-B457-731B7AD7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26902-2B3D-416E-8BF9-376A49AE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3ACE-6E6E-4BDF-9525-69FDF6A1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9D85-E7D5-492B-9D1D-D9E4660EEC1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69BF-1083-4DF5-A1C8-FEF344DE332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FB40-6BD2-45FC-AD85-8B1E8A77BDE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2578-8CA2-4E48-A229-CF739A606DA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3F3C-968F-4EAE-A0AD-D62B0A0BB6C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6FF1-F6CE-420C-A5FA-7327154BF2A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22F7-F844-4452-BAE6-E33DA6AE052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C:\Documents and Settings\Admin\Рабочий стол\открытый урок\yangas.jpg"/>
          <p:cNvPicPr/>
          <p:nvPr/>
        </p:nvPicPr>
        <p:blipFill>
          <a:blip r:embed="rId1"/>
          <a:stretch/>
        </p:blipFill>
        <p:spPr>
          <a:xfrm>
            <a:off x="1500120" y="285840"/>
            <a:ext cx="2341800" cy="3071880"/>
          </a:xfrm>
          <a:prstGeom prst="rect">
            <a:avLst/>
          </a:prstGeom>
          <a:ln w="0">
            <a:noFill/>
          </a:ln>
        </p:spPr>
      </p:pic>
      <p:sp>
        <p:nvSpPr>
          <p:cNvPr id="319" name="TextBox 4"/>
          <p:cNvSpPr/>
          <p:nvPr/>
        </p:nvSpPr>
        <p:spPr>
          <a:xfrm>
            <a:off x="428760" y="3929040"/>
            <a:ext cx="89294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0000"/>
                </a:solidFill>
                <a:latin typeface="Academy Chuvash"/>
              </a:rPr>
              <a:t>«Чун юрри,чĕре юрри…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1930-мĕш çулсенчи сăвă-юр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.Янкас, И.Ивник, И.Тукташ пултарулăхĕ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C:\Documents and Settings\Admin\Рабочий стол\открытый урок\ivnik.jpg"/>
          <p:cNvPicPr/>
          <p:nvPr/>
        </p:nvPicPr>
        <p:blipFill>
          <a:blip r:embed="rId2"/>
          <a:stretch/>
        </p:blipFill>
        <p:spPr>
          <a:xfrm>
            <a:off x="4000680" y="214200"/>
            <a:ext cx="2311200" cy="31435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C:\Documents and Settings\Admin\Рабочий стол\открытый урок\tuktash_1000.jpg"/>
          <p:cNvPicPr/>
          <p:nvPr/>
        </p:nvPicPr>
        <p:blipFill>
          <a:blip r:embed="rId3"/>
          <a:stretch/>
        </p:blipFill>
        <p:spPr>
          <a:xfrm>
            <a:off x="6500880" y="214200"/>
            <a:ext cx="228600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3" descr="C:\Documents and Settings\Admin\Рабочий стол\открытый урок\ivnik.jpg"/>
          <p:cNvPicPr/>
          <p:nvPr/>
        </p:nvPicPr>
        <p:blipFill>
          <a:blip r:embed="rId1"/>
          <a:stretch/>
        </p:blipFill>
        <p:spPr>
          <a:xfrm>
            <a:off x="214200" y="714240"/>
            <a:ext cx="3929040" cy="5343840"/>
          </a:xfrm>
          <a:prstGeom prst="rect">
            <a:avLst/>
          </a:prstGeom>
          <a:ln w="0">
            <a:noFill/>
          </a:ln>
        </p:spPr>
      </p:pic>
      <p:sp>
        <p:nvSpPr>
          <p:cNvPr id="323" name="TextBox 4"/>
          <p:cNvSpPr/>
          <p:nvPr/>
        </p:nvSpPr>
        <p:spPr>
          <a:xfrm>
            <a:off x="4143240" y="285840"/>
            <a:ext cx="5000760" cy="61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 Ивни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14 çулхи нарăсăн 27-мĕшĕнче Чăваш Республикин Вăрнар районĕнчи Çавалкасси Мăрат ялĕнче  çуралн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култа, педтехникумра, право институтĕнче вĕреннĕ. Хаçатсенче, гуманитари институтĕнче ĕçленĕ. 1942-мĕш çулта вилнĕ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3"/>
          <p:cNvSpPr/>
          <p:nvPr/>
        </p:nvSpPr>
        <p:spPr>
          <a:xfrm>
            <a:off x="1000080" y="425520"/>
            <a:ext cx="814392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rbel"/>
              </a:rPr>
              <a:t>Ивник лир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7f26"/>
                </a:solidFill>
                <a:latin typeface="Corbel"/>
              </a:rPr>
              <a:t>Пейзаж</a:t>
            </a:r>
            <a:r>
              <a:rPr b="1" lang="ru-RU" sz="4400" spc="-1" strike="noStrike">
                <a:solidFill>
                  <a:srgbClr val="922223"/>
                </a:solidFill>
                <a:latin typeface="Corbel"/>
              </a:rPr>
              <a:t>    </a:t>
            </a: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Юрат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Философилĕ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Corbel"/>
              </a:rPr>
              <a:t>Кĕвĕлĕ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Corbel"/>
              </a:rPr>
              <a:t>Халă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Corbel"/>
              </a:rPr>
              <a:t>юррине çыв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" descr="C:\Documents and Settings\Admin\Рабочий стол\открытый урок\vera679.jpg"/>
          <p:cNvPicPr/>
          <p:nvPr/>
        </p:nvPicPr>
        <p:blipFill>
          <a:blip r:embed="rId1"/>
          <a:stretch/>
        </p:blipFill>
        <p:spPr>
          <a:xfrm>
            <a:off x="4286160" y="3270240"/>
            <a:ext cx="43578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4:35:05Z</dcterms:created>
  <dc:creator>Admin</dc:creator>
  <dc:description/>
  <dc:language>en-US</dc:language>
  <cp:lastModifiedBy>Admin</cp:lastModifiedBy>
  <dcterms:modified xsi:type="dcterms:W3CDTF">2011-03-03T04:19:56Z</dcterms:modified>
  <cp:revision>55</cp:revision>
  <dc:subject/>
  <dc:title>Слайд 1</dc:title>
</cp:coreProperties>
</file>