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EAD2-1CC5-497B-985D-D1EEB276B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EE30-3B9A-4885-A5CC-BF65D1AC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0CAB-AC90-4722-A997-F30132DF5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64B8-95E5-4EF4-A8FD-380B6DE93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C9E9-0138-4DDA-9D92-2CD7C64DC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CE9E-A5A4-4011-8465-75B94C3D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DC35-982D-49BA-96B4-81FE27FA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5280-E308-4468-97DA-E2198564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51C4-4C25-43E5-B8F3-C3C03A3D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E027D-2664-4D60-908D-A22F9E29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F8850-4A7A-40D8-800B-1F86BBFB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F524-6D68-47D1-8500-3A0B0E80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F932-E407-42DC-B0C8-F17A2DCB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90CC-062A-44DD-AFED-C5D669F2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6D6A3-4713-4B58-B5D4-FAF07F46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C6C3-B0F1-4F7D-B1AC-95787AED9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CE80-5E0F-4330-B531-C2CB5971A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CAF0F-6EC2-4876-8214-D75853A84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B7E5A-8427-4798-B382-7DCD4334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79A4E-EEBF-4A5A-9A99-C9206F9B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26252-9428-4BE7-A462-5C1C5887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F33F5-57AE-4B90-8F25-D957AC02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E867-53E9-40A6-B4AF-E7578324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1D030-9641-4FC0-97BD-ACA9D717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F06D1-AF47-4423-9D3C-1ADC11A4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DFC90-C496-4B9B-B838-BE3473AF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1A53E-0DBA-4E91-8119-5D6F31C7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AC088-FDC1-4E24-AD50-2B979E91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47D03-DC81-4665-9A2E-6036F52E4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15002-B955-42F6-B919-44513FE08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74E15-A534-4046-BC55-3D5BC15F7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8340C-6F54-43BF-A760-E0F4D05B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394DE-D1B8-46AE-B3CF-9D6B39A0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C8AC-9221-480C-B4CC-096B31E5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D79FA-2BF3-427D-89F8-BF1E2B37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3AF25-4B37-4BBD-87E4-C89414BD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C98F2-60B7-4267-A788-40C86797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1F856-A621-4932-BE89-B45C3B89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1A53B-36C1-475D-8FEE-74131E75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D4B88-A4AF-4FC7-9840-B09D3D58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673B6-8755-48A1-9388-F243944C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88212-64FA-4875-9038-9E9534903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495E8-7F39-420A-B9E4-237E75D5A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3DE2E-4431-4360-8E2B-71335A9E1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BD0C-6A28-4F29-A5EA-9C5A3082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0FAFE-B28F-44D3-B4A0-B3C91B4D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EB5E0-9098-4332-9BA5-9B34F4D1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631B1-71DC-4610-BFE3-A008B6BB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40CCA-FA37-4D75-9A48-79FD87E2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FF837-C7B2-44B5-999B-194691BA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74D9F-AA4A-493D-8B31-8E99153D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3CC76-EAB9-44A8-8F83-3A50196C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3B358-8D17-430B-9A71-41937208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74F3B-8334-4316-8459-E1A889D6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A6FD9-A3EB-4B04-A7A8-14101712B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82FD-4614-4508-AB31-6859451C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8B1C9-34E4-4EC4-98E8-2B571B149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F68A5-1360-42B3-8EF4-C89878BA0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D2DF1-9D81-4137-9749-D3B772DD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2EF31-50EC-4069-99AF-F1295E7F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09E38-5814-4236-A7CF-9C359A52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3872E-9B80-4F51-8299-D91905C5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3D042-355C-4350-8E48-67CF148B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CC258-D920-4E05-A6BF-D8744EE3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A3E2B-A06B-421C-A086-B87E3DBC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62CF2-E559-413A-9E61-2F8E3E08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3B62-22A8-408E-B7CD-5863FE84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CE003-A362-46FA-A849-1B5C2C4A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E4ABD-164C-4C9F-A7FA-3DD01F72C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88026-1012-4A02-B780-92E501070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03065-A5D7-41FA-830A-90FA82D30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91E4B-1D48-41D7-A845-8986ED1B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82117-3DC0-4A75-BC06-9A675A7B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8FF1F-FD5C-4FD8-A961-1682DD5B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AFBCB-99E2-49C8-B74B-D9C57ECD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FAE39-2CED-4030-8A3E-A0D9D778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C7A37-1713-40F9-BF3D-A1934521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7566-A9F8-4942-A7F6-A1A5C36A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EBD6F-897F-47DC-8C54-F17805F5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CC614-E2D0-4C11-B7E7-5129DF3E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6B6AC-5E0E-4579-AF6A-0D25CFDB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202C6-2F88-4629-95D2-4AEE6E31A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88196-4270-4E2E-AAA9-36D498637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E5A8-64C5-4201-843E-11D5672F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E237-B82A-4C07-A1E1-FC0B007990E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18D3-3181-422C-9248-80745EF1E77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5A6F-6E6B-441A-BFD7-C9CC9FC3121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FD03-CA9D-45A6-B5E0-8EE817D27CD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C130-6910-4E83-85A8-B2239CA6C38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C192-1FEE-4181-B84D-9ADE8EA13CA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C3FF-60B9-497E-9E24-169B48BE3EC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C:\Documents and Settings\Admin\Рабочий стол\открытый урок\yangas.jpg"/>
          <p:cNvPicPr/>
          <p:nvPr/>
        </p:nvPicPr>
        <p:blipFill>
          <a:blip r:embed="rId1"/>
          <a:stretch/>
        </p:blipFill>
        <p:spPr>
          <a:xfrm>
            <a:off x="1500120" y="285840"/>
            <a:ext cx="2341800" cy="3071880"/>
          </a:xfrm>
          <a:prstGeom prst="rect">
            <a:avLst/>
          </a:prstGeom>
          <a:ln w="0">
            <a:noFill/>
          </a:ln>
        </p:spPr>
      </p:pic>
      <p:sp>
        <p:nvSpPr>
          <p:cNvPr id="319" name="TextBox 4"/>
          <p:cNvSpPr/>
          <p:nvPr/>
        </p:nvSpPr>
        <p:spPr>
          <a:xfrm>
            <a:off x="428760" y="3929040"/>
            <a:ext cx="892944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0000"/>
                </a:solidFill>
                <a:latin typeface="Academy Chuvash"/>
              </a:rPr>
              <a:t>«Чун юрри,чĕре юрри…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1930-мĕш çулсенчи сăвă-юр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.Янкас, И.Ивник, И.Тукташ пултарулăхĕ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3" descr="C:\Documents and Settings\Admin\Рабочий стол\открытый урок\ivnik.jpg"/>
          <p:cNvPicPr/>
          <p:nvPr/>
        </p:nvPicPr>
        <p:blipFill>
          <a:blip r:embed="rId2"/>
          <a:stretch/>
        </p:blipFill>
        <p:spPr>
          <a:xfrm>
            <a:off x="4000680" y="214200"/>
            <a:ext cx="2311200" cy="31435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" descr="C:\Documents and Settings\Admin\Рабочий стол\открытый урок\tuktash_1000.jpg"/>
          <p:cNvPicPr/>
          <p:nvPr/>
        </p:nvPicPr>
        <p:blipFill>
          <a:blip r:embed="rId3"/>
          <a:stretch/>
        </p:blipFill>
        <p:spPr>
          <a:xfrm>
            <a:off x="6500880" y="214200"/>
            <a:ext cx="228600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3" descr="C:\Documents and Settings\Admin\Рабочий стол\открытый урок\ivnik.jpg"/>
          <p:cNvPicPr/>
          <p:nvPr/>
        </p:nvPicPr>
        <p:blipFill>
          <a:blip r:embed="rId1"/>
          <a:stretch/>
        </p:blipFill>
        <p:spPr>
          <a:xfrm>
            <a:off x="214200" y="714240"/>
            <a:ext cx="3929040" cy="5343840"/>
          </a:xfrm>
          <a:prstGeom prst="rect">
            <a:avLst/>
          </a:prstGeom>
          <a:ln w="0">
            <a:noFill/>
          </a:ln>
        </p:spPr>
      </p:pic>
      <p:sp>
        <p:nvSpPr>
          <p:cNvPr id="323" name="TextBox 4"/>
          <p:cNvSpPr/>
          <p:nvPr/>
        </p:nvSpPr>
        <p:spPr>
          <a:xfrm>
            <a:off x="4143240" y="285840"/>
            <a:ext cx="5000760" cy="61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н Ивник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914 çулхи нарăсăн 27-мĕшĕнче Чăваш Республикин Вăрнар районĕнчи Çавалкасси Мăрат ялĕнче  çуралн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Шкулта, педтехникумра, право институтĕнче вĕреннĕ. Хаçатсенче, гуманитари институтĕнче ĕçленĕ. 1942-мĕш çулта вилнĕ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3"/>
          <p:cNvSpPr/>
          <p:nvPr/>
        </p:nvSpPr>
        <p:spPr>
          <a:xfrm>
            <a:off x="1000080" y="425520"/>
            <a:ext cx="814392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orbel"/>
              </a:rPr>
              <a:t>Ивник лири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7f26"/>
                </a:solidFill>
                <a:latin typeface="Corbel"/>
              </a:rPr>
              <a:t>Пейзаж</a:t>
            </a:r>
            <a:r>
              <a:rPr b="1" lang="ru-RU" sz="4400" spc="-1" strike="noStrike">
                <a:solidFill>
                  <a:srgbClr val="922223"/>
                </a:solidFill>
                <a:latin typeface="Corbel"/>
              </a:rPr>
              <a:t>    </a:t>
            </a:r>
            <a:r>
              <a:rPr b="1" lang="ru-RU" sz="4400" spc="-1" strike="noStrike">
                <a:solidFill>
                  <a:srgbClr val="ff0000"/>
                </a:solidFill>
                <a:latin typeface="Corbel"/>
              </a:rPr>
              <a:t>Юрат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rbel"/>
              </a:rPr>
              <a:t>Философилĕ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2223"/>
                </a:solidFill>
                <a:latin typeface="Corbel"/>
              </a:rPr>
              <a:t>Кĕвĕлĕ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2223"/>
                </a:solidFill>
                <a:latin typeface="Corbel"/>
              </a:rPr>
              <a:t>Халă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2223"/>
                </a:solidFill>
                <a:latin typeface="Corbel"/>
              </a:rPr>
              <a:t>юррине çывă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3" descr="C:\Documents and Settings\Admin\Рабочий стол\открытый урок\vera679.jpg"/>
          <p:cNvPicPr/>
          <p:nvPr/>
        </p:nvPicPr>
        <p:blipFill>
          <a:blip r:embed="rId1"/>
          <a:stretch/>
        </p:blipFill>
        <p:spPr>
          <a:xfrm>
            <a:off x="4286160" y="3270240"/>
            <a:ext cx="435780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04:35:05Z</dcterms:created>
  <dc:creator>Admin</dc:creator>
  <dc:description/>
  <dc:language>en-US</dc:language>
  <cp:lastModifiedBy>Admin</cp:lastModifiedBy>
  <dcterms:modified xsi:type="dcterms:W3CDTF">2011-03-03T04:19:56Z</dcterms:modified>
  <cp:revision>55</cp:revision>
  <dc:subject/>
  <dc:title>Слайд 1</dc:title>
</cp:coreProperties>
</file>