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528-39DC-4DC5-BEEF-47847602FC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073-9C83-4510-876F-AADDE76F5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E54B-53BC-4D27-B943-094B68F63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842-51D1-460F-9AD9-343D406ACF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DB6-1C56-47D8-BB35-949DBC2AD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D65-310F-4B7C-8B8C-D2316BE60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9347-6EF1-478A-AACF-477FBF1241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502-A957-493B-8DD5-B8520F4D5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CFD8-CB40-4AAF-9226-9B00A2C1D0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6C2-3944-46EA-B08D-45AD914FD8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C94-C326-4F78-931E-9455CC7E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36D-D3E1-4978-893D-E0DF86F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983-6C03-496B-8BE1-946F2792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D8D-CDEE-408E-BEB6-A1236D65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A77E-117F-4EDB-BB7A-6E17DED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05AE-58D2-4059-BEAF-1F5BB4FF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A125-521F-402A-B0CB-C0E290A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ACCF-52F7-4359-8061-9F15A216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E82F-6720-4D77-9FE7-375EA04F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9B5-A26A-4112-A222-CC348D4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7FDC-0645-427D-B103-E52F0AA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7AB-001B-475E-9A79-B5BE7BC2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C1F-3E3D-434D-A347-A017F62E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8E7D-AA0D-437E-AEF8-2C5350B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8AF-799F-4E62-83DE-C7D86311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009F-9F00-4251-8A57-33A6C2FA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E1C-449D-4D46-A965-3214E321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C81-E259-40F7-A34C-455745BF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790-8461-4750-84A1-07337F3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DDE-25CB-4783-AA01-66B900E2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825-CA08-444B-BFEA-3E52F0A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996-D7D9-4C59-AF91-1626617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708-8832-4186-8E66-FB7EE91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C5A-8E8C-45CE-883B-90B8660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B14-6656-4F2D-9AFB-A8FA1BF58AE9}" type="slidenum">
              <a:rPr b="0" lang="ru-RU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B40-3F44-4885-8934-680FD8153D2E}" type="slidenum">
              <a:rPr b="0" lang="ru-RU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6362640" cy="26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Метод проектов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в начальной школе.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35280" y="5805000"/>
            <a:ext cx="2808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Гимназия 63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24000" y="260280"/>
            <a:ext cx="86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203640" y="5734080"/>
            <a:ext cx="31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7380360" y="63086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48036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Информационный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98400" y="1844640"/>
            <a:ext cx="7398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ние жёсткой структуры проекта с системой корре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бор, анализ, обобщение, редактирование 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выво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презентации – главно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Творчески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920" y="2205000"/>
            <a:ext cx="7399440" cy="37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ние и соблюдение жёсткой структуры не самого проекта, а его оформ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оекта в подчинении жанра конечного результ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лагает нетрадиционный подход к оформлению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37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олевой (игровой)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4920" y="177300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ктура, форма, результаты  продукта остаются открытыми до самого ко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логики ролей содержанию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елирование ситу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еделение «игровых» ролей в груп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грывание «виртуальной реальности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028000" cy="14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 Rounded MT Bold"/>
              </a:rPr>
              <a:t>Классификация проектов по комплексности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 Rounded MT Bold"/>
              </a:rPr>
              <a:t> (предметно –содержательной области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rganization Chart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0" name="Rectangle 3"/>
          <p:cNvSpPr/>
          <p:nvPr/>
        </p:nvSpPr>
        <p:spPr>
          <a:xfrm>
            <a:off x="-3060720" y="3716280"/>
            <a:ext cx="4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Rectangle 24"/>
          <p:cNvSpPr/>
          <p:nvPr/>
        </p:nvSpPr>
        <p:spPr>
          <a:xfrm flipH="1" flipV="1">
            <a:off x="6049080" y="1779480"/>
            <a:ext cx="18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39640" y="1844640"/>
            <a:ext cx="799164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нопроек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 (однопредмет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ся в рамках одного предмета или одной области знаний под руководством учителя- предметн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предметный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ся под руководством нескольких специалистов в разных областях знания при использовании смежной темати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дпредметный (внепредмет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ется в ходе факультативов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ированных курсов, работы в творческих мастер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 Rounded MT Bold"/>
              </a:rPr>
              <a:t>Классификация проектов</a:t>
            </a:r>
            <a:br>
              <a:rPr sz="3200"/>
            </a:br>
            <a:r>
              <a:rPr b="1" lang="ru-RU" sz="3200" spc="-1" strike="noStrike">
                <a:solidFill>
                  <a:srgbClr val="ff99ff"/>
                </a:solidFill>
                <a:latin typeface="Arial Rounded MT Bold"/>
              </a:rPr>
              <a:t> по характеру контактов </a:t>
            </a:r>
            <a:br>
              <a:rPr sz="3200"/>
            </a:br>
            <a:r>
              <a:rPr b="1" lang="ru-RU" sz="3200" spc="-1" strike="noStrike">
                <a:solidFill>
                  <a:srgbClr val="ff99ff"/>
                </a:solidFill>
                <a:latin typeface="Arial Rounded MT Bold"/>
              </a:rPr>
              <a:t>между участник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6000" y="2565360"/>
            <a:ext cx="6200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класс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класс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школь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школьны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одск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иональ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региона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124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 Rounded MT Bold"/>
              </a:rPr>
              <a:t>Классификация проектов по продолжитель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и –проект –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1 - 2 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осрочный –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от 3 до  6 уро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срочный –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от 2 недель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2 месяце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госрочный  - 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от одной четверт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боле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дичный – 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весь учебный г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 Rounded MT Bold"/>
              </a:rPr>
              <a:t>Классификация  проектов </a:t>
            </a:r>
            <a:br>
              <a:rPr sz="3600"/>
            </a:br>
            <a:r>
              <a:rPr b="1" lang="ru-RU" sz="3600" spc="-1" strike="noStrike">
                <a:solidFill>
                  <a:srgbClr val="ff99ff"/>
                </a:solidFill>
                <a:latin typeface="Arial Rounded MT Bold"/>
              </a:rPr>
              <a:t>по числу участник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2997000"/>
            <a:ext cx="73692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й проект;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ный проек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овой проект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Характер координации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проекта</a:t>
            </a: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491920"/>
            <a:ext cx="77724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крытый или  непосредстве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является руководителем про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– это учитель, преподавате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рытый (неяв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сам участвует в проекте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– это  ученик, товарищ по работе над проек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54364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Какова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роль 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учителя в проек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961640"/>
            <a:ext cx="82072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Энтузи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ает мотивацию учащихся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ивая, поощряя и направляя их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рону достижения ц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Специали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ет знаниями и умениями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кольких област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Организатор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ует доступ к другим ресурсам 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ст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собенно в  вопросах план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Координато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ординирует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ь  группов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цес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Эксперт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ёт чёткий анализ результато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енного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Помощн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наруживает ошибки и поддержива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ную связ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Organization Chart 4"/>
          <p:cNvGrpSpPr/>
          <p:nvPr/>
        </p:nvGrpSpPr>
        <p:grpSpPr>
          <a:xfrm>
            <a:off x="395280" y="368280"/>
            <a:ext cx="8137080" cy="5940000"/>
            <a:chOff x="395280" y="368280"/>
            <a:chExt cx="8137080" cy="5940000"/>
          </a:xfrm>
        </p:grpSpPr>
        <p:cxnSp>
          <p:nvCxnSpPr>
            <p:cNvPr id="135" name="_s3076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743080" y="-415080"/>
              <a:ext cx="238680" cy="279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3077"/>
            <p:cNvCxnSpPr>
              <a:stCxn id="139" idx="0"/>
              <a:endCxn id="137" idx="2"/>
            </p:cNvCxnSpPr>
            <p:nvPr/>
          </p:nvCxnSpPr>
          <p:spPr>
            <a:xfrm flipV="1">
              <a:off x="4464720" y="864000"/>
              <a:ext cx="2160" cy="23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78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46960" y="-415080"/>
              <a:ext cx="238680" cy="279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3079"/>
            <p:cNvSpPr/>
            <p:nvPr/>
          </p:nvSpPr>
          <p:spPr>
            <a:xfrm>
              <a:off x="2953080" y="368280"/>
              <a:ext cx="3020400" cy="496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Учебный проект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395280" y="1102680"/>
              <a:ext cx="2544120" cy="602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блема проекта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9" name="_s3081"/>
            <p:cNvSpPr/>
            <p:nvPr/>
          </p:nvSpPr>
          <p:spPr>
            <a:xfrm>
              <a:off x="3191400" y="1102680"/>
              <a:ext cx="2544120" cy="602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Arial"/>
                </a:rPr>
                <a:t>«Почему?»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то важно для меня личн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6" name="_s3082"/>
            <p:cNvSpPr/>
            <p:nvPr/>
          </p:nvSpPr>
          <p:spPr>
            <a:xfrm>
              <a:off x="5987880" y="1102680"/>
              <a:ext cx="2544480" cy="6022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ктуальность 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блемы - мотивация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2" name="_s70693"/>
            <p:cNvSpPr/>
            <p:nvPr/>
          </p:nvSpPr>
          <p:spPr>
            <a:xfrm>
              <a:off x="395280" y="2030760"/>
              <a:ext cx="2356560" cy="8254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ль проекта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3" name="_s70693"/>
            <p:cNvSpPr/>
            <p:nvPr/>
          </p:nvSpPr>
          <p:spPr>
            <a:xfrm>
              <a:off x="395280" y="3081240"/>
              <a:ext cx="2360160" cy="9777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и проекта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4" name="_s70693"/>
            <p:cNvSpPr/>
            <p:nvPr/>
          </p:nvSpPr>
          <p:spPr>
            <a:xfrm>
              <a:off x="395280" y="4282200"/>
              <a:ext cx="2397240" cy="8251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оды   и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особы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5" name="_s70693"/>
            <p:cNvSpPr/>
            <p:nvPr/>
          </p:nvSpPr>
          <p:spPr>
            <a:xfrm>
              <a:off x="3259800" y="1956600"/>
              <a:ext cx="2386800" cy="899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Зачем?»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мы делаем проект)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6" name="_s70693"/>
            <p:cNvSpPr/>
            <p:nvPr/>
          </p:nvSpPr>
          <p:spPr>
            <a:xfrm>
              <a:off x="3259800" y="3081240"/>
              <a:ext cx="2386800" cy="10504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Что?»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ля этого мы делаем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7" name="_s70693"/>
            <p:cNvSpPr/>
            <p:nvPr/>
          </p:nvSpPr>
          <p:spPr>
            <a:xfrm>
              <a:off x="3184200" y="4282200"/>
              <a:ext cx="2378160" cy="82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КАК?»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ы можем это сделать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_s70693"/>
            <p:cNvSpPr/>
            <p:nvPr/>
          </p:nvSpPr>
          <p:spPr>
            <a:xfrm>
              <a:off x="471960" y="5407200"/>
              <a:ext cx="2365200" cy="901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_s70693"/>
            <p:cNvSpPr/>
            <p:nvPr/>
          </p:nvSpPr>
          <p:spPr>
            <a:xfrm>
              <a:off x="3184200" y="5407200"/>
              <a:ext cx="2482920" cy="901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Что получится?»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как решение проблемы)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0" name="_s70693"/>
            <p:cNvSpPr/>
            <p:nvPr/>
          </p:nvSpPr>
          <p:spPr>
            <a:xfrm>
              <a:off x="6135120" y="1880280"/>
              <a:ext cx="2374200" cy="8269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Целеполагание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1" name="_s70693"/>
            <p:cNvSpPr/>
            <p:nvPr/>
          </p:nvSpPr>
          <p:spPr>
            <a:xfrm>
              <a:off x="6135120" y="3081240"/>
              <a:ext cx="2376000" cy="9759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2" name="_s70693"/>
            <p:cNvSpPr/>
            <p:nvPr/>
          </p:nvSpPr>
          <p:spPr>
            <a:xfrm>
              <a:off x="6135120" y="4282200"/>
              <a:ext cx="2376000" cy="7506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ыбор способов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 методов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нирование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3" name="_s70693"/>
            <p:cNvSpPr/>
            <p:nvPr/>
          </p:nvSpPr>
          <p:spPr>
            <a:xfrm flipV="1" rot="10800000">
              <a:off x="6135120" y="5406120"/>
              <a:ext cx="2376000" cy="9010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жидаемый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6247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Что такое   «проект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98900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Реалистический план, замысел о желаемом будущ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Предварительный, предположительный текст какого-либо докум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Технические документы – чертежи, расчёты, макеты сооружений и т. д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470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Eras Bold ITC"/>
              </a:rPr>
              <a:t>Методический паспорт учебного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Eras Bold ITC"/>
              </a:rPr>
              <a:t>проекта в начальной школ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920" y="1483920"/>
            <a:ext cx="7443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название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заказчик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руководитель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учебный предм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тип проекта по классифик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тема учебно-тематического планирования предм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цели: образовательные, развивающие, воспитатель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знания, умения и общеучебные навыки, которые приобретут  участник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остав и учебно-тематические задачи каждой груп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вопросы проекта (3-4 проблемных вопро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необходимое оборуд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этапы работы над проек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едполагаемый продукт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6661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ормление проектной папки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ртфолио)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4920" y="198900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ртфолио проекта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паспорт про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вся собранная информация по теме про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планы выполнения проекта и отдельных его этап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записи  всех идей, гипотез и реш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эскизы, чертежи, наброски проду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материалы(сценарии) к презент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аткое описание всех проблем в ходе проектной деятельности и способы их преодо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другие рабочие материалы и черновики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проекта в начальной шко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значимость и актуальность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амостоятельность работы над проек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лнота и правильность  раскрытия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оригинальность решения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артистизм и выразительность выступления при защите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раскрытие содержания проекта во время презент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ответы на вопросы во время защиты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ачество выполнения продукта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–помощники   для подготовки к защите проекта в начальной шко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0920" y="1988640"/>
            <a:ext cx="7443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 называется ваш проек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Назови  главный вопрос (проблему) вашего проек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Почему важно ответить на этот вопрос (решить проблему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Зачем вы  делаете этот 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 проект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Что сделали, чтобы ответить на главный  вопрос (решить проблему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Расскажите (расскажи), что у вас получилось 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во  назначение вашего(твоего) проектного изделия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Что вам удалось выполнить сразу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Что вызвало у вас наибольшее затруднение? Сможешь (сможете ли вы ) ли ты назвать причин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цени качество выполнения и оформления проек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Что особенно понравилось в работе над проекто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Расскажи о своей роли в проек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Доволен ли результатом своей работ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Чему ты научился во время участия в данном проект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ные требования к проекту в нач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84428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80"/>
                </a:solidFill>
                <a:uFillTx/>
                <a:latin typeface="Times New Roman"/>
              </a:rPr>
              <a:t>Требования к содержанию проекта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Зависят от темы проекта и вырабатываются  участниками проекта совместн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80"/>
                </a:solidFill>
                <a:uFillTx/>
                <a:latin typeface="Times New Roman"/>
              </a:rPr>
              <a:t>Требования к оформле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Правильно заполнить титульный лис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Соответствие оформления  к требованию содержания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Грамотность оформления запис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Указать использованную литерату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80"/>
                </a:solidFill>
                <a:uFillTx/>
                <a:latin typeface="Times New Roman"/>
              </a:rPr>
              <a:t>Требование к защите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Озвучить тему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Рассказать о проблеме, над которой работали, доказать её актуа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Полнота знания темы и проблемы  представляемого на защиту проекта всеми членами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Все члены группы должны принимать участие в защ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Навыки устной ре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Оформление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Уметь делать вывод  по проблеме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Times New Roman"/>
              </a:rPr>
              <a:t>Уметь ответить на вопросы экспертов по теме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Calibri"/>
              </a:rPr>
              <a:t>Этапы работы над проектом</a:t>
            </a:r>
            <a:br>
              <a:rPr sz="2800"/>
            </a:br>
            <a:r>
              <a:rPr b="0" lang="ru-RU" sz="2800" spc="-1" strike="noStrike">
                <a:solidFill>
                  <a:srgbClr val="66ffff"/>
                </a:solidFill>
                <a:latin typeface="Calibri"/>
              </a:rPr>
              <a:t>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2205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66ffff"/>
                </a:solidFill>
                <a:latin typeface="Times New Roman"/>
              </a:rPr>
              <a:t>этап - </a:t>
            </a:r>
            <a:r>
              <a:rPr b="1" lang="ru-RU" sz="2800" spc="-1" strike="noStrike" u="sng">
                <a:solidFill>
                  <a:srgbClr val="66ffff"/>
                </a:solidFill>
                <a:uFillTx/>
                <a:latin typeface="Times New Roman"/>
              </a:rPr>
              <a:t>мотивационный</a:t>
            </a:r>
            <a:r>
              <a:rPr b="1" lang="ru-RU" sz="2800" spc="-1" strike="noStrike" u="sng">
                <a:solidFill>
                  <a:srgbClr val="eeece1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являет общий замысел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тельны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тивационный   настро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ни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уждают задание, предлагаю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ственные идеи; создают рабоч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770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 Rounded MT Bold"/>
              </a:rPr>
              <a:t>II</a:t>
            </a:r>
            <a:r>
              <a:rPr b="1" lang="ru-RU" sz="2800" spc="-1" strike="noStrike">
                <a:solidFill>
                  <a:srgbClr val="66ffff"/>
                </a:solidFill>
                <a:latin typeface="Arial Rounded MT Bold"/>
              </a:rPr>
              <a:t> этап – планирование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66ffff"/>
                </a:solidFill>
                <a:latin typeface="Arial Rounded MT Bold"/>
              </a:rPr>
              <a:t>    по выполнению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274320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ются тема и цел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ируются и уточняются зада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очняется информация (источник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абатывается план действ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ются средства достижения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авливаются критерии оценки результата и проц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овываются способы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7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10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301680"/>
            <a:ext cx="78487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 Rounded MT Bold"/>
              </a:rPr>
              <a:t>     </a:t>
            </a:r>
            <a:r>
              <a:rPr b="1" lang="en-US" sz="2800" spc="-1" strike="noStrike">
                <a:solidFill>
                  <a:srgbClr val="66ffff"/>
                </a:solidFill>
                <a:latin typeface="Arial Rounded MT Bold"/>
              </a:rPr>
              <a:t>III</a:t>
            </a:r>
            <a:r>
              <a:rPr b="1" lang="ru-RU" sz="2800" spc="-1" strike="noStrike">
                <a:solidFill>
                  <a:srgbClr val="66ffff"/>
                </a:solidFill>
                <a:latin typeface="Arial Rounded MT Bold"/>
              </a:rPr>
              <a:t> этап - информационно-  </a:t>
            </a:r>
            <a:br>
              <a:rPr sz="2800"/>
            </a:br>
            <a:r>
              <a:rPr b="1" lang="ru-RU" sz="2800" spc="-1" strike="noStrike">
                <a:solidFill>
                  <a:srgbClr val="66ffff"/>
                </a:solidFill>
                <a:latin typeface="Arial Rounded MT Bold"/>
              </a:rPr>
              <a:t>операционный (выполнение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Ученик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бирают материа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атывают документацию, технологию изготовления проектного издел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одят исслед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ют с литературой и другими источника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средственно выполняют проек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ормляют проек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ставляют план защиты проекта, распределяют роли участников для защи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блюдает за ходом выполнения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ординирует действия руководителей группы и каждого участник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держивает и помогает тем, кому нужна помощ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аствует в заседаниях групп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азывает содействие процессу творчества уча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 является источником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6229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 Rounded MT Bold"/>
              </a:rPr>
              <a:t>IV</a:t>
            </a:r>
            <a:r>
              <a:rPr b="1" lang="ru-RU" sz="2800" spc="-1" strike="noStrike">
                <a:solidFill>
                  <a:srgbClr val="66ffff"/>
                </a:solidFill>
                <a:latin typeface="Arial Rounded MT Bold"/>
              </a:rPr>
              <a:t>этап - рефлексивно-оценоч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Уче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представляют проекты на экспертиз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защищают прое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участвуют в коллективном обсуждении и содержательной оценке результатов и процесса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оценивают достижение поставленных ц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осуществляют устную или письменную самооценку</a:t>
            </a: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исправляют или дополняют содержание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рефлексируют</a:t>
            </a: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выступает участником коллективной оценоч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переводит совместно с учащимися рейтинговую шкалу в пятибалльную систему оцен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61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Calibri"/>
              </a:rPr>
              <a:t>Защита проекта </a:t>
            </a:r>
            <a:br>
              <a:rPr sz="2800"/>
            </a:br>
            <a:r>
              <a:rPr b="0" lang="ru-RU" sz="2800" spc="-1" strike="noStrike">
                <a:solidFill>
                  <a:srgbClr val="66ffff"/>
                </a:solidFill>
                <a:latin typeface="Calibri"/>
              </a:rPr>
              <a:t>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844640"/>
            <a:ext cx="792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готовит экспертный лист для каждой груп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придумывает легенду урока (по необходимос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приглашает независимых экспер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знакомит участников проектной деятельности с экспертной групп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организовывает словарную работу по теме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ведёт процесс защиты, но не вмеши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Уче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составляют план </a:t>
            </a: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  защиты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готовят презентацию проектного изделия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распределяют роли между собой для защиты</a:t>
            </a: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проводят репети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 Rounded MT Bold"/>
              </a:rPr>
              <a:t>защищают прое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8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8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8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618984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Что такое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метод проектов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 обучения, основанный на постановке социально значимой цели, её детальной разработке и практическом дости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ая технолог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53262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Метод проектов ориентирован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242064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ую деятельность учащихся (индивидуальную, парную, группову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разнообразных методов и средств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ю знаний и умений из различных обла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о-практический результат, готовый к использова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6337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Учебный проект -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06064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овместная учебно-познавательная, творческая или игровая деятельность учащихся-партнеров, имеющая общую цель, согласованные методы, способы деятельности, направленная на достижение  общего результата  по решению какой-либо проблемы, значимой для участников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236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Проект</a:t>
            </a: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– это «шесть П»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1300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робл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социально значимое противоречие, разрешение которой является прагматической целью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роек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процесс разработки проекта и его фиксации в какой- либо внешне выраженной фор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оиск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сбор информации: обращение к уже имеющимся знаниям и жизненному опыту, работа с источниками информации, создание собственной системы хранения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родукт проект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 конечный результат разрешения поставленной пробл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убличное предъявление результатов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ортфолио (папка)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одборка всех рабочих материалов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360" y="-1145160"/>
            <a:ext cx="112536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" name="Rectangle 16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ассификация проектов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оминирующей деятельности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826920" y="1628640"/>
            <a:ext cx="792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ко – ориентированный  (прикладной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й   (ознакомительно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овочный);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кий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евой (игровой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коммуникационны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сследовательский проект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400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 актуальности избранной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объекта и предмета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задач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вижение гипотезы исследования с последующей её провер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пути  решения проб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оение нового опытным пут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в проектной деятельности методов исследования: лабораторный эксперимент, социологический опрос, моделирование и т. 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ход на новый уровень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301320"/>
            <a:ext cx="756108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рактико-ориентированный проект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280" y="2349000"/>
            <a:ext cx="7777080" cy="37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конкретной проблемы и определение способов  её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е жёсткой структуры сам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е  и использование в жизни конкретного материального продукт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1:39:45Z</dcterms:created>
  <dc:creator>Вован</dc:creator>
  <dc:description/>
  <dc:language>en-US</dc:language>
  <cp:lastModifiedBy>Татьяна</cp:lastModifiedBy>
  <dcterms:modified xsi:type="dcterms:W3CDTF">2011-08-31T16:41:54Z</dcterms:modified>
  <cp:revision>102</cp:revision>
  <dc:subject/>
  <dc:title>метод проект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