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32AE-4E8D-4CEA-A1DD-2F3F0582E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2E4-A00B-46A6-B9BF-A337DECF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642-0691-4999-8903-28CCB3B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2AEF2-90F3-449C-9FE6-FCFC07C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42266-A64A-4F21-B641-B1C4B5E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2BFA1-2B6C-467E-9D68-C47D512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15513-DCBC-48E2-B688-AACE82A6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CD8E2-ECC9-4A2D-ACDD-6686DDC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EA6C-D63B-40DB-A8E2-7D8A2F6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21D0C-11EB-4CE6-86DA-2C291AB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3399E-B190-4953-9E31-8AD031D6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11261-8EB0-4148-88CA-DC528FAD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3B53-545D-4BD0-9ABD-2F2B5828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15F-4AAC-4158-8737-B34A5C95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C50F5-B96C-42A8-A325-222AE14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9FB8-8636-4C88-9D43-CA6CD29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F30B8-F3E0-4BD0-AA0A-AD6E050F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A66E0-0252-4DFB-99B5-47A979C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67672-DA5F-44B7-9155-E0FD68A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80E36-B0F4-44E7-A8B3-09DC267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13A8E-6354-4CF7-B55A-FD70D0DD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405B5-3A24-4042-9626-9E049F8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3D7A2-12CD-44C4-86F3-5387B85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86B0-97B3-4DBD-8F23-2FB1756E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28A-84B7-45CC-940C-E2C4FE9A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A5CFA-03CE-4EFE-B3C8-B90D44FF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EE06-04CA-4338-8D35-A30A5417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A7E2-2E0C-45A9-A09C-C867A681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AE3-7F8D-49B2-BC50-DEF895B7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FD4-7C5B-461C-A660-61D5AC3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3B5B-1E8C-4B67-9BF6-170A8AE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49F6-1B57-4D2D-8D87-20FA3C8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78CF-EBF1-4FBF-A3D4-6057CF6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0D0-DAD3-4603-AC80-C99F9A5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30F-FD27-4427-B17F-04E70A9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F98-AC60-47B9-8355-EDFE6AD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5BE-4B6C-4B55-8D24-B94DF47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45C-D028-4510-99C8-FFD77642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CA6-8D86-42EB-AE09-5DB35FA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4328-584E-44A4-85A8-ED9F8971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BD6B-7072-4343-9838-7FFDE73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2AEC-4DDA-48C5-A799-78C4A5C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4D55-7E6A-4519-83FE-E17DA061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74AD-7973-4291-A125-4580947A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CFB-59CC-4408-AD34-B0DDBFE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904D-8CDB-477F-B911-9475CFC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70B2-BF6B-42FA-BAAC-859514A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6387-A6C6-477F-973C-145AB819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B2D9-59C6-4CA8-A8AD-1F7A1A0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DB17-A2B2-448D-9384-DAD73B6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C101-A1FA-4094-9B72-C077BA53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A8E9-17E0-41D1-A711-5A56C7B9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D123-7AD6-4264-8BE8-73781738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6EB4-58D0-42C4-9823-8485086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8834-CE74-4137-AF69-F56526B4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1F6-0831-457F-B717-0C7F69EA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27ED-18B0-43A2-BEF9-953924A2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3841-AEC9-4D20-B6D9-B691DB2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AB4A-2EB5-4903-A052-47A9A52F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0FF8-4C6B-4ED3-96E2-604ABA7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AD9F-C94E-49F3-AF3F-D61CABB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6FB5-3BB2-478F-9D2B-646E0A0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4021-916C-4FCC-9000-5AEF9F6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A45A-2434-4CC7-BB4A-5BC8789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7A25-D633-4B0E-AF2A-00B5B39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EB21C-B8EC-42D7-8EA9-9F6C6F19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1F6-E920-458C-8B3F-C4FADDD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3342-56FE-4CE8-ABF9-BAB3230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CC17-86F7-4306-A8E1-E46FABF2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BB8C-E52F-4F2F-8950-4EF6E12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9B69-63D0-420D-8980-C0AFDE8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DAFE-AA52-4764-833E-426B0422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95C4-5A90-4A96-9DE7-D7DAE92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D575-C544-4375-A4D4-3550764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8A3C-B733-47F0-ABBA-070EB640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959B-E0BD-429C-B7E3-7E69590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BA8D-FB97-4FDC-A43D-4165102F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981-803D-45C0-9308-38A64E0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FAA8-D225-476B-8A6A-3029A7A8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784C-0F0A-4F8D-8E33-C633EBCF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B050-35D3-468E-8B1C-C401A3C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ABD4-2CE2-4991-B86A-7EB9A7C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C7CC-310F-4C21-A46F-FFFA5C6D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D0DA-8C18-4576-A79F-6DBAD53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A437B-D13D-4408-87FA-9BAE374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3D24-0E49-4100-AB3E-9BE142D5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0C3E8-A0CC-4239-824E-3DC3FB6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D334C-AC2D-4A2E-B5EF-74313BF5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45A-DFD2-459B-AFF9-413DCAC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B480-D62C-49E3-AAEF-521EEC62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95E7-8527-49E5-AD31-ADB8C47B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6788D-0B84-4799-81E9-93DCD30A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1367-F56B-4336-827F-7EE5F9DA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FAD9-2FE1-49A8-AB90-6B2DCCBD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2FE8-335D-48CF-802C-98B8957D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2FD22-3A1D-40B3-AEDE-A298CF3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1210-8355-4FAA-878C-CB86C41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83F91-BDE5-4ADE-A1E0-C12B2DC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598EE-CEAE-4061-BC6A-5A10F9C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717-DF11-4C30-BA39-8D7E3E0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469B-4C52-491C-B650-64614A0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BABB-55C5-4D05-B783-96029EA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DE4E-AE2C-44AB-BD54-97E4E43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80E2-1BE2-42DA-9D66-47C5F6B6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E7788-62CA-431A-BDE8-E752C8D0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2EBC-0AB9-41DE-BC96-C8121352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B148-E2A0-4ADD-B279-69EB9AAC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77B3-E255-4BEC-8F86-0674DDAF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FAA24-6B7E-4282-8A1E-A6E944A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AB48-8C44-4A44-B014-DC566F2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412-9E48-4065-8AB9-5441797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ACD90-4EB0-4E1B-8E99-AC3A0C6E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9056-E224-4AA1-9A94-9B4DF61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043B-2098-4314-AA11-5A53DE0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F82A-486C-42BD-91E6-DCF8A8D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9999-732E-4602-95D4-43B6FB93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8975-DC62-4EDE-9752-F8634C02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CC45-FD46-47A0-99AA-ACE92E91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0A0ED-2C5E-482B-BDFA-61186EEB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B7667-51CD-4A75-90D3-6B6A752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612F5-E122-4B5D-86F7-044B523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44FE-5DCC-4E21-87B0-5E713B9597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5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5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6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7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7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8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8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425B-8B26-4155-8733-480FEBFE246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9DC-BE57-48C1-B702-6BFEB0916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6564-2885-4ADE-9968-DC7ADFEC91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873-76D2-432A-83C6-476F1CC4CD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602D-4EB7-4ED7-A95E-F5E928F817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3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20E-7F26-4E80-8962-45739E7AE7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7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7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69D-906E-4D6F-AFAE-58BD05BF73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C54-272B-40DF-85F2-3B14349441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69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71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76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82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86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90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94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D92-B80F-44EA-8727-6F55AC613EA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Тема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втор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иды сложных предложе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наки препинания в сложносочиненных предложен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5226840" y="5942160"/>
            <a:ext cx="39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одготовила Квашурина Лариса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вановна, учитель русского языка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 литературы МОУ «СОШ №13»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6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) между двумя безличными предложениями, имеющими в составе сказуемых синоним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Нужно переписать работу и следует объяснить допущенные в ней ошиб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7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пятая ставится в ССП, если обе части имеют общий второстепенный член или общее придаточное и соединены повторяющимся союзом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о улицам двигались грузовики, и мчались легковые машины, и торопливо шли пешеход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ы к текст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вы считаете, актуальна ли поднятая в тексте тем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жно ли выявить позицию автора? В каком предложении она заключен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гласны ли вы с авторской точкой зрения? Аргументируйте свое мн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Лазурь небесная смеется, ночной омытая грозой, и между гор росисто вьется долина светлой полосой. По полям, извиваясь блестящей струей, льется речка студеной волною, и беседка, одетая сочной листвой, наклонясь над лазурной ее глубиной, отражается гладью речною.  Старый сад всю ночь гудел угрюмо, и, словно капли слез, падал он в холодный снег на землю с голых сучьев стонущих берез. Блеснет весна иного года, и, может быть, в желанный час Тавриды пышная природа в свои объятья примет на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очный тест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Отметьте предложения, в которых ставится запят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Кто это такие и что им над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 Тягуче скрипнула дверь сеновала и наружу просунулась голова деда Щукар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В лесу еще лежит снег и деревья стоят в белом уб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опустить врага и дать огонь по команд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Я не мог видеть ее глаз она не поднимала ресни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очный тес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Отметьте предложения, в которых не ставится запят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)Много веков сушили эту землю ветры-суховеи и калило солнц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)Я вернулся домой но образ бедной Акулины долго не выходил из моей голов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)Старик сыграл «Зимнюю дорогу» Шуберта и собрался затем уходить на по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)В Москве Левитан всю зиму писал декорации для оперного театра и эта работа не прошла для него бесслед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)По берегам растет камыш и в нем сидят рыба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ю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)  б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)  а, 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общение знаний по теме «Сложное предложение»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работка навыка пунктуации в сложносочиненном предложен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явление жизненной позиции учащихся по отношению к проблемам, раскрытым в текст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 за годом все меньше и меньше остается возле селений густых черемуховых кустов, а на их месте торчат нелепые искалеченные сучья. (СС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лето под высоким карнизом дома, в котором проходило мое детство, белогрудые веселые ласточки лепили свои гнезда. (СП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жили в деревне; под окном у нас был луг, весь от множества цветущих одуванчиков.(БС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сложного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64000" y="2349360"/>
            <a:ext cx="2592360" cy="9352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предлож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3860640"/>
            <a:ext cx="1800360" cy="7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юзно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72360" y="4005360"/>
            <a:ext cx="172872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бессоюзно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87280" y="5157720"/>
            <a:ext cx="1368720" cy="7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ложно-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чиненно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76720" y="5157720"/>
            <a:ext cx="1511280" cy="7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ложно-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подчиненно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276720" y="3213000"/>
            <a:ext cx="1582560" cy="6476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59280" y="3213000"/>
            <a:ext cx="1513080" cy="792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835280" y="4653000"/>
            <a:ext cx="50472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40000" y="4653000"/>
            <a:ext cx="129528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дсказка № 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ССП ставится запятая между простыми предложениями, связанными сочинительными союзам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) соединительными (и, да, ни-ни, тоже, также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б)противительными (а, но, да, однако, зато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)разделительными(или, либо, то-то, не то - не т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Шумит на дворе непогод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А в доме давно уже спят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Если части ССП значительно распространены или в них уже есть запятые, то между ними ставится точка с запятой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 меня была только синяя краска; но, несмотря на это, я затеял нарисовать охот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Если во второй части ССП содержится неожиданное присоединение или резкое противопоставление по отношению к первой части, то между ними вместо запятой ставится тире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 спешу туда ж – а там уже весь гор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пятая не ставится перед союзами и, да(= и), либ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)если части ССП имеют общее придаточное предложение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Когда началась гроза, игра прекратилась и дети бросились дом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б)между двумя назывными предложениям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рогулка в зимнем лесу и катание на лыжах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№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)если части ССП имеют один общий второстепенный член или общее вводное слов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Кажется, лист не шелохнется и веточка не скрипнет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)между двумя вопросительными предложениям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Который теперь час и сколько нам осталось ждать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4:03:21Z</dcterms:created>
  <dc:creator>User</dc:creator>
  <dc:description/>
  <dc:language>en-US</dc:language>
  <cp:lastModifiedBy>User</cp:lastModifiedBy>
  <dcterms:modified xsi:type="dcterms:W3CDTF">2012-01-12T09:10:44Z</dcterms:modified>
  <cp:revision>22</cp:revision>
  <dc:subject/>
  <dc:title>Слайд 1</dc:title>
</cp:coreProperties>
</file>