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9C5-4232-4C42-AE12-C7F034F7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490-07C3-499C-9F63-5768CED1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581-7D1B-4DB4-9E87-17C1670E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F6B-E222-499C-9843-91F276B0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BE7-C9AA-46C3-A49F-0E2E8A8D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1B41-53AE-42F2-BB55-2D05E73E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3163-6A6B-4FEC-8426-E268D40C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FD15-69F2-43EA-B7FF-9EB9C1F6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9D95-ED80-44D4-9115-4823B8C3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02D0-CB3F-4534-9976-F764C883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5A6C-D282-4230-BAC3-08D082F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49F-B00E-4E35-AB3E-0E1AF65A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840-70FD-4E60-9CF4-0EA126F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EE3B-806A-495F-9F66-9E05790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C84-D9C0-4373-8E76-D722C7C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3E94-0FED-4867-98A4-B19CD753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03B4-636D-4B7B-B161-E4DE5D82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1ED-5EFB-4639-A075-32FEAA68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395-F513-402C-9BF7-8BFF7EA1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B97-5FA8-4C40-8AE9-60FE1A31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333-8CFD-4D3C-A312-ABF8CE9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656-176C-4934-B54E-E372E96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95E-D430-44D0-A2DB-506B02C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0E3-CEE0-4728-89C9-1C8A606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7DD-FB2F-4AE4-880A-EF38D6D8009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DFD-AD71-4C1B-8803-8D18103C15E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Урок русского языка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Предложения двусоставные и односоставны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Сочинение-миниатюра</a:t>
            </a:r>
            <a:br>
              <a:rPr sz="32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выразите свое отношение к личности поэт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Вечер. Беру томик Пушкина и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Пушкин-великий русский поэт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Читая Пушкина, мы становимся добрее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1и2группы.Выписать из повести  «Капитанская дочка» 6 односоставных предложени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группа.Работа по упр.203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8f8"/>
            </a:gs>
            <a:gs pos="100000">
              <a:srgbClr val="09b1d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Аннот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28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УРОК ПРОВОДИТСЯ В 8 КЛАССЕ КАК ВВОДНЫЙ НА ЭТАПЕ ИЗУЧЕНИЯ РАЗДЕЛА «ДВУСОСТАВНЫЕ И ОДНОСОСТАВНЫЕ ПРЕДЛОЖЕНИЯ»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ТАК КАК УРОК ЯВЛЯЕТСЯ ВВОДНЫМ, СООТВЕТСТВЕННО СТАВИТСЯ ЦЕЛЬ: ДАТЬ ПОНЯТИЕ ДВУСОСТАВНЫХ И ОДНОСОСТАВНЫХ ПРЕДЛОЖЕНИЙ ; ФОРМИРОВАНИЕ УМЕНИЙ РАСПОЗНАВАТЬ ЭТИ ТИПЫ ПРЕДЛОЖЕНИЙ ПО ИХ      ЗНАЧЕНИЮ И СТРУКТУРНЫМ ОСОБЕННОСТЯМ ; НАУЧИТЬ УПОТРЕБЛЯТЬ ДАННЫЕ ПРЕДЛОЖЕНИЯ В УСТНОЙ И ПИСЬМЕННОЙ РЕЧ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ГЛАВНАЯ ЦЕЛЬ УРОКА ВКЛЮЧАЕТ ПРАКТИЧЕСКИЕ НАВЫКИ ОПРЕДЕЛЕНИЯ ТИПОВ ПРЕДЛОЖЕНИЯ ПО СТРОЕНИЮ ГРАММАТИЧЕСКОЙ ОСНОВЫ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ЭТА ЦЕЛЬ ДОСТИГАЕТСЯ ПУТЕМ ПРИВЛЕЧЕНИЯ ДОПОЛНИТЕЛЬНОГО МАТЕРИАЛА В ВИДЕ ИЗУЧЕННЫХ РАНЕЕ ПРОИЗВЕДЕНИЙ А.С.ПУШКИНА, В ОТРЫВКАХ КОТОРЫХ УЧАЩИЕСЯ НАХОДЯТ РАЗНЫЕ ТИПЫ ПРЕДЛОЖЕНИЙ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ТАКОЕ РЕШЕНИЕ ПРАКТИЧЕСКОГО КОМПОНЕНТА ЦЕЛИ СПОСОБСТВУЕТ РАЗВИТИЮ ИНТЕРЕСА УЧАЩИХСЯ К ТВОРЧЕСТВУ А. ПУШКИНА ,А ТАКЖЕ СПОСОБСТВУЕТ ПОДДЕРЖАНИЮ ИНТЕРЕСА К ИЗУЧЕНИЮ ЯЗЫКА И КУЛЬТУРЫ НАРОДА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ДЛЯ РЕАЛИЗАЦИИ ВЫШЕПЕРЕЧИСЛЕННЫХ ЦЕЛЕЙ ИСПОЛЬЗУЮТСЯ РАЗНЫЕ ВИДЫ РАБОТЫ : АНАЛИЗ ТЕКСТА ,РАБОТА В ГРУППАХ ,НАПИСАНИЕ СОЧИНЕНИЯ-МИНИАТЮРЫ  ПО ДАННОМУ НАЧАЛУ 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НА УРОКЕ ИСПОЛЬЗУЮТСЯ СПЕЦИАЛЬНЫЕ ТЕХНИЧЕСКИЕ  ИНФОРМАЦИОННЫЕСРЕДСТВА ( КОМПЬЮТЕР ,МУЛЬТИМЕДИЙНЫЙ  ПРОЕКТОР) ,ЯЗЫКОВЫЕ СРЕДСТВА (ОРФОГРАФИЧЕСКИЕ ,ЛЕКСИЧЕСКИЕ , ГРАММАТИЧЕСКИЕ) ,ЛИЧНОСТНЫЕ ХАРАКТЕРИСТИКИ УЧАЩИХСЯ (СООБРАЗИТЕЛЬНОСТЬ , ТВОРЧЕСКИЕ СПОСОБНОСТИ ,ВЗАИМОПОМОЩЬ ,</a:t>
            </a: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ИНТЕРЕС )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 себ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Квашурина Лариса Ивановна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Учитель 1категории МОУ  «СОШ № 13» с.Мирно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Стаж работы- 22 года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56440" cy="5616360"/>
          </a:xfrm>
          <a:prstGeom prst="rect">
            <a:avLst/>
          </a:prstGeom>
          <a:solidFill>
            <a:srgbClr val="879ec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- научить распознавать этот тип предложений и уместно употреблять все виды односоставных предложений в устной и письменной речи, сформировать у учащихся собственную позицию к личности поэта А.С.Пушк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84360" y="6165360"/>
            <a:ext cx="3240000" cy="73080"/>
          </a:xfrm>
          <a:prstGeom prst="rect">
            <a:avLst/>
          </a:prstGeom>
          <a:solidFill>
            <a:srgbClr val="879ec7"/>
          </a:solidFill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43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1b8b"/>
                </a:solidFill>
                <a:latin typeface="Arial"/>
              </a:rPr>
              <a:t>Поэзия Пушкина-неиссякаемый источник,способный напоить «живою водою» всех,кто прикоснется к нем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2708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Индивидуальные задания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1группа-разобратьпредложение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2группа-разобрать по составу слова неиссякаемый ,прикоснетс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3группа-обозначить орфограммы в словах неиссякаемый,живою,источник,прикоснетс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012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Мудрые мысл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Фонтан любви, фонтан живой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Принес я в дар тебе две роз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Люблю немолчный говор твой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И поэтические слезы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Во глубине сибирских руд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Храните гордое терпень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Не пропадет ваш скорбный труд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И дум высокое томленье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7640" cy="6413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Анализ текс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Дни поздней осени бранят обыкновен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Но мне она мила, читатель дорогой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Красою тихою, блистающей смиренно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86480"/>
            <a:ext cx="8588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56000" y="836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оняет лес багряный свой убор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Сребрит мороз увянувшее пол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Октябрь уж наступил-уж роща отдыхае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Последние листы с нагих своих ветвей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Дохнул осенний хлад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нылая пора! Очей очарованье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Приятна мне твоя прощальная краса-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Люблю я пышное природы увяданье…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зывные предлож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Швед, русский –колет ,рубит, режет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Бой барабанный ,клики, скрежет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Гром пушек ,топот ,ржанье ,стон ,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И смерть и ад со всех сторон 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742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3280" y="-360"/>
            <a:ext cx="540072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Bookman Old Style"/>
              </a:rPr>
              <a:t>Люблю тебя, Петра творенье! Люблю твой строгий стройный вид,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Bookman Old Style"/>
              </a:rPr>
              <a:t>Невы державное теченье,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Bookman Old Style"/>
              </a:rPr>
              <a:t>Береговой ее гранит</a:t>
            </a:r>
            <a:r>
              <a:rPr b="0" lang="en-US" sz="3600" spc="-1" strike="noStrike">
                <a:solidFill>
                  <a:srgbClr val="008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292640"/>
            <a:ext cx="2438280" cy="159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1989000"/>
            <a:ext cx="24382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ороз и солнце! День  чудесный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08720" y="2060640"/>
            <a:ext cx="4168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23:23Z</dcterms:created>
  <dc:creator>Ученики</dc:creator>
  <dc:description/>
  <dc:language>en-US</dc:language>
  <cp:lastModifiedBy>User</cp:lastModifiedBy>
  <dcterms:modified xsi:type="dcterms:W3CDTF">2012-01-12T09:15:53Z</dcterms:modified>
  <cp:revision>15</cp:revision>
  <dc:subject/>
  <dc:title>Урок русского языка</dc:title>
</cp:coreProperties>
</file>