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0B4-A239-4AF4-8D5E-41B60CF7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C80-AD57-4C83-9F8D-4FA380B4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BFB-FB2F-466D-B4E9-3E7B6625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A0D-9DE1-4C80-A4B9-839BC8B5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E223-FA84-47E1-B171-D7F65D78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C4F6-1D6D-42B2-981C-68048289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A3C9-0B92-4582-9D1E-3753866C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C553-6CF4-444A-AC65-A3979C2A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4AEE-232C-4B0B-B723-A3060549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13A-DAC9-44B3-9ECA-62672F33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0861-61A2-4A8B-8651-9D872C92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7DE-2244-4473-9E2B-1E12A3D2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F7C4-D255-43EB-8006-018BE523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FDEE-FE9D-413A-BC46-35D70EF1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D163-7132-460B-82B0-ADCBB8CA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A9BE-F1BC-4B9C-8CB7-AA7E78D6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2A64-9424-4E6C-96DB-5C9A4B55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9B3-943B-4982-9E73-79CF4A1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CA9-50D4-42E4-8D61-4023AA87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C41-527A-4C3D-8F2F-C6AE9DC9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F34-65B8-472D-89E3-66959736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B47-9997-4EC9-A01A-7E73F0D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5DF-E2B4-4D13-983E-5D79422D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265-D884-4924-9C98-5A2985F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38dc7"/>
                </a:gs>
                <a:gs pos="100000">
                  <a:srgbClr val="253f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C0A-CABE-4483-8B73-8E0668A58E5C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E34E-02AC-450B-9BB8-D96004B6A4A0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Урок русского языка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Предложения двусоставные и односоставны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Сочинение-миниатюра</a:t>
            </a:r>
            <a:br>
              <a:rPr sz="32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выразите свое отношение к личности поэт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Вечер. Беру томик Пушкина и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Пушкин-великий русский поэт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Читая Пушкина, мы становимся добрее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1и2группы.Выписать из повести  «Капитанская дочка» 6 односоставных предложени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3группа.Работа по упр.203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8f8f8"/>
            </a:gs>
            <a:gs pos="100000">
              <a:srgbClr val="09b1d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Аннот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128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УРОК ПРОВОДИТСЯ В 8 КЛАССЕ КАК ВВОДНЫЙ НА ЭТАПЕ ИЗУЧЕНИЯ РАЗДЕЛА «ДВУСОСТАВНЫЕ И ОДНОСОСТАВНЫЕ ПРЕДЛОЖЕНИЯ»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ТАК КАК УРОК ЯВЛЯЕТСЯ ВВОДНЫМ, СООТВЕТСТВЕННО СТАВИТСЯ ЦЕЛЬ: ДАТЬ ПОНЯТИЕ ДВУСОСТАВНЫХ И ОДНОСОСТАВНЫХ ПРЕДЛОЖЕНИЙ ; ФОРМИРОВАНИЕ УМЕНИЙ РАСПОЗНАВАТЬ ЭТИ ТИПЫ ПРЕДЛОЖЕНИЙ ПО ИХ      ЗНАЧЕНИЮ И СТРУКТУРНЫМ ОСОБЕННОСТЯМ ; НАУЧИТЬ УПОТРЕБЛЯТЬ ДАННЫЕ ПРЕДЛОЖЕНИЯ В УСТНОЙ И ПИСЬМЕННОЙ РЕЧ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ГЛАВНАЯ ЦЕЛЬ УРОКА ВКЛЮЧАЕТ ПРАКТИЧЕСКИЕ НАВЫКИ ОПРЕДЕЛЕНИЯ ТИПОВ ПРЕДЛОЖЕНИЯ ПО СТРОЕНИЮ ГРАММАТИЧЕСКОЙ ОСНОВЫ 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ЭТА ЦЕЛЬ ДОСТИГАЕТСЯ ПУТЕМ ПРИВЛЕЧЕНИЯ ДОПОЛНИТЕЛЬНОГО МАТЕРИАЛА В ВИДЕ ИЗУЧЕННЫХ РАНЕЕ ПРОИЗВЕДЕНИЙ А.С.ПУШКИНА, В ОТРЫВКАХ КОТОРЫХ УЧАЩИЕСЯ НАХОДЯТ РАЗНЫЕ ТИПЫ ПРЕДЛОЖЕНИЙ 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ТАКОЕ РЕШЕНИЕ ПРАКТИЧЕСКОГО КОМПОНЕНТА ЦЕЛИ СПОСОБСТВУЕТ РАЗВИТИЮ ИНТЕРЕСА УЧАЩИХСЯ К ТВОРЧЕСТВУ А. ПУШКИНА ,А ТАКЖЕ СПОСОБСТВУЕТ ПОДДЕРЖАНИЮ ИНТЕРЕСА К ИЗУЧЕНИЮ ЯЗЫКА И КУЛЬТУРЫ НАРОДА 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ДЛЯ РЕАЛИЗАЦИИ ВЫШЕПЕРЕЧИСЛЕННЫХ ЦЕЛЕЙ ИСПОЛЬЗУЮТСЯ РАЗНЫЕ ВИДЫ РАБОТЫ : АНАЛИЗ ТЕКСТА ,РАБОТА В ГРУППАХ ,НАПИСАНИЕ СОЧИНЕНИЯ-МИНИАТЮРЫ  ПО ДАННОМУ НАЧАЛУ 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НА УРОКЕ ИСПОЛЬЗУЮТСЯ СПЕЦИАЛЬНЫЕ ТЕХНИЧЕСКИЕ  ИНФОРМАЦИОННЫЕСРЕДСТВА ( КОМПЬЮТЕР ,МУЛЬТИМЕДИЙНЫЙ  ПРОЕКТОР) ,ЯЗЫКОВЫЕ СРЕДСТВА (ОРФОГРАФИЧЕСКИЕ ,ЛЕКСИЧЕСКИЕ , ГРАММАТИЧЕСКИЕ) ,ЛИЧНОСТНЫЕ ХАРАКТЕРИСТИКИ УЧАЩИХСЯ (СООБРАЗИТЕЛЬНОСТЬ , ТВОРЧЕСКИЕ СПОСОБНОСТИ ,ВЗАИМОПОМОЩЬ ,</a:t>
            </a: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ИНТЕРЕС )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 себ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Квашурина Лариса Ивановна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Учитель 1категории МОУ  «СОШ № 13» с.Мирно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таж работы- 22 года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56440" cy="5616360"/>
          </a:xfrm>
          <a:prstGeom prst="rect">
            <a:avLst/>
          </a:prstGeom>
          <a:solidFill>
            <a:srgbClr val="879ec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Цел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- научить распознавать этот тип предложений и уместно употреблять все виды односоставных предложений в устной и письменной речи, сформировать у учащихся собственную позицию к личности поэта А.С.Пушк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84360" y="6165360"/>
            <a:ext cx="3240000" cy="73080"/>
          </a:xfrm>
          <a:prstGeom prst="rect">
            <a:avLst/>
          </a:prstGeom>
          <a:solidFill>
            <a:srgbClr val="879ec7"/>
          </a:solidFill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43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61b8b"/>
                </a:solidFill>
                <a:latin typeface="Arial"/>
              </a:rPr>
              <a:t>Поэзия Пушкина-неиссякаемый источник,способный напоить «живою водою» всех,кто прикоснется к нем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8000" y="27082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Индивидуальные задания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1группа-разобратьпредложение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2группа-разобрать по составу слова неиссякаемый ,прикоснетс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3группа-обозначить орфограммы в словах неиссякаемый,живою,источник,прикоснетс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012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«Мудрые мысли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Мой друг, отчизне посвятим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Души прекрасные порывы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Фонтан любви, фонтан живой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Принес я в дар тебе две розы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Люблю немолчный говор твой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И поэтические слезы 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Во глубине сибирских руд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Храните гордое терпенье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Не пропадет ваш скорбный труд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И дум высокое томлень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7640" cy="6413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Анализ текст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Дни поздней осени бранят обыкновенн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Но мне она мила, читатель дорогой,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Красою тихою, блистающей смиренно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86480"/>
            <a:ext cx="8588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56000" y="83664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оняет лес багряный свой убор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Сребрит мороз увянувшее поле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Октябрь уж наступил-уж роща отдыхае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Последние листы с нагих своих ветвей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Дохнул осенний хлад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Унылая пора! Очей очарованье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Приятна мне твоя прощальная краса-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Люблю я пышное природы увяданье…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Назывные предложен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Швед, русский –колет ,рубит, режет,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Бой барабанный ,клики, скрежет,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Гром пушек ,топот ,ржанье ,стон ,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И смерть и ад со всех сторон 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6742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3280" y="-360"/>
            <a:ext cx="540072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ookman Old Style"/>
              </a:rPr>
              <a:t>Люблю тебя, Петра творенье! Люблю твой строгий стройный вид,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Bookman Old Style"/>
              </a:rPr>
              <a:t>Невы державное теченье,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Bookman Old Style"/>
              </a:rPr>
              <a:t>Береговой ее гранит</a:t>
            </a:r>
            <a:r>
              <a:rPr b="0" lang="en-US" sz="3600" spc="-1" strike="noStrike">
                <a:solidFill>
                  <a:srgbClr val="008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4292640"/>
            <a:ext cx="2438280" cy="159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1989000"/>
            <a:ext cx="24382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ороз и солнце! День  чудесный!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08720" y="2060640"/>
            <a:ext cx="4168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23:23Z</dcterms:created>
  <dc:creator>Ученики</dc:creator>
  <dc:description/>
  <dc:language>en-US</dc:language>
  <cp:lastModifiedBy>User</cp:lastModifiedBy>
  <dcterms:modified xsi:type="dcterms:W3CDTF">2012-01-12T09:15:53Z</dcterms:modified>
  <cp:revision>15</cp:revision>
  <dc:subject/>
  <dc:title>Урок русского языка</dc:title>
</cp:coreProperties>
</file>