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D0E7D-16E6-4FA7-A24A-48E58D2D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2E528-C48E-46B7-84EC-2BA55EA6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2230-89E6-4842-8C63-5B30B8DA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382EC-1D0A-4E70-A972-3467FD13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600F-30DB-4520-B4E0-65169A8F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AEF1-B739-4E14-8ECF-1633C5B9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3871-AE2C-4057-9B6A-C9D8D21B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2A85-83D8-42F4-A9E1-54053332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1730-1DA8-41A7-8643-3D5FC55F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7C97-CC89-4C11-B769-52F35FAE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D5A3-91AB-4F9C-84D3-76950245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20BE9-5BB6-455A-9CE8-622EB319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EFDC-5123-4338-8F66-7059DEA0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BB90-9835-4CE8-B89C-AE0AA706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CEB6-B7FE-441A-9CAF-3E892474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F8BD-66FB-4445-8301-B530AFD6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4701-4A7F-4BBE-8CFB-2B0B3D6B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466F2-B89E-4A8D-9666-20177BD7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70F2B-471A-4D7F-A192-50F1F415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812F2-1400-4C89-89DC-118945ED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3DD0C-CA0D-4C9F-8504-3BBCEC1B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545D8-40BC-41E9-91FB-819C6B63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58B52-8183-4767-A816-50899084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55B1E-DC20-47CE-9B81-2A1CF3FA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09C9-965F-48E5-9875-2751510B3E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F28D-690F-4B73-9DA9-072C2FE61E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5975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71640" y="2060640"/>
            <a:ext cx="705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Copperplate Gothic Bold"/>
              </a:rPr>
              <a:t>"Наставникам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Copperplate Gothic Bold"/>
              </a:rPr>
              <a:t>за благо воздадим..."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1640" y="4508640"/>
            <a:ext cx="324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Выполни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ученик 8 Б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МБОУ СОШ №7 г.Павло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Зыбин Алекс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Учитель Овсова Л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50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Давид Иванович де Будр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дился в 1756 г. в княжестве Невшательском, в Швейцарии, в мест. Будр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н был сыном доктора медицины Марата и родным братом известного Мара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бразование получил в нейштадской и женевской гимназиях, а затем в женевской академии, где окончил курс со степенью кандидат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1784 г. был приглашен в Россию камергером Салтыковым, в качестве воспитателя его детей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1803 г. поступил учителем французской словесности в институт благородных девиц ордена св. Екатерины, а в 1806 г. — в петербургскую университетскую гимназию; в этом же году он принял присягу на подданство Росси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1808 г. он получил чин 9-го класс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1811 г. назначен профессором французского языка и словесности в Царскосельский лицей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1819 г. де Будри получил чин коллежского советника. Был кавалером орденов св. Анны 2 степени и св. Владимира 4 степен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здал: 1) "Первые основания французского языка, или Новая грамматика в пользу российского юношества", 2 ч., 1811—12 гг. и 2) "Сокращение французской грамматики", IІ., 1819 г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Сергей Гаврилович Чириков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красно воспитанный и образованный человек, скромный, с тонким тактом и поэтическими наклонностями, с художественным вкусом, С.Г. Чириков сыграл значительную роль в воспитании и обучении своих питомце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мея аттестат «художника первой степени со шпагой», С.Г. Чириков был даровит и сам много рисовал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ириков был определен в Царскосельский Лицей 28 июля 1811 года не только учителем рисования, но и гувернером 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жно предположить, что он запечатлел образы всех своих воспитанников, а может быть, и всех лицейских наставников. Известны и подлинные работы Чирикова с его подписью — портрет лицеиста С.Г. Ломоносова и портрет учителя чистописания Ф.П. Калинича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ся его жизнь была связана с Лицеем. Отсюда, уже стариком, он ушел на пенсию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272280" y="1916280"/>
            <a:ext cx="28382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Литература (интернет-ресурсы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http://www.pushkincity.ru/lizey.ht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http://www.viktur.ru/excursion/saint-petersburg/licey-1686-309.htm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http://www.newacropol.ru/study/child/licey/history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http://ru.wikiped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http://pushkin-pisatel.narod2.ru/biografiya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http://spasskievorota.ru/litsei.ht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5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5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5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5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Императорский Царскосельский лице́й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с 1843 года —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лександровский лице́й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 — высшее учебное заведение в дореволюционной России, действовавшее в Царском Селе с 1811 по 1843 го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ицей был основан по указу императора Александра I, подписанному 24 (12) августа 1810 года. Он предназначался для обучения дворянских дет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ебное заведение было размещено в здании дворцового флигеля Екатерининского дворц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Василий Федорович Малиновский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5122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ервый директор Лице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 1781 году В. Ф. Малиновский окончил философский факультет Московского университета. Превосходно знал иностранные язы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 1789 году начал работать переводчиком в русской дипломатической миссии в Лондон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 конце 1791 года Малиновский был направлен переводчиком на конгресс в Яссы, завершивший русско-турецкую войну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 1801 году после длительного перерыва в службе, В. Ф. Малиновский был назначен генеральным консулом в Молдавию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 1802 году возвратился в Россию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 июне 1811 года Василий Фёдорович Малиновский получил назначение на должность директора Царскосельского лице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н содействовал установлению в Лицее дружественных отношений между наставниками и воспитанникам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634000" y="1413000"/>
            <a:ext cx="29750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Garamond"/>
              </a:rPr>
              <a:t>Егор Антонович Энгельгардт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3280" y="1413000"/>
            <a:ext cx="5483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Лет восьми был отдан в славившийся в то время в Петербурге пансион девиц Бардеви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 достижении 16-летнего возраста поступил на действительную службу сержантом в Преображенский полк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1793 году Энгельгардт был послан курьером в Вену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1796 году, Энгельгардт перешёл в коллегию Иностранных дел, в канцелярию вице-канцлера князя Куракин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 учреждением в 1801 году Государственного совета был назначен помощником статс-секретар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1811 году, по особой склонности к занятиям воспитательной частью, был назначен директором Петербургского Педагогического институ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1816—23 годах состоял директором Царскосельского лице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43000" y="1628640"/>
            <a:ext cx="28224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Яков Иванович Карц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1784—1836) — один из первых русских педагогов, получивших систематическое образовани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ын священника, он учился в Смоленской семинарии, откуда в 1803 был переведён в Санкт-Петербургскую учительскую гимназию, вскоре переименованную в педагогический институт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сле его окончания Карцов, посвятивший себя математике, был отправлен для усовершенствования за границу. Он объехал Германию и Францию, слушал лекции в германских университета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1811 был назначен в Царскосельский лицей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1816 утвержден в звании профессора. Ему лицей обязан организацией первого физического кабине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 концу жизни, состоя членом Минералогического обществ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му принадлежит в свое время пользовавшийся известностью перевод «Начальных оснований физики» Шредер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Garamond"/>
              </a:rPr>
              <a:t>Александр Петрович Куницын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дился в семье сельского дьячк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лучил образование в Главном педагогическом институте (1807). Подготовлялся к профессуре в Гёттингенском и Гейдельбергском университетах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1811—1820 годах преподавал в Царскосельском лицее нравственные и политические наук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урс наук, читавшийся Куницыным в лицее, обнимал собою всего 12 предметов: логика, психология, этика, право естественное, право гражданское русское, право уголовное, финансовое и так далее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втор книг «Право естественное», «Изображение взаимной связи государственных сведений» , «Историческое изображение древнего судопроизводства в России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86320" y="1700280"/>
            <a:ext cx="375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Людвиг-Вильгельм Теппер де Фергюсо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льский музыкант и композитор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России известен прежде всего как преподаватель пения в Императорском Царскосельском Лицее в 1816—1819 годах и автор музыки к лицейской «Прощальной Песне» (1817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конце 1790-х годов он приехал в Санкт-Петербург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 1802 года — член Петербургского Филармонического Обществ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нимал участие в первом исполнении симфонии Гайдна «Сотворение мира» в зале Филармонического общества в марте 1805 года. В апреле 1812 года там же была исполнена оратория Теппера «Te Deum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еподавал музыку великим княжнам, а с 1804 года — великим князьям Николаю и Михаилу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 середины 1810-х годов жил в Царском Сел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Garamond"/>
              </a:rPr>
              <a:t>Евгений Александрович Белов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770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сийский историк и педагог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дился в 1826 году в Нижнем Новгород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чился в нижегородской гимназии, затем в казанском университете, где окончил курс по 1-му отделению философского факультета (ныне историко-филологический факультет) в 1849 год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1850 году Белов Е.А. поступил на службу учителем географии в дворянский институт города Пензы, в 1862 году на ту же должность переведен в саратовскую гимназию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стоял в саратовском институте благородных девиц, до 1864 года, учителем географии и истории; там же некоторое время был инспектором класс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1864 году Белов Е .А. перешел на службу в Санкт-Петербург, где педагогическая деятельность его главным образом сосредоточилась в Императорском Александровском лице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нимал участие в создании Энциклопедического словаря Брокгауза и Ефрон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84720" y="1413000"/>
            <a:ext cx="27910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Николай Федорович Кошанский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19640" y="1341000"/>
            <a:ext cx="5473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Сын обедневшего московского дворянин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Только с помощью усердия и прекрасных способностей он получил отменное образование, овладев в совершенстве языками - древнеславянским, латинским, греческим, английским, французским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закончил Московский университет сразу по двум факультетам - философскому и юридическому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С начала 1800 по 1804 год сотрудничает в журнале "Новости русской литературы" - переводит французские галантные романы, пишет небольшие обзоры и стать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В 1805 году он выпустил в свет кропотливо составленные им "Таблицы латинской грамматики, в 1806 году - "Начальные правила российской грамматики"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В 1805 же он сдал экзамен на степень магистра философи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Вся эта нагрузка не мешает ему сотрудничать и в "Вестнике Европы" и в "Русском вестнике" и "Московских ведомостях" - писать стихи, рецензии, обзор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С таким вот багажом трудов и прибыл Николай Федорович в Лицей, на штатную должность преподавателя словесности, 17 августа 1811 год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267360" cy="4032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8:21:29Z</dcterms:created>
  <dc:creator>Рома</dc:creator>
  <dc:description/>
  <dc:language>en-US</dc:language>
  <cp:lastModifiedBy>Рома</cp:lastModifiedBy>
  <dcterms:modified xsi:type="dcterms:W3CDTF">2011-11-03T03:37:16Z</dcterms:modified>
  <cp:revision>4</cp:revision>
  <dc:subject/>
  <dc:title>Слайд 1</dc:title>
</cp:coreProperties>
</file>