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A52-4AEF-4462-8BE0-0449F8E9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FA5-C525-43D8-B220-E436749C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06B-5967-4830-81B0-2AD7B650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3BA-9368-4418-B6F4-84981828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E3B-AA1D-4A15-AA8F-ADC995A6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0CF-C494-4D87-93D1-E1ABB91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5AA-82BA-4982-9810-F2F9A686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296-4FA3-42AB-B227-77E62819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E6B-9B42-4FC7-AC0F-03BEFB85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9B5-B89A-406C-92DF-B7CF59F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01C-AA9E-41F0-8FD0-3253E6F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C87-946A-427E-B2F4-BCD842E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7E6-7E40-4AFA-984D-394DCE1D6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13564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Кто такие птицы и звер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Пояснительная зап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ели урок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знакомить детей с птицами и звер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Учить определять принадлежность животного к своей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одействовать воспитанию бережного отношения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орудование и дополнительные 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оектор, ПК, интерактивная доска и презентация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ешаков А.А. Окружающи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Учебник для 1-го класса. В 2-х ч. Часть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Распустила хвост жар –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н горит и золот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Из заморских к нам до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Этот хвост прине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3789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83688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5640" y="3068640"/>
            <a:ext cx="53276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Ночь, как смола, черным чер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Серой птице не до с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Меж кустов как тень скользи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Караулит, кто не сп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Ловит каждый шорох чут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А как крикнет, станет жутк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Вздрогнет спящая тра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Это ухает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4920" y="836640"/>
            <a:ext cx="3683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67200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Черный жи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расный бе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Нос, как топ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Хвост, как уп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17492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482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переди – шильц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зади – вильц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верху – черное су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низу – белое полоте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24000" y="2349000"/>
            <a:ext cx="6562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1356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естрая кря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Ловит ляг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Ходит вразвалоч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потыка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608360" cy="610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446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ленький мальчи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сером армячи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 дворам шныр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рохи со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 полям ноч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ноплю во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176720" cy="581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11640" y="259920"/>
            <a:ext cx="4619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пинкою зеленов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Животиком желтов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Черненькая шап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И полоска шарф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62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40:57Z</dcterms:created>
  <dc:creator>User</dc:creator>
  <dc:description/>
  <dc:language>en-US</dc:language>
  <cp:lastModifiedBy>User</cp:lastModifiedBy>
  <dcterms:modified xsi:type="dcterms:W3CDTF">2009-10-27T10:47:17Z</dcterms:modified>
  <cp:revision>11</cp:revision>
  <dc:subject/>
  <dc:title>Загадки</dc:title>
</cp:coreProperties>
</file>