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6642-364A-4B7A-9658-55A39EEF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149-16F0-4F02-99EF-3F981D6F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FAC1-BE28-476A-8581-0FA77C67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3D6-5A7C-4A53-AD0B-CC2B5386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72EB-4E64-4043-85CB-9D34B71C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A3D1-84F2-4D0C-A55D-7455EC8D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1D0D-B187-436A-8CEC-9D33EE97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D499-9320-487E-BFE1-7D09225A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A0FD-8354-4BDD-A4FC-E7705E48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7EF5-A96C-4D3C-9BEC-9F2D7857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A4A1-CEEF-4C2B-9D8B-A2251DBF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B84-5982-4117-B017-2272F3D0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C424-73E8-4FD8-974D-AA480445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C561-41F4-4556-97FD-1D94375D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B3AA-0D4E-4C7A-897C-4A507391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6B5F-CE8B-4FB9-AB1B-D79AE96B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E5DB-E298-43C1-B4D5-EF60487B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120-3C63-4BBB-8476-4AFC3FB5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6E9F-BDC5-4B81-AB7C-4BBD899B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2CE-259B-4877-8062-C1B7879F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25A-BD7C-4AF5-BD6C-9D135D09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97D2-EAF1-4355-8E98-58C49FAA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534-847E-4F6D-B064-39D23CF1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ECE-C4F9-4404-9A57-89B56CC8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1402-5AA0-4CA8-AAC4-CC54A6315B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AC6F-55F0-4C3E-AA97-89693CA00D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2.xml"/><Relationship Id="rId6" Type="http://schemas.openxmlformats.org/officeDocument/2006/relationships/slide" Target="slide15.xml"/><Relationship Id="rId7" Type="http://schemas.openxmlformats.org/officeDocument/2006/relationships/slide" Target="slide9.xm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2.xml"/><Relationship Id="rId7" Type="http://schemas.openxmlformats.org/officeDocument/2006/relationships/slide" Target="slide18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.xml"/><Relationship Id="rId6" Type="http://schemas.openxmlformats.org/officeDocument/2006/relationships/slide" Target="slide15.xml"/><Relationship Id="rId7" Type="http://schemas.openxmlformats.org/officeDocument/2006/relationships/image" Target="../media/image6.jpeg"/><Relationship Id="rId8" Type="http://schemas.openxmlformats.org/officeDocument/2006/relationships/slide" Target="slide21.xml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5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" Target="slide27.xm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20.xml"/><Relationship Id="rId6" Type="http://schemas.openxmlformats.org/officeDocument/2006/relationships/slide" Target="slide19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image" Target="../media/image7.jpeg"/><Relationship Id="rId6" Type="http://schemas.openxmlformats.org/officeDocument/2006/relationships/slide" Target="slide24.xml"/><Relationship Id="rId7" Type="http://schemas.openxmlformats.org/officeDocument/2006/relationships/slide" Target="slide18.xml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image" Target="../media/image7.jpeg"/><Relationship Id="rId6" Type="http://schemas.openxmlformats.org/officeDocument/2006/relationships/slide" Target="slide24.xml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image" Target="../media/image7.jpeg"/><Relationship Id="rId6" Type="http://schemas.openxmlformats.org/officeDocument/2006/relationships/slide" Target="slide18.xml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6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image" Target="../media/image8.jpeg"/><Relationship Id="rId6" Type="http://schemas.openxmlformats.org/officeDocument/2006/relationships/slide" Target="slide27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6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image" Target="../media/image8.jpeg"/><Relationship Id="rId6" Type="http://schemas.openxmlformats.org/officeDocument/2006/relationships/slide" Target="slide27.xml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6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image" Target="../media/image8.jpeg"/><Relationship Id="rId6" Type="http://schemas.openxmlformats.org/officeDocument/2006/relationships/slide" Target="slide21.xml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8.xml"/><Relationship Id="rId5" Type="http://schemas.openxmlformats.org/officeDocument/2006/relationships/image" Target="../media/image9.jpeg"/><Relationship Id="rId6" Type="http://schemas.openxmlformats.org/officeDocument/2006/relationships/slide" Target="slide30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2.xml"/><Relationship Id="rId6" Type="http://schemas.openxmlformats.org/officeDocument/2006/relationships/slide" Target="slide6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2.xml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3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2.xml"/><Relationship Id="rId7" Type="http://schemas.openxmlformats.org/officeDocument/2006/relationships/slide" Target="slide12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52720" y="5084640"/>
            <a:ext cx="1800360" cy="1347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697360" y="609300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делал: Григорьев 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539640" y="6165720"/>
            <a:ext cx="1800360" cy="358920"/>
          </a:xfrm>
          <a:custGeom>
            <a:avLst/>
            <a:gdLst>
              <a:gd name="textAreaLeft" fmla="*/ 9360 w 1800360"/>
              <a:gd name="textAreaRight" fmla="*/ 1791000 w 1800360"/>
              <a:gd name="textAreaTop" fmla="*/ 9360 h 358920"/>
              <a:gd name="textAreaBottom" fmla="*/ 349560 h 358920"/>
            </a:gdLst>
            <a:ahLst/>
            <a:rect l="textAreaLeft" t="textAreaTop" r="textAreaRight" b="textAreaBottom"/>
            <a:pathLst>
              <a:path w="108260" h="21600">
                <a:moveTo>
                  <a:pt x="0" y="0"/>
                </a:moveTo>
                <a:lnTo>
                  <a:pt x="108260" y="0"/>
                </a:lnTo>
                <a:lnTo>
                  <a:pt x="108260" y="21600"/>
                </a:lnTo>
                <a:lnTo>
                  <a:pt x="0" y="21600"/>
                </a:lnTo>
                <a:close/>
              </a:path>
              <a:path fill="lightenLess" w="108260" h="21600">
                <a:moveTo>
                  <a:pt x="0" y="0"/>
                </a:moveTo>
                <a:lnTo>
                  <a:pt x="108260" y="0"/>
                </a:lnTo>
                <a:lnTo>
                  <a:pt x="107697" y="563"/>
                </a:lnTo>
                <a:lnTo>
                  <a:pt x="563" y="563"/>
                </a:lnTo>
                <a:close/>
              </a:path>
              <a:path fill="darken" w="108260" h="21600">
                <a:moveTo>
                  <a:pt x="108260" y="0"/>
                </a:moveTo>
                <a:lnTo>
                  <a:pt x="108260" y="21600"/>
                </a:lnTo>
                <a:lnTo>
                  <a:pt x="107697" y="21037"/>
                </a:lnTo>
                <a:lnTo>
                  <a:pt x="107697" y="563"/>
                </a:lnTo>
                <a:close/>
              </a:path>
              <a:path fill="darkenLess" w="108260" h="21600">
                <a:moveTo>
                  <a:pt x="108260" y="21600"/>
                </a:moveTo>
                <a:lnTo>
                  <a:pt x="0" y="21600"/>
                </a:lnTo>
                <a:lnTo>
                  <a:pt x="563" y="21037"/>
                </a:lnTo>
                <a:lnTo>
                  <a:pt x="107697" y="21037"/>
                </a:lnTo>
                <a:close/>
              </a:path>
              <a:path fill="lighten" w="108260" h="21600">
                <a:moveTo>
                  <a:pt x="0" y="21600"/>
                </a:moveTo>
                <a:lnTo>
                  <a:pt x="0" y="0"/>
                </a:lnTo>
                <a:lnTo>
                  <a:pt x="563" y="563"/>
                </a:lnTo>
                <a:lnTo>
                  <a:pt x="563" y="210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чать т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00360" y="4581360"/>
            <a:ext cx="1871640" cy="145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403280" y="3933720"/>
            <a:ext cx="2051280" cy="151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11280" y="3500280"/>
            <a:ext cx="1944720" cy="1414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84200" y="2219400"/>
            <a:ext cx="462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0760" y="2565360"/>
            <a:ext cx="62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ожарная без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643280" y="3362400"/>
            <a:ext cx="4176720" cy="3252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40000" y="2781360"/>
            <a:ext cx="4741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Правильно, молодец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жарный рук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4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допроводный 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5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жарный гидр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6" action="ppaction://hlinksldjump"/>
          </p:cNvPr>
          <p:cNvSpPr/>
          <p:nvPr/>
        </p:nvSpPr>
        <p:spPr>
          <a:xfrm>
            <a:off x="179280" y="4149720"/>
            <a:ext cx="3672000" cy="5745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37972" h="21600">
                <a:moveTo>
                  <a:pt x="0" y="0"/>
                </a:moveTo>
                <a:lnTo>
                  <a:pt x="137972" y="0"/>
                </a:lnTo>
                <a:lnTo>
                  <a:pt x="137972" y="21600"/>
                </a:lnTo>
                <a:lnTo>
                  <a:pt x="0" y="21600"/>
                </a:lnTo>
                <a:close/>
              </a:path>
              <a:path fill="lightenLess" w="137972" h="21600">
                <a:moveTo>
                  <a:pt x="0" y="0"/>
                </a:moveTo>
                <a:lnTo>
                  <a:pt x="137972" y="0"/>
                </a:lnTo>
                <a:lnTo>
                  <a:pt x="136572" y="1400"/>
                </a:lnTo>
                <a:lnTo>
                  <a:pt x="1400" y="1400"/>
                </a:lnTo>
                <a:close/>
              </a:path>
              <a:path fill="darken" w="137972" h="21600">
                <a:moveTo>
                  <a:pt x="137972" y="0"/>
                </a:moveTo>
                <a:lnTo>
                  <a:pt x="137972" y="21600"/>
                </a:lnTo>
                <a:lnTo>
                  <a:pt x="136572" y="20200"/>
                </a:lnTo>
                <a:lnTo>
                  <a:pt x="136572" y="1400"/>
                </a:lnTo>
                <a:close/>
              </a:path>
              <a:path fill="darkenLess" w="137972" h="21600">
                <a:moveTo>
                  <a:pt x="137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572" y="20200"/>
                </a:lnTo>
                <a:close/>
              </a:path>
              <a:path fill="lighten" w="137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нализационный лю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7" action="ppaction://hlinksldjump"/>
          </p:cNvPr>
          <p:cNvSpPr/>
          <p:nvPr/>
        </p:nvSpPr>
        <p:spPr>
          <a:xfrm>
            <a:off x="1763640" y="5950080"/>
            <a:ext cx="1152720" cy="57600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213" h="21600">
                <a:moveTo>
                  <a:pt x="0" y="0"/>
                </a:moveTo>
                <a:lnTo>
                  <a:pt x="43213" y="0"/>
                </a:lnTo>
                <a:lnTo>
                  <a:pt x="43213" y="21600"/>
                </a:lnTo>
                <a:lnTo>
                  <a:pt x="0" y="21600"/>
                </a:lnTo>
                <a:close/>
              </a:path>
              <a:path fill="lightenLess" w="43213" h="21600">
                <a:moveTo>
                  <a:pt x="0" y="0"/>
                </a:moveTo>
                <a:lnTo>
                  <a:pt x="43213" y="0"/>
                </a:lnTo>
                <a:lnTo>
                  <a:pt x="41813" y="1400"/>
                </a:lnTo>
                <a:lnTo>
                  <a:pt x="1400" y="1400"/>
                </a:lnTo>
                <a:close/>
              </a:path>
              <a:path fill="darken" w="43213" h="21600">
                <a:moveTo>
                  <a:pt x="43213" y="0"/>
                </a:moveTo>
                <a:lnTo>
                  <a:pt x="43213" y="21600"/>
                </a:lnTo>
                <a:lnTo>
                  <a:pt x="41813" y="20200"/>
                </a:lnTo>
                <a:lnTo>
                  <a:pt x="41813" y="1400"/>
                </a:lnTo>
                <a:close/>
              </a:path>
              <a:path fill="darkenLess" w="43213" h="21600">
                <a:moveTo>
                  <a:pt x="43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3" y="20200"/>
                </a:lnTo>
                <a:close/>
              </a:path>
              <a:path fill="lighten" w="43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3" h="21600">
                <a:moveTo>
                  <a:pt x="14600" y="3794"/>
                </a:moveTo>
                <a:lnTo>
                  <a:pt x="28613" y="10800"/>
                </a:lnTo>
                <a:lnTo>
                  <a:pt x="14600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1916280"/>
            <a:ext cx="474156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 называется устройство для забора воды из водопроводной сети для тушения пожа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43280" y="3362400"/>
            <a:ext cx="4176720" cy="32526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40000" y="2781000"/>
            <a:ext cx="47415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Неправильно, попробуй ещё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жарный рук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4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допроводный 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5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жарный гидр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6" action="ppaction://hlinksldjump"/>
          </p:cNvPr>
          <p:cNvSpPr/>
          <p:nvPr/>
        </p:nvSpPr>
        <p:spPr>
          <a:xfrm>
            <a:off x="179280" y="4149720"/>
            <a:ext cx="3672000" cy="5745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37972" h="21600">
                <a:moveTo>
                  <a:pt x="0" y="0"/>
                </a:moveTo>
                <a:lnTo>
                  <a:pt x="137972" y="0"/>
                </a:lnTo>
                <a:lnTo>
                  <a:pt x="137972" y="21600"/>
                </a:lnTo>
                <a:lnTo>
                  <a:pt x="0" y="21600"/>
                </a:lnTo>
                <a:close/>
              </a:path>
              <a:path fill="lightenLess" w="137972" h="21600">
                <a:moveTo>
                  <a:pt x="0" y="0"/>
                </a:moveTo>
                <a:lnTo>
                  <a:pt x="137972" y="0"/>
                </a:lnTo>
                <a:lnTo>
                  <a:pt x="136572" y="1400"/>
                </a:lnTo>
                <a:lnTo>
                  <a:pt x="1400" y="1400"/>
                </a:lnTo>
                <a:close/>
              </a:path>
              <a:path fill="darken" w="137972" h="21600">
                <a:moveTo>
                  <a:pt x="137972" y="0"/>
                </a:moveTo>
                <a:lnTo>
                  <a:pt x="137972" y="21600"/>
                </a:lnTo>
                <a:lnTo>
                  <a:pt x="136572" y="20200"/>
                </a:lnTo>
                <a:lnTo>
                  <a:pt x="136572" y="1400"/>
                </a:lnTo>
                <a:close/>
              </a:path>
              <a:path fill="darkenLess" w="137972" h="21600">
                <a:moveTo>
                  <a:pt x="137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572" y="20200"/>
                </a:lnTo>
                <a:close/>
              </a:path>
              <a:path fill="lighten" w="137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нализационный лю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7" action="ppaction://hlinksldjump"/>
          </p:cNvPr>
          <p:cNvSpPr/>
          <p:nvPr/>
        </p:nvSpPr>
        <p:spPr>
          <a:xfrm>
            <a:off x="468360" y="5950080"/>
            <a:ext cx="1224000" cy="57600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5885" h="21600">
                <a:moveTo>
                  <a:pt x="0" y="0"/>
                </a:moveTo>
                <a:lnTo>
                  <a:pt x="45885" y="0"/>
                </a:lnTo>
                <a:lnTo>
                  <a:pt x="45885" y="21600"/>
                </a:lnTo>
                <a:lnTo>
                  <a:pt x="0" y="21600"/>
                </a:lnTo>
                <a:close/>
              </a:path>
              <a:path fill="lightenLess" w="45885" h="21600">
                <a:moveTo>
                  <a:pt x="0" y="0"/>
                </a:moveTo>
                <a:lnTo>
                  <a:pt x="45885" y="0"/>
                </a:lnTo>
                <a:lnTo>
                  <a:pt x="44485" y="1400"/>
                </a:lnTo>
                <a:lnTo>
                  <a:pt x="1400" y="1400"/>
                </a:lnTo>
                <a:close/>
              </a:path>
              <a:path fill="darken" w="45885" h="21600">
                <a:moveTo>
                  <a:pt x="45885" y="0"/>
                </a:moveTo>
                <a:lnTo>
                  <a:pt x="45885" y="21600"/>
                </a:lnTo>
                <a:lnTo>
                  <a:pt x="44485" y="20200"/>
                </a:lnTo>
                <a:lnTo>
                  <a:pt x="44485" y="1400"/>
                </a:lnTo>
                <a:close/>
              </a:path>
              <a:path fill="darkenLess" w="45885" h="21600">
                <a:moveTo>
                  <a:pt x="45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85" y="20200"/>
                </a:lnTo>
                <a:close/>
              </a:path>
              <a:path fill="lighten" w="45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85" h="21600">
                <a:moveTo>
                  <a:pt x="15936" y="10800"/>
                </a:moveTo>
                <a:lnTo>
                  <a:pt x="29949" y="3794"/>
                </a:lnTo>
                <a:lnTo>
                  <a:pt x="29949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1916280"/>
            <a:ext cx="474156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 называется устройство для забора воды из водопроводной сети для тушения пожа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40000" y="1916280"/>
            <a:ext cx="474156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 называется гибкий водопровод для тушения пожар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жарный рук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Шла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жарный гидр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4" action="ppaction://hlinksldjump"/>
          </p:cNvPr>
          <p:cNvSpPr/>
          <p:nvPr/>
        </p:nvSpPr>
        <p:spPr>
          <a:xfrm>
            <a:off x="179280" y="4149720"/>
            <a:ext cx="3672000" cy="5745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37972" h="21600">
                <a:moveTo>
                  <a:pt x="0" y="0"/>
                </a:moveTo>
                <a:lnTo>
                  <a:pt x="137972" y="0"/>
                </a:lnTo>
                <a:lnTo>
                  <a:pt x="137972" y="21600"/>
                </a:lnTo>
                <a:lnTo>
                  <a:pt x="0" y="21600"/>
                </a:lnTo>
                <a:close/>
              </a:path>
              <a:path fill="lightenLess" w="137972" h="21600">
                <a:moveTo>
                  <a:pt x="0" y="0"/>
                </a:moveTo>
                <a:lnTo>
                  <a:pt x="137972" y="0"/>
                </a:lnTo>
                <a:lnTo>
                  <a:pt x="136572" y="1400"/>
                </a:lnTo>
                <a:lnTo>
                  <a:pt x="1400" y="1400"/>
                </a:lnTo>
                <a:close/>
              </a:path>
              <a:path fill="darken" w="137972" h="21600">
                <a:moveTo>
                  <a:pt x="137972" y="0"/>
                </a:moveTo>
                <a:lnTo>
                  <a:pt x="137972" y="21600"/>
                </a:lnTo>
                <a:lnTo>
                  <a:pt x="136572" y="20200"/>
                </a:lnTo>
                <a:lnTo>
                  <a:pt x="136572" y="1400"/>
                </a:lnTo>
                <a:close/>
              </a:path>
              <a:path fill="darkenLess" w="137972" h="21600">
                <a:moveTo>
                  <a:pt x="137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572" y="20200"/>
                </a:lnTo>
                <a:close/>
              </a:path>
              <a:path fill="lighten" w="137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ластиковая тру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5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6" action="ppaction://hlinksldjump"/>
          </p:cNvPr>
          <p:cNvSpPr/>
          <p:nvPr/>
        </p:nvSpPr>
        <p:spPr>
          <a:xfrm>
            <a:off x="1763640" y="5950080"/>
            <a:ext cx="1152720" cy="57600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213" h="21600">
                <a:moveTo>
                  <a:pt x="0" y="0"/>
                </a:moveTo>
                <a:lnTo>
                  <a:pt x="43213" y="0"/>
                </a:lnTo>
                <a:lnTo>
                  <a:pt x="43213" y="21600"/>
                </a:lnTo>
                <a:lnTo>
                  <a:pt x="0" y="21600"/>
                </a:lnTo>
                <a:close/>
              </a:path>
              <a:path fill="lightenLess" w="43213" h="21600">
                <a:moveTo>
                  <a:pt x="0" y="0"/>
                </a:moveTo>
                <a:lnTo>
                  <a:pt x="43213" y="0"/>
                </a:lnTo>
                <a:lnTo>
                  <a:pt x="41813" y="1400"/>
                </a:lnTo>
                <a:lnTo>
                  <a:pt x="1400" y="1400"/>
                </a:lnTo>
                <a:close/>
              </a:path>
              <a:path fill="darken" w="43213" h="21600">
                <a:moveTo>
                  <a:pt x="43213" y="0"/>
                </a:moveTo>
                <a:lnTo>
                  <a:pt x="43213" y="21600"/>
                </a:lnTo>
                <a:lnTo>
                  <a:pt x="41813" y="20200"/>
                </a:lnTo>
                <a:lnTo>
                  <a:pt x="41813" y="1400"/>
                </a:lnTo>
                <a:close/>
              </a:path>
              <a:path fill="darkenLess" w="43213" h="21600">
                <a:moveTo>
                  <a:pt x="43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3" y="20200"/>
                </a:lnTo>
                <a:close/>
              </a:path>
              <a:path fill="lighten" w="43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3" h="21600">
                <a:moveTo>
                  <a:pt x="14600" y="3794"/>
                </a:moveTo>
                <a:lnTo>
                  <a:pt x="28613" y="10800"/>
                </a:lnTo>
                <a:lnTo>
                  <a:pt x="14600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7" action="ppaction://hlinksldjump"/>
          </p:cNvPr>
          <p:cNvSpPr/>
          <p:nvPr/>
        </p:nvSpPr>
        <p:spPr>
          <a:xfrm>
            <a:off x="468360" y="5950080"/>
            <a:ext cx="1224000" cy="57600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5885" h="21600">
                <a:moveTo>
                  <a:pt x="0" y="0"/>
                </a:moveTo>
                <a:lnTo>
                  <a:pt x="45885" y="0"/>
                </a:lnTo>
                <a:lnTo>
                  <a:pt x="45885" y="21600"/>
                </a:lnTo>
                <a:lnTo>
                  <a:pt x="0" y="21600"/>
                </a:lnTo>
                <a:close/>
              </a:path>
              <a:path fill="lightenLess" w="45885" h="21600">
                <a:moveTo>
                  <a:pt x="0" y="0"/>
                </a:moveTo>
                <a:lnTo>
                  <a:pt x="45885" y="0"/>
                </a:lnTo>
                <a:lnTo>
                  <a:pt x="44485" y="1400"/>
                </a:lnTo>
                <a:lnTo>
                  <a:pt x="1400" y="1400"/>
                </a:lnTo>
                <a:close/>
              </a:path>
              <a:path fill="darken" w="45885" h="21600">
                <a:moveTo>
                  <a:pt x="45885" y="0"/>
                </a:moveTo>
                <a:lnTo>
                  <a:pt x="45885" y="21600"/>
                </a:lnTo>
                <a:lnTo>
                  <a:pt x="44485" y="20200"/>
                </a:lnTo>
                <a:lnTo>
                  <a:pt x="44485" y="1400"/>
                </a:lnTo>
                <a:close/>
              </a:path>
              <a:path fill="darkenLess" w="45885" h="21600">
                <a:moveTo>
                  <a:pt x="45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85" y="20200"/>
                </a:lnTo>
                <a:close/>
              </a:path>
              <a:path fill="lighten" w="45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85" h="21600">
                <a:moveTo>
                  <a:pt x="15936" y="10800"/>
                </a:moveTo>
                <a:lnTo>
                  <a:pt x="29949" y="3794"/>
                </a:lnTo>
                <a:lnTo>
                  <a:pt x="29949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4859280" y="3557520"/>
            <a:ext cx="403380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59280" y="3557520"/>
            <a:ext cx="4033800" cy="3019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140000" y="2492280"/>
            <a:ext cx="47415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Правильно, молодец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3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жарный рук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Шла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5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жарный гидр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6" action="ppaction://hlinksldjump"/>
          </p:cNvPr>
          <p:cNvSpPr/>
          <p:nvPr/>
        </p:nvSpPr>
        <p:spPr>
          <a:xfrm>
            <a:off x="179280" y="4149720"/>
            <a:ext cx="3672000" cy="5745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37972" h="21600">
                <a:moveTo>
                  <a:pt x="0" y="0"/>
                </a:moveTo>
                <a:lnTo>
                  <a:pt x="137972" y="0"/>
                </a:lnTo>
                <a:lnTo>
                  <a:pt x="137972" y="21600"/>
                </a:lnTo>
                <a:lnTo>
                  <a:pt x="0" y="21600"/>
                </a:lnTo>
                <a:close/>
              </a:path>
              <a:path fill="lightenLess" w="137972" h="21600">
                <a:moveTo>
                  <a:pt x="0" y="0"/>
                </a:moveTo>
                <a:lnTo>
                  <a:pt x="137972" y="0"/>
                </a:lnTo>
                <a:lnTo>
                  <a:pt x="136572" y="1400"/>
                </a:lnTo>
                <a:lnTo>
                  <a:pt x="1400" y="1400"/>
                </a:lnTo>
                <a:close/>
              </a:path>
              <a:path fill="darken" w="137972" h="21600">
                <a:moveTo>
                  <a:pt x="137972" y="0"/>
                </a:moveTo>
                <a:lnTo>
                  <a:pt x="137972" y="21600"/>
                </a:lnTo>
                <a:lnTo>
                  <a:pt x="136572" y="20200"/>
                </a:lnTo>
                <a:lnTo>
                  <a:pt x="136572" y="1400"/>
                </a:lnTo>
                <a:close/>
              </a:path>
              <a:path fill="darkenLess" w="137972" h="21600">
                <a:moveTo>
                  <a:pt x="137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572" y="20200"/>
                </a:lnTo>
                <a:close/>
              </a:path>
              <a:path fill="lighten" w="137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ластиковая тру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7" action="ppaction://hlinksldjump"/>
          </p:cNvPr>
          <p:cNvSpPr/>
          <p:nvPr/>
        </p:nvSpPr>
        <p:spPr>
          <a:xfrm>
            <a:off x="1763640" y="5950080"/>
            <a:ext cx="1152720" cy="57600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213" h="21600">
                <a:moveTo>
                  <a:pt x="0" y="0"/>
                </a:moveTo>
                <a:lnTo>
                  <a:pt x="43213" y="0"/>
                </a:lnTo>
                <a:lnTo>
                  <a:pt x="43213" y="21600"/>
                </a:lnTo>
                <a:lnTo>
                  <a:pt x="0" y="21600"/>
                </a:lnTo>
                <a:close/>
              </a:path>
              <a:path fill="lightenLess" w="43213" h="21600">
                <a:moveTo>
                  <a:pt x="0" y="0"/>
                </a:moveTo>
                <a:lnTo>
                  <a:pt x="43213" y="0"/>
                </a:lnTo>
                <a:lnTo>
                  <a:pt x="41813" y="1400"/>
                </a:lnTo>
                <a:lnTo>
                  <a:pt x="1400" y="1400"/>
                </a:lnTo>
                <a:close/>
              </a:path>
              <a:path fill="darken" w="43213" h="21600">
                <a:moveTo>
                  <a:pt x="43213" y="0"/>
                </a:moveTo>
                <a:lnTo>
                  <a:pt x="43213" y="21600"/>
                </a:lnTo>
                <a:lnTo>
                  <a:pt x="41813" y="20200"/>
                </a:lnTo>
                <a:lnTo>
                  <a:pt x="41813" y="1400"/>
                </a:lnTo>
                <a:close/>
              </a:path>
              <a:path fill="darkenLess" w="43213" h="21600">
                <a:moveTo>
                  <a:pt x="43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3" y="20200"/>
                </a:lnTo>
                <a:close/>
              </a:path>
              <a:path fill="lighten" w="43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3" h="21600">
                <a:moveTo>
                  <a:pt x="14600" y="3794"/>
                </a:moveTo>
                <a:lnTo>
                  <a:pt x="28613" y="10800"/>
                </a:lnTo>
                <a:lnTo>
                  <a:pt x="14600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1916280"/>
            <a:ext cx="474156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 называется гибкий водопровод для тушения пожа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859280" y="3557520"/>
            <a:ext cx="4033800" cy="30193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40000" y="2492280"/>
            <a:ext cx="4741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Неправильно, попробуй ещё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жарный рук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4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Шла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5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жарный гидр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6" action="ppaction://hlinksldjump"/>
          </p:cNvPr>
          <p:cNvSpPr/>
          <p:nvPr/>
        </p:nvSpPr>
        <p:spPr>
          <a:xfrm>
            <a:off x="179280" y="4149720"/>
            <a:ext cx="3672000" cy="5745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37972" h="21600">
                <a:moveTo>
                  <a:pt x="0" y="0"/>
                </a:moveTo>
                <a:lnTo>
                  <a:pt x="137972" y="0"/>
                </a:lnTo>
                <a:lnTo>
                  <a:pt x="137972" y="21600"/>
                </a:lnTo>
                <a:lnTo>
                  <a:pt x="0" y="21600"/>
                </a:lnTo>
                <a:close/>
              </a:path>
              <a:path fill="lightenLess" w="137972" h="21600">
                <a:moveTo>
                  <a:pt x="0" y="0"/>
                </a:moveTo>
                <a:lnTo>
                  <a:pt x="137972" y="0"/>
                </a:lnTo>
                <a:lnTo>
                  <a:pt x="136572" y="1400"/>
                </a:lnTo>
                <a:lnTo>
                  <a:pt x="1400" y="1400"/>
                </a:lnTo>
                <a:close/>
              </a:path>
              <a:path fill="darken" w="137972" h="21600">
                <a:moveTo>
                  <a:pt x="137972" y="0"/>
                </a:moveTo>
                <a:lnTo>
                  <a:pt x="137972" y="21600"/>
                </a:lnTo>
                <a:lnTo>
                  <a:pt x="136572" y="20200"/>
                </a:lnTo>
                <a:lnTo>
                  <a:pt x="136572" y="1400"/>
                </a:lnTo>
                <a:close/>
              </a:path>
              <a:path fill="darkenLess" w="137972" h="21600">
                <a:moveTo>
                  <a:pt x="137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572" y="20200"/>
                </a:lnTo>
                <a:close/>
              </a:path>
              <a:path fill="lighten" w="137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ластиковая тру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7" action="ppaction://hlinksldjump"/>
          </p:cNvPr>
          <p:cNvSpPr/>
          <p:nvPr/>
        </p:nvSpPr>
        <p:spPr>
          <a:xfrm>
            <a:off x="468360" y="5950080"/>
            <a:ext cx="1224000" cy="57600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5885" h="21600">
                <a:moveTo>
                  <a:pt x="0" y="0"/>
                </a:moveTo>
                <a:lnTo>
                  <a:pt x="45885" y="0"/>
                </a:lnTo>
                <a:lnTo>
                  <a:pt x="45885" y="21600"/>
                </a:lnTo>
                <a:lnTo>
                  <a:pt x="0" y="21600"/>
                </a:lnTo>
                <a:close/>
              </a:path>
              <a:path fill="lightenLess" w="45885" h="21600">
                <a:moveTo>
                  <a:pt x="0" y="0"/>
                </a:moveTo>
                <a:lnTo>
                  <a:pt x="45885" y="0"/>
                </a:lnTo>
                <a:lnTo>
                  <a:pt x="44485" y="1400"/>
                </a:lnTo>
                <a:lnTo>
                  <a:pt x="1400" y="1400"/>
                </a:lnTo>
                <a:close/>
              </a:path>
              <a:path fill="darken" w="45885" h="21600">
                <a:moveTo>
                  <a:pt x="45885" y="0"/>
                </a:moveTo>
                <a:lnTo>
                  <a:pt x="45885" y="21600"/>
                </a:lnTo>
                <a:lnTo>
                  <a:pt x="44485" y="20200"/>
                </a:lnTo>
                <a:lnTo>
                  <a:pt x="44485" y="1400"/>
                </a:lnTo>
                <a:close/>
              </a:path>
              <a:path fill="darkenLess" w="45885" h="21600">
                <a:moveTo>
                  <a:pt x="45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85" y="20200"/>
                </a:lnTo>
                <a:close/>
              </a:path>
              <a:path fill="lighten" w="45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85" h="21600">
                <a:moveTo>
                  <a:pt x="15936" y="10800"/>
                </a:moveTo>
                <a:lnTo>
                  <a:pt x="29949" y="3794"/>
                </a:lnTo>
                <a:lnTo>
                  <a:pt x="29949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40360" y="1916280"/>
            <a:ext cx="474156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 называется гибкий водопровод для тушения пожа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859280" y="3716280"/>
            <a:ext cx="3960720" cy="2881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40000" y="1915920"/>
            <a:ext cx="47415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ое из действий нужно сделать первым при пожаре электроприборов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звать в пожарную охр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вести людей из поме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4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бесточить электропри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5" action="ppaction://hlinksldjump"/>
          </p:cNvPr>
          <p:cNvSpPr/>
          <p:nvPr/>
        </p:nvSpPr>
        <p:spPr>
          <a:xfrm>
            <a:off x="179280" y="4149720"/>
            <a:ext cx="3672000" cy="5745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37972" h="21600">
                <a:moveTo>
                  <a:pt x="0" y="0"/>
                </a:moveTo>
                <a:lnTo>
                  <a:pt x="137972" y="0"/>
                </a:lnTo>
                <a:lnTo>
                  <a:pt x="137972" y="21600"/>
                </a:lnTo>
                <a:lnTo>
                  <a:pt x="0" y="21600"/>
                </a:lnTo>
                <a:close/>
              </a:path>
              <a:path fill="lightenLess" w="137972" h="21600">
                <a:moveTo>
                  <a:pt x="0" y="0"/>
                </a:moveTo>
                <a:lnTo>
                  <a:pt x="137972" y="0"/>
                </a:lnTo>
                <a:lnTo>
                  <a:pt x="136572" y="1400"/>
                </a:lnTo>
                <a:lnTo>
                  <a:pt x="1400" y="1400"/>
                </a:lnTo>
                <a:close/>
              </a:path>
              <a:path fill="darken" w="137972" h="21600">
                <a:moveTo>
                  <a:pt x="137972" y="0"/>
                </a:moveTo>
                <a:lnTo>
                  <a:pt x="137972" y="21600"/>
                </a:lnTo>
                <a:lnTo>
                  <a:pt x="136572" y="20200"/>
                </a:lnTo>
                <a:lnTo>
                  <a:pt x="136572" y="1400"/>
                </a:lnTo>
                <a:close/>
              </a:path>
              <a:path fill="darkenLess" w="137972" h="21600">
                <a:moveTo>
                  <a:pt x="137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572" y="20200"/>
                </a:lnTo>
                <a:close/>
              </a:path>
              <a:path fill="lighten" w="137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звать телема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6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7" action="ppaction://hlinksldjump"/>
          </p:cNvPr>
          <p:cNvSpPr/>
          <p:nvPr/>
        </p:nvSpPr>
        <p:spPr>
          <a:xfrm>
            <a:off x="1763640" y="5950080"/>
            <a:ext cx="1152720" cy="57600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213" h="21600">
                <a:moveTo>
                  <a:pt x="0" y="0"/>
                </a:moveTo>
                <a:lnTo>
                  <a:pt x="43213" y="0"/>
                </a:lnTo>
                <a:lnTo>
                  <a:pt x="43213" y="21600"/>
                </a:lnTo>
                <a:lnTo>
                  <a:pt x="0" y="21600"/>
                </a:lnTo>
                <a:close/>
              </a:path>
              <a:path fill="lightenLess" w="43213" h="21600">
                <a:moveTo>
                  <a:pt x="0" y="0"/>
                </a:moveTo>
                <a:lnTo>
                  <a:pt x="43213" y="0"/>
                </a:lnTo>
                <a:lnTo>
                  <a:pt x="41813" y="1400"/>
                </a:lnTo>
                <a:lnTo>
                  <a:pt x="1400" y="1400"/>
                </a:lnTo>
                <a:close/>
              </a:path>
              <a:path fill="darken" w="43213" h="21600">
                <a:moveTo>
                  <a:pt x="43213" y="0"/>
                </a:moveTo>
                <a:lnTo>
                  <a:pt x="43213" y="21600"/>
                </a:lnTo>
                <a:lnTo>
                  <a:pt x="41813" y="20200"/>
                </a:lnTo>
                <a:lnTo>
                  <a:pt x="41813" y="1400"/>
                </a:lnTo>
                <a:close/>
              </a:path>
              <a:path fill="darkenLess" w="43213" h="21600">
                <a:moveTo>
                  <a:pt x="43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3" y="20200"/>
                </a:lnTo>
                <a:close/>
              </a:path>
              <a:path fill="lighten" w="43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3" h="21600">
                <a:moveTo>
                  <a:pt x="14600" y="3794"/>
                </a:moveTo>
                <a:lnTo>
                  <a:pt x="28613" y="10800"/>
                </a:lnTo>
                <a:lnTo>
                  <a:pt x="14600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8" action="ppaction://hlinksldjump"/>
          </p:cNvPr>
          <p:cNvSpPr/>
          <p:nvPr/>
        </p:nvSpPr>
        <p:spPr>
          <a:xfrm>
            <a:off x="468360" y="5950080"/>
            <a:ext cx="1224000" cy="57600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5885" h="21600">
                <a:moveTo>
                  <a:pt x="0" y="0"/>
                </a:moveTo>
                <a:lnTo>
                  <a:pt x="45885" y="0"/>
                </a:lnTo>
                <a:lnTo>
                  <a:pt x="45885" y="21600"/>
                </a:lnTo>
                <a:lnTo>
                  <a:pt x="0" y="21600"/>
                </a:lnTo>
                <a:close/>
              </a:path>
              <a:path fill="lightenLess" w="45885" h="21600">
                <a:moveTo>
                  <a:pt x="0" y="0"/>
                </a:moveTo>
                <a:lnTo>
                  <a:pt x="45885" y="0"/>
                </a:lnTo>
                <a:lnTo>
                  <a:pt x="44485" y="1400"/>
                </a:lnTo>
                <a:lnTo>
                  <a:pt x="1400" y="1400"/>
                </a:lnTo>
                <a:close/>
              </a:path>
              <a:path fill="darken" w="45885" h="21600">
                <a:moveTo>
                  <a:pt x="45885" y="0"/>
                </a:moveTo>
                <a:lnTo>
                  <a:pt x="45885" y="21600"/>
                </a:lnTo>
                <a:lnTo>
                  <a:pt x="44485" y="20200"/>
                </a:lnTo>
                <a:lnTo>
                  <a:pt x="44485" y="1400"/>
                </a:lnTo>
                <a:close/>
              </a:path>
              <a:path fill="darkenLess" w="45885" h="21600">
                <a:moveTo>
                  <a:pt x="45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85" y="20200"/>
                </a:lnTo>
                <a:close/>
              </a:path>
              <a:path fill="lighten" w="45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85" h="21600">
                <a:moveTo>
                  <a:pt x="15936" y="10800"/>
                </a:moveTo>
                <a:lnTo>
                  <a:pt x="29949" y="3794"/>
                </a:lnTo>
                <a:lnTo>
                  <a:pt x="29949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859280" y="3716280"/>
            <a:ext cx="3960720" cy="28814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140000" y="2565360"/>
            <a:ext cx="47415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Правильно, молодец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звать пожарную охр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4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вести людей из поме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5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бесточить электропри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6" action="ppaction://hlinksldjump"/>
          </p:cNvPr>
          <p:cNvSpPr/>
          <p:nvPr/>
        </p:nvSpPr>
        <p:spPr>
          <a:xfrm>
            <a:off x="179280" y="4149720"/>
            <a:ext cx="3672000" cy="5745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37972" h="21600">
                <a:moveTo>
                  <a:pt x="0" y="0"/>
                </a:moveTo>
                <a:lnTo>
                  <a:pt x="137972" y="0"/>
                </a:lnTo>
                <a:lnTo>
                  <a:pt x="137972" y="21600"/>
                </a:lnTo>
                <a:lnTo>
                  <a:pt x="0" y="21600"/>
                </a:lnTo>
                <a:close/>
              </a:path>
              <a:path fill="lightenLess" w="137972" h="21600">
                <a:moveTo>
                  <a:pt x="0" y="0"/>
                </a:moveTo>
                <a:lnTo>
                  <a:pt x="137972" y="0"/>
                </a:lnTo>
                <a:lnTo>
                  <a:pt x="136572" y="1400"/>
                </a:lnTo>
                <a:lnTo>
                  <a:pt x="1400" y="1400"/>
                </a:lnTo>
                <a:close/>
              </a:path>
              <a:path fill="darken" w="137972" h="21600">
                <a:moveTo>
                  <a:pt x="137972" y="0"/>
                </a:moveTo>
                <a:lnTo>
                  <a:pt x="137972" y="21600"/>
                </a:lnTo>
                <a:lnTo>
                  <a:pt x="136572" y="20200"/>
                </a:lnTo>
                <a:lnTo>
                  <a:pt x="136572" y="1400"/>
                </a:lnTo>
                <a:close/>
              </a:path>
              <a:path fill="darkenLess" w="137972" h="21600">
                <a:moveTo>
                  <a:pt x="137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572" y="20200"/>
                </a:lnTo>
                <a:close/>
              </a:path>
              <a:path fill="lighten" w="137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звать телема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7" action="ppaction://hlinksldjump"/>
          </p:cNvPr>
          <p:cNvSpPr/>
          <p:nvPr/>
        </p:nvSpPr>
        <p:spPr>
          <a:xfrm>
            <a:off x="1763640" y="5950080"/>
            <a:ext cx="1152720" cy="57600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213" h="21600">
                <a:moveTo>
                  <a:pt x="0" y="0"/>
                </a:moveTo>
                <a:lnTo>
                  <a:pt x="43213" y="0"/>
                </a:lnTo>
                <a:lnTo>
                  <a:pt x="43213" y="21600"/>
                </a:lnTo>
                <a:lnTo>
                  <a:pt x="0" y="21600"/>
                </a:lnTo>
                <a:close/>
              </a:path>
              <a:path fill="lightenLess" w="43213" h="21600">
                <a:moveTo>
                  <a:pt x="0" y="0"/>
                </a:moveTo>
                <a:lnTo>
                  <a:pt x="43213" y="0"/>
                </a:lnTo>
                <a:lnTo>
                  <a:pt x="41813" y="1400"/>
                </a:lnTo>
                <a:lnTo>
                  <a:pt x="1400" y="1400"/>
                </a:lnTo>
                <a:close/>
              </a:path>
              <a:path fill="darken" w="43213" h="21600">
                <a:moveTo>
                  <a:pt x="43213" y="0"/>
                </a:moveTo>
                <a:lnTo>
                  <a:pt x="43213" y="21600"/>
                </a:lnTo>
                <a:lnTo>
                  <a:pt x="41813" y="20200"/>
                </a:lnTo>
                <a:lnTo>
                  <a:pt x="41813" y="1400"/>
                </a:lnTo>
                <a:close/>
              </a:path>
              <a:path fill="darkenLess" w="43213" h="21600">
                <a:moveTo>
                  <a:pt x="43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3" y="20200"/>
                </a:lnTo>
                <a:close/>
              </a:path>
              <a:path fill="lighten" w="43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3" h="21600">
                <a:moveTo>
                  <a:pt x="14600" y="3794"/>
                </a:moveTo>
                <a:lnTo>
                  <a:pt x="28613" y="10800"/>
                </a:lnTo>
                <a:lnTo>
                  <a:pt x="14600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40360" y="1916280"/>
            <a:ext cx="47415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ое из действий нужно сделать первым при пожаре электроприбор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859280" y="3716280"/>
            <a:ext cx="3960720" cy="28814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40000" y="2491920"/>
            <a:ext cx="474156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Неправильно, попробуй ещё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>
            <a:hlinkClick r:id="rId2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rId3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звать в пожарную охр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4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вести людей из поме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5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бесточить электропри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6" action="ppaction://hlinksldjump"/>
          </p:cNvPr>
          <p:cNvSpPr/>
          <p:nvPr/>
        </p:nvSpPr>
        <p:spPr>
          <a:xfrm>
            <a:off x="179280" y="4149720"/>
            <a:ext cx="3672000" cy="5745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37972" h="21600">
                <a:moveTo>
                  <a:pt x="0" y="0"/>
                </a:moveTo>
                <a:lnTo>
                  <a:pt x="137972" y="0"/>
                </a:lnTo>
                <a:lnTo>
                  <a:pt x="137972" y="21600"/>
                </a:lnTo>
                <a:lnTo>
                  <a:pt x="0" y="21600"/>
                </a:lnTo>
                <a:close/>
              </a:path>
              <a:path fill="lightenLess" w="137972" h="21600">
                <a:moveTo>
                  <a:pt x="0" y="0"/>
                </a:moveTo>
                <a:lnTo>
                  <a:pt x="137972" y="0"/>
                </a:lnTo>
                <a:lnTo>
                  <a:pt x="136572" y="1400"/>
                </a:lnTo>
                <a:lnTo>
                  <a:pt x="1400" y="1400"/>
                </a:lnTo>
                <a:close/>
              </a:path>
              <a:path fill="darken" w="137972" h="21600">
                <a:moveTo>
                  <a:pt x="137972" y="0"/>
                </a:moveTo>
                <a:lnTo>
                  <a:pt x="137972" y="21600"/>
                </a:lnTo>
                <a:lnTo>
                  <a:pt x="136572" y="20200"/>
                </a:lnTo>
                <a:lnTo>
                  <a:pt x="136572" y="1400"/>
                </a:lnTo>
                <a:close/>
              </a:path>
              <a:path fill="darkenLess" w="137972" h="21600">
                <a:moveTo>
                  <a:pt x="137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572" y="20200"/>
                </a:lnTo>
                <a:close/>
              </a:path>
              <a:path fill="lighten" w="137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звать телема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7" action="ppaction://hlinksldjump"/>
          </p:cNvPr>
          <p:cNvSpPr/>
          <p:nvPr/>
        </p:nvSpPr>
        <p:spPr>
          <a:xfrm>
            <a:off x="468360" y="5950080"/>
            <a:ext cx="1224000" cy="57600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5885" h="21600">
                <a:moveTo>
                  <a:pt x="0" y="0"/>
                </a:moveTo>
                <a:lnTo>
                  <a:pt x="45885" y="0"/>
                </a:lnTo>
                <a:lnTo>
                  <a:pt x="45885" y="21600"/>
                </a:lnTo>
                <a:lnTo>
                  <a:pt x="0" y="21600"/>
                </a:lnTo>
                <a:close/>
              </a:path>
              <a:path fill="lightenLess" w="45885" h="21600">
                <a:moveTo>
                  <a:pt x="0" y="0"/>
                </a:moveTo>
                <a:lnTo>
                  <a:pt x="45885" y="0"/>
                </a:lnTo>
                <a:lnTo>
                  <a:pt x="44485" y="1400"/>
                </a:lnTo>
                <a:lnTo>
                  <a:pt x="1400" y="1400"/>
                </a:lnTo>
                <a:close/>
              </a:path>
              <a:path fill="darken" w="45885" h="21600">
                <a:moveTo>
                  <a:pt x="45885" y="0"/>
                </a:moveTo>
                <a:lnTo>
                  <a:pt x="45885" y="21600"/>
                </a:lnTo>
                <a:lnTo>
                  <a:pt x="44485" y="20200"/>
                </a:lnTo>
                <a:lnTo>
                  <a:pt x="44485" y="1400"/>
                </a:lnTo>
                <a:close/>
              </a:path>
              <a:path fill="darkenLess" w="45885" h="21600">
                <a:moveTo>
                  <a:pt x="45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85" y="20200"/>
                </a:lnTo>
                <a:close/>
              </a:path>
              <a:path fill="lighten" w="45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85" h="21600">
                <a:moveTo>
                  <a:pt x="15936" y="10800"/>
                </a:moveTo>
                <a:lnTo>
                  <a:pt x="29949" y="3794"/>
                </a:lnTo>
                <a:lnTo>
                  <a:pt x="29949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40360" y="1916280"/>
            <a:ext cx="47415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ое из действий нужно сделать первым при пожаре электроприбор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140000" y="1915920"/>
            <a:ext cx="47415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Что нужно делать первым при пожаре в квартире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ушить пожар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rId2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вести пожилых и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3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звонить «0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rId4" action="ppaction://hlinksldjump"/>
          </p:cNvPr>
          <p:cNvSpPr/>
          <p:nvPr/>
        </p:nvSpPr>
        <p:spPr>
          <a:xfrm>
            <a:off x="179280" y="4149720"/>
            <a:ext cx="3672000" cy="5745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37972" h="21600">
                <a:moveTo>
                  <a:pt x="0" y="0"/>
                </a:moveTo>
                <a:lnTo>
                  <a:pt x="137972" y="0"/>
                </a:lnTo>
                <a:lnTo>
                  <a:pt x="137972" y="21600"/>
                </a:lnTo>
                <a:lnTo>
                  <a:pt x="0" y="21600"/>
                </a:lnTo>
                <a:close/>
              </a:path>
              <a:path fill="lightenLess" w="137972" h="21600">
                <a:moveTo>
                  <a:pt x="0" y="0"/>
                </a:moveTo>
                <a:lnTo>
                  <a:pt x="137972" y="0"/>
                </a:lnTo>
                <a:lnTo>
                  <a:pt x="136572" y="1400"/>
                </a:lnTo>
                <a:lnTo>
                  <a:pt x="1400" y="1400"/>
                </a:lnTo>
                <a:close/>
              </a:path>
              <a:path fill="darken" w="137972" h="21600">
                <a:moveTo>
                  <a:pt x="137972" y="0"/>
                </a:moveTo>
                <a:lnTo>
                  <a:pt x="137972" y="21600"/>
                </a:lnTo>
                <a:lnTo>
                  <a:pt x="136572" y="20200"/>
                </a:lnTo>
                <a:lnTo>
                  <a:pt x="136572" y="1400"/>
                </a:lnTo>
                <a:close/>
              </a:path>
              <a:path fill="darkenLess" w="137972" h="21600">
                <a:moveTo>
                  <a:pt x="137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572" y="20200"/>
                </a:lnTo>
                <a:close/>
              </a:path>
              <a:path fill="lighten" w="137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тключить электро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5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6" action="ppaction://hlinksldjump"/>
          </p:cNvPr>
          <p:cNvSpPr/>
          <p:nvPr/>
        </p:nvSpPr>
        <p:spPr>
          <a:xfrm>
            <a:off x="468360" y="5950080"/>
            <a:ext cx="1224000" cy="57600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5885" h="21600">
                <a:moveTo>
                  <a:pt x="0" y="0"/>
                </a:moveTo>
                <a:lnTo>
                  <a:pt x="45885" y="0"/>
                </a:lnTo>
                <a:lnTo>
                  <a:pt x="45885" y="21600"/>
                </a:lnTo>
                <a:lnTo>
                  <a:pt x="0" y="21600"/>
                </a:lnTo>
                <a:close/>
              </a:path>
              <a:path fill="lightenLess" w="45885" h="21600">
                <a:moveTo>
                  <a:pt x="0" y="0"/>
                </a:moveTo>
                <a:lnTo>
                  <a:pt x="45885" y="0"/>
                </a:lnTo>
                <a:lnTo>
                  <a:pt x="44485" y="1400"/>
                </a:lnTo>
                <a:lnTo>
                  <a:pt x="1400" y="1400"/>
                </a:lnTo>
                <a:close/>
              </a:path>
              <a:path fill="darken" w="45885" h="21600">
                <a:moveTo>
                  <a:pt x="45885" y="0"/>
                </a:moveTo>
                <a:lnTo>
                  <a:pt x="45885" y="21600"/>
                </a:lnTo>
                <a:lnTo>
                  <a:pt x="44485" y="20200"/>
                </a:lnTo>
                <a:lnTo>
                  <a:pt x="44485" y="1400"/>
                </a:lnTo>
                <a:close/>
              </a:path>
              <a:path fill="darkenLess" w="45885" h="21600">
                <a:moveTo>
                  <a:pt x="45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85" y="20200"/>
                </a:lnTo>
                <a:close/>
              </a:path>
              <a:path fill="lighten" w="45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85" h="21600">
                <a:moveTo>
                  <a:pt x="15936" y="10800"/>
                </a:moveTo>
                <a:lnTo>
                  <a:pt x="29949" y="3794"/>
                </a:lnTo>
                <a:lnTo>
                  <a:pt x="29949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7"/>
          <a:stretch/>
        </p:blipFill>
        <p:spPr>
          <a:xfrm>
            <a:off x="4500720" y="3443400"/>
            <a:ext cx="4392360" cy="3193920"/>
          </a:xfrm>
          <a:prstGeom prst="rect">
            <a:avLst/>
          </a:prstGeom>
          <a:ln w="0">
            <a:noFill/>
          </a:ln>
        </p:spPr>
      </p:pic>
      <p:sp>
        <p:nvSpPr>
          <p:cNvPr id="275" name="">
            <a:hlinkClick r:id="rId8" action="ppaction://hlinksldjump"/>
          </p:cNvPr>
          <p:cNvSpPr/>
          <p:nvPr/>
        </p:nvSpPr>
        <p:spPr>
          <a:xfrm>
            <a:off x="1763640" y="5950080"/>
            <a:ext cx="1152720" cy="57600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213" h="21600">
                <a:moveTo>
                  <a:pt x="0" y="0"/>
                </a:moveTo>
                <a:lnTo>
                  <a:pt x="43213" y="0"/>
                </a:lnTo>
                <a:lnTo>
                  <a:pt x="43213" y="21600"/>
                </a:lnTo>
                <a:lnTo>
                  <a:pt x="0" y="21600"/>
                </a:lnTo>
                <a:close/>
              </a:path>
              <a:path fill="lightenLess" w="43213" h="21600">
                <a:moveTo>
                  <a:pt x="0" y="0"/>
                </a:moveTo>
                <a:lnTo>
                  <a:pt x="43213" y="0"/>
                </a:lnTo>
                <a:lnTo>
                  <a:pt x="41813" y="1400"/>
                </a:lnTo>
                <a:lnTo>
                  <a:pt x="1400" y="1400"/>
                </a:lnTo>
                <a:close/>
              </a:path>
              <a:path fill="darken" w="43213" h="21600">
                <a:moveTo>
                  <a:pt x="43213" y="0"/>
                </a:moveTo>
                <a:lnTo>
                  <a:pt x="43213" y="21600"/>
                </a:lnTo>
                <a:lnTo>
                  <a:pt x="41813" y="20200"/>
                </a:lnTo>
                <a:lnTo>
                  <a:pt x="41813" y="1400"/>
                </a:lnTo>
                <a:close/>
              </a:path>
              <a:path fill="darkenLess" w="43213" h="21600">
                <a:moveTo>
                  <a:pt x="43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3" y="20200"/>
                </a:lnTo>
                <a:close/>
              </a:path>
              <a:path fill="lighten" w="43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3" h="21600">
                <a:moveTo>
                  <a:pt x="14600" y="3794"/>
                </a:moveTo>
                <a:lnTo>
                  <a:pt x="28613" y="10800"/>
                </a:lnTo>
                <a:lnTo>
                  <a:pt x="14600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00720" y="3429000"/>
            <a:ext cx="4392360" cy="31939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140000" y="2492280"/>
            <a:ext cx="47415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Правильно, молодец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">
            <a:hlinkClick r:id="rId2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3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ушить пожар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4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вести пожилых и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5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звонить «0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rId6" action="ppaction://hlinksldjump"/>
          </p:cNvPr>
          <p:cNvSpPr/>
          <p:nvPr/>
        </p:nvSpPr>
        <p:spPr>
          <a:xfrm>
            <a:off x="179280" y="4149720"/>
            <a:ext cx="3672000" cy="5745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37972" h="21600">
                <a:moveTo>
                  <a:pt x="0" y="0"/>
                </a:moveTo>
                <a:lnTo>
                  <a:pt x="137972" y="0"/>
                </a:lnTo>
                <a:lnTo>
                  <a:pt x="137972" y="21600"/>
                </a:lnTo>
                <a:lnTo>
                  <a:pt x="0" y="21600"/>
                </a:lnTo>
                <a:close/>
              </a:path>
              <a:path fill="lightenLess" w="137972" h="21600">
                <a:moveTo>
                  <a:pt x="0" y="0"/>
                </a:moveTo>
                <a:lnTo>
                  <a:pt x="137972" y="0"/>
                </a:lnTo>
                <a:lnTo>
                  <a:pt x="136572" y="1400"/>
                </a:lnTo>
                <a:lnTo>
                  <a:pt x="1400" y="1400"/>
                </a:lnTo>
                <a:close/>
              </a:path>
              <a:path fill="darken" w="137972" h="21600">
                <a:moveTo>
                  <a:pt x="137972" y="0"/>
                </a:moveTo>
                <a:lnTo>
                  <a:pt x="137972" y="21600"/>
                </a:lnTo>
                <a:lnTo>
                  <a:pt x="136572" y="20200"/>
                </a:lnTo>
                <a:lnTo>
                  <a:pt x="136572" y="1400"/>
                </a:lnTo>
                <a:close/>
              </a:path>
              <a:path fill="darkenLess" w="137972" h="21600">
                <a:moveTo>
                  <a:pt x="137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572" y="20200"/>
                </a:lnTo>
                <a:close/>
              </a:path>
              <a:path fill="lighten" w="137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тключить электро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40360" y="1916280"/>
            <a:ext cx="47415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Что нужно делать первым при пожаре в кварт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7" action="ppaction://hlinksldjump"/>
          </p:cNvPr>
          <p:cNvSpPr/>
          <p:nvPr/>
        </p:nvSpPr>
        <p:spPr>
          <a:xfrm>
            <a:off x="1763640" y="5950080"/>
            <a:ext cx="1152720" cy="57600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213" h="21600">
                <a:moveTo>
                  <a:pt x="0" y="0"/>
                </a:moveTo>
                <a:lnTo>
                  <a:pt x="43213" y="0"/>
                </a:lnTo>
                <a:lnTo>
                  <a:pt x="43213" y="21600"/>
                </a:lnTo>
                <a:lnTo>
                  <a:pt x="0" y="21600"/>
                </a:lnTo>
                <a:close/>
              </a:path>
              <a:path fill="lightenLess" w="43213" h="21600">
                <a:moveTo>
                  <a:pt x="0" y="0"/>
                </a:moveTo>
                <a:lnTo>
                  <a:pt x="43213" y="0"/>
                </a:lnTo>
                <a:lnTo>
                  <a:pt x="41813" y="1400"/>
                </a:lnTo>
                <a:lnTo>
                  <a:pt x="1400" y="1400"/>
                </a:lnTo>
                <a:close/>
              </a:path>
              <a:path fill="darken" w="43213" h="21600">
                <a:moveTo>
                  <a:pt x="43213" y="0"/>
                </a:moveTo>
                <a:lnTo>
                  <a:pt x="43213" y="21600"/>
                </a:lnTo>
                <a:lnTo>
                  <a:pt x="41813" y="20200"/>
                </a:lnTo>
                <a:lnTo>
                  <a:pt x="41813" y="1400"/>
                </a:lnTo>
                <a:close/>
              </a:path>
              <a:path fill="darkenLess" w="43213" h="21600">
                <a:moveTo>
                  <a:pt x="43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3" y="20200"/>
                </a:lnTo>
                <a:close/>
              </a:path>
              <a:path fill="lighten" w="43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3" h="21600">
                <a:moveTo>
                  <a:pt x="14600" y="3794"/>
                </a:moveTo>
                <a:lnTo>
                  <a:pt x="28613" y="10800"/>
                </a:lnTo>
                <a:lnTo>
                  <a:pt x="14600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21840" y="285480"/>
            <a:ext cx="765036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427280" y="3860640"/>
            <a:ext cx="4103640" cy="25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ыберите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1116000" y="2205000"/>
            <a:ext cx="1871640" cy="432000"/>
          </a:xfrm>
          <a:custGeom>
            <a:avLst/>
            <a:gdLst>
              <a:gd name="textAreaLeft" fmla="*/ 27720 w 1871640"/>
              <a:gd name="textAreaRight" fmla="*/ 1843920 w 187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93522" h="21600">
                <a:moveTo>
                  <a:pt x="0" y="0"/>
                </a:moveTo>
                <a:lnTo>
                  <a:pt x="93522" y="0"/>
                </a:lnTo>
                <a:lnTo>
                  <a:pt x="93522" y="21600"/>
                </a:lnTo>
                <a:lnTo>
                  <a:pt x="0" y="21600"/>
                </a:lnTo>
                <a:close/>
              </a:path>
              <a:path fill="lightenLess" w="93522" h="21600">
                <a:moveTo>
                  <a:pt x="0" y="0"/>
                </a:moveTo>
                <a:lnTo>
                  <a:pt x="93522" y="0"/>
                </a:lnTo>
                <a:lnTo>
                  <a:pt x="92122" y="1400"/>
                </a:lnTo>
                <a:lnTo>
                  <a:pt x="1400" y="1400"/>
                </a:lnTo>
                <a:close/>
              </a:path>
              <a:path fill="darken" w="93522" h="21600">
                <a:moveTo>
                  <a:pt x="93522" y="0"/>
                </a:moveTo>
                <a:lnTo>
                  <a:pt x="93522" y="21600"/>
                </a:lnTo>
                <a:lnTo>
                  <a:pt x="92122" y="20200"/>
                </a:lnTo>
                <a:lnTo>
                  <a:pt x="92122" y="1400"/>
                </a:lnTo>
                <a:close/>
              </a:path>
              <a:path fill="darkenLess" w="93522" h="21600">
                <a:moveTo>
                  <a:pt x="935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22" y="20200"/>
                </a:lnTo>
                <a:close/>
              </a:path>
              <a:path fill="lighten" w="935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прос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1116000" y="2709720"/>
            <a:ext cx="1871640" cy="432000"/>
          </a:xfrm>
          <a:custGeom>
            <a:avLst/>
            <a:gdLst>
              <a:gd name="textAreaLeft" fmla="*/ 27720 w 1871640"/>
              <a:gd name="textAreaRight" fmla="*/ 1843920 w 187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93522" h="21600">
                <a:moveTo>
                  <a:pt x="0" y="0"/>
                </a:moveTo>
                <a:lnTo>
                  <a:pt x="93522" y="0"/>
                </a:lnTo>
                <a:lnTo>
                  <a:pt x="93522" y="21600"/>
                </a:lnTo>
                <a:lnTo>
                  <a:pt x="0" y="21600"/>
                </a:lnTo>
                <a:close/>
              </a:path>
              <a:path fill="lightenLess" w="93522" h="21600">
                <a:moveTo>
                  <a:pt x="0" y="0"/>
                </a:moveTo>
                <a:lnTo>
                  <a:pt x="93522" y="0"/>
                </a:lnTo>
                <a:lnTo>
                  <a:pt x="92122" y="1400"/>
                </a:lnTo>
                <a:lnTo>
                  <a:pt x="1400" y="1400"/>
                </a:lnTo>
                <a:close/>
              </a:path>
              <a:path fill="darken" w="93522" h="21600">
                <a:moveTo>
                  <a:pt x="93522" y="0"/>
                </a:moveTo>
                <a:lnTo>
                  <a:pt x="93522" y="21600"/>
                </a:lnTo>
                <a:lnTo>
                  <a:pt x="92122" y="20200"/>
                </a:lnTo>
                <a:lnTo>
                  <a:pt x="92122" y="1400"/>
                </a:lnTo>
                <a:close/>
              </a:path>
              <a:path fill="darkenLess" w="93522" h="21600">
                <a:moveTo>
                  <a:pt x="935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22" y="20200"/>
                </a:lnTo>
                <a:close/>
              </a:path>
              <a:path fill="lighten" w="935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прос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1116000" y="3213000"/>
            <a:ext cx="1871640" cy="432000"/>
          </a:xfrm>
          <a:custGeom>
            <a:avLst/>
            <a:gdLst>
              <a:gd name="textAreaLeft" fmla="*/ 27720 w 1871640"/>
              <a:gd name="textAreaRight" fmla="*/ 1843920 w 187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93522" h="21600">
                <a:moveTo>
                  <a:pt x="0" y="0"/>
                </a:moveTo>
                <a:lnTo>
                  <a:pt x="93522" y="0"/>
                </a:lnTo>
                <a:lnTo>
                  <a:pt x="93522" y="21600"/>
                </a:lnTo>
                <a:lnTo>
                  <a:pt x="0" y="21600"/>
                </a:lnTo>
                <a:close/>
              </a:path>
              <a:path fill="lightenLess" w="93522" h="21600">
                <a:moveTo>
                  <a:pt x="0" y="0"/>
                </a:moveTo>
                <a:lnTo>
                  <a:pt x="93522" y="0"/>
                </a:lnTo>
                <a:lnTo>
                  <a:pt x="92122" y="1400"/>
                </a:lnTo>
                <a:lnTo>
                  <a:pt x="1400" y="1400"/>
                </a:lnTo>
                <a:close/>
              </a:path>
              <a:path fill="darken" w="93522" h="21600">
                <a:moveTo>
                  <a:pt x="93522" y="0"/>
                </a:moveTo>
                <a:lnTo>
                  <a:pt x="93522" y="21600"/>
                </a:lnTo>
                <a:lnTo>
                  <a:pt x="92122" y="20200"/>
                </a:lnTo>
                <a:lnTo>
                  <a:pt x="92122" y="1400"/>
                </a:lnTo>
                <a:close/>
              </a:path>
              <a:path fill="darkenLess" w="93522" h="21600">
                <a:moveTo>
                  <a:pt x="935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22" y="20200"/>
                </a:lnTo>
                <a:close/>
              </a:path>
              <a:path fill="lighten" w="935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прос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1116000" y="3716280"/>
            <a:ext cx="1871640" cy="432000"/>
          </a:xfrm>
          <a:custGeom>
            <a:avLst/>
            <a:gdLst>
              <a:gd name="textAreaLeft" fmla="*/ 27720 w 1871640"/>
              <a:gd name="textAreaRight" fmla="*/ 1843920 w 187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93522" h="21600">
                <a:moveTo>
                  <a:pt x="0" y="0"/>
                </a:moveTo>
                <a:lnTo>
                  <a:pt x="93522" y="0"/>
                </a:lnTo>
                <a:lnTo>
                  <a:pt x="93522" y="21600"/>
                </a:lnTo>
                <a:lnTo>
                  <a:pt x="0" y="21600"/>
                </a:lnTo>
                <a:close/>
              </a:path>
              <a:path fill="lightenLess" w="93522" h="21600">
                <a:moveTo>
                  <a:pt x="0" y="0"/>
                </a:moveTo>
                <a:lnTo>
                  <a:pt x="93522" y="0"/>
                </a:lnTo>
                <a:lnTo>
                  <a:pt x="92122" y="1400"/>
                </a:lnTo>
                <a:lnTo>
                  <a:pt x="1400" y="1400"/>
                </a:lnTo>
                <a:close/>
              </a:path>
              <a:path fill="darken" w="93522" h="21600">
                <a:moveTo>
                  <a:pt x="93522" y="0"/>
                </a:moveTo>
                <a:lnTo>
                  <a:pt x="93522" y="21600"/>
                </a:lnTo>
                <a:lnTo>
                  <a:pt x="92122" y="20200"/>
                </a:lnTo>
                <a:lnTo>
                  <a:pt x="92122" y="1400"/>
                </a:lnTo>
                <a:close/>
              </a:path>
              <a:path fill="darkenLess" w="93522" h="21600">
                <a:moveTo>
                  <a:pt x="935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22" y="20200"/>
                </a:lnTo>
                <a:close/>
              </a:path>
              <a:path fill="lighten" w="935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прос №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1116000" y="4221000"/>
            <a:ext cx="1871640" cy="432000"/>
          </a:xfrm>
          <a:custGeom>
            <a:avLst/>
            <a:gdLst>
              <a:gd name="textAreaLeft" fmla="*/ 27720 w 1871640"/>
              <a:gd name="textAreaRight" fmla="*/ 1843920 w 187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93522" h="21600">
                <a:moveTo>
                  <a:pt x="0" y="0"/>
                </a:moveTo>
                <a:lnTo>
                  <a:pt x="93522" y="0"/>
                </a:lnTo>
                <a:lnTo>
                  <a:pt x="93522" y="21600"/>
                </a:lnTo>
                <a:lnTo>
                  <a:pt x="0" y="21600"/>
                </a:lnTo>
                <a:close/>
              </a:path>
              <a:path fill="lightenLess" w="93522" h="21600">
                <a:moveTo>
                  <a:pt x="0" y="0"/>
                </a:moveTo>
                <a:lnTo>
                  <a:pt x="93522" y="0"/>
                </a:lnTo>
                <a:lnTo>
                  <a:pt x="92122" y="1400"/>
                </a:lnTo>
                <a:lnTo>
                  <a:pt x="1400" y="1400"/>
                </a:lnTo>
                <a:close/>
              </a:path>
              <a:path fill="darken" w="93522" h="21600">
                <a:moveTo>
                  <a:pt x="93522" y="0"/>
                </a:moveTo>
                <a:lnTo>
                  <a:pt x="93522" y="21600"/>
                </a:lnTo>
                <a:lnTo>
                  <a:pt x="92122" y="20200"/>
                </a:lnTo>
                <a:lnTo>
                  <a:pt x="92122" y="1400"/>
                </a:lnTo>
                <a:close/>
              </a:path>
              <a:path fill="darkenLess" w="93522" h="21600">
                <a:moveTo>
                  <a:pt x="935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22" y="20200"/>
                </a:lnTo>
                <a:close/>
              </a:path>
              <a:path fill="lighten" w="935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прос №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1116000" y="4724280"/>
            <a:ext cx="1871640" cy="432000"/>
          </a:xfrm>
          <a:custGeom>
            <a:avLst/>
            <a:gdLst>
              <a:gd name="textAreaLeft" fmla="*/ 27720 w 1871640"/>
              <a:gd name="textAreaRight" fmla="*/ 1843920 w 187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93522" h="21600">
                <a:moveTo>
                  <a:pt x="0" y="0"/>
                </a:moveTo>
                <a:lnTo>
                  <a:pt x="93522" y="0"/>
                </a:lnTo>
                <a:lnTo>
                  <a:pt x="93522" y="21600"/>
                </a:lnTo>
                <a:lnTo>
                  <a:pt x="0" y="21600"/>
                </a:lnTo>
                <a:close/>
              </a:path>
              <a:path fill="lightenLess" w="93522" h="21600">
                <a:moveTo>
                  <a:pt x="0" y="0"/>
                </a:moveTo>
                <a:lnTo>
                  <a:pt x="93522" y="0"/>
                </a:lnTo>
                <a:lnTo>
                  <a:pt x="92122" y="1400"/>
                </a:lnTo>
                <a:lnTo>
                  <a:pt x="1400" y="1400"/>
                </a:lnTo>
                <a:close/>
              </a:path>
              <a:path fill="darken" w="93522" h="21600">
                <a:moveTo>
                  <a:pt x="93522" y="0"/>
                </a:moveTo>
                <a:lnTo>
                  <a:pt x="93522" y="21600"/>
                </a:lnTo>
                <a:lnTo>
                  <a:pt x="92122" y="20200"/>
                </a:lnTo>
                <a:lnTo>
                  <a:pt x="92122" y="1400"/>
                </a:lnTo>
                <a:close/>
              </a:path>
              <a:path fill="darkenLess" w="93522" h="21600">
                <a:moveTo>
                  <a:pt x="935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22" y="20200"/>
                </a:lnTo>
                <a:close/>
              </a:path>
              <a:path fill="lighten" w="935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прос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7" action="ppaction://hlinksldjump"/>
          </p:cNvPr>
          <p:cNvSpPr/>
          <p:nvPr/>
        </p:nvSpPr>
        <p:spPr>
          <a:xfrm>
            <a:off x="1116000" y="5229360"/>
            <a:ext cx="1873440" cy="431640"/>
          </a:xfrm>
          <a:custGeom>
            <a:avLst/>
            <a:gdLst>
              <a:gd name="textAreaLeft" fmla="*/ 27720 w 1873440"/>
              <a:gd name="textAreaRight" fmla="*/ 1845720 w 187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3690" h="21600">
                <a:moveTo>
                  <a:pt x="0" y="0"/>
                </a:moveTo>
                <a:lnTo>
                  <a:pt x="93690" y="0"/>
                </a:lnTo>
                <a:lnTo>
                  <a:pt x="93690" y="21600"/>
                </a:lnTo>
                <a:lnTo>
                  <a:pt x="0" y="21600"/>
                </a:lnTo>
                <a:close/>
              </a:path>
              <a:path fill="lightenLess" w="93690" h="21600">
                <a:moveTo>
                  <a:pt x="0" y="0"/>
                </a:moveTo>
                <a:lnTo>
                  <a:pt x="93690" y="0"/>
                </a:lnTo>
                <a:lnTo>
                  <a:pt x="92290" y="1400"/>
                </a:lnTo>
                <a:lnTo>
                  <a:pt x="1400" y="1400"/>
                </a:lnTo>
                <a:close/>
              </a:path>
              <a:path fill="darken" w="93690" h="21600">
                <a:moveTo>
                  <a:pt x="93690" y="0"/>
                </a:moveTo>
                <a:lnTo>
                  <a:pt x="93690" y="21600"/>
                </a:lnTo>
                <a:lnTo>
                  <a:pt x="92290" y="20200"/>
                </a:lnTo>
                <a:lnTo>
                  <a:pt x="92290" y="1400"/>
                </a:lnTo>
                <a:close/>
              </a:path>
              <a:path fill="darkenLess" w="93690" h="21600">
                <a:moveTo>
                  <a:pt x="93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90" y="20200"/>
                </a:lnTo>
                <a:close/>
              </a:path>
              <a:path fill="lighten" w="93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прос №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8" action="ppaction://hlinksldjump"/>
          </p:cNvPr>
          <p:cNvSpPr/>
          <p:nvPr/>
        </p:nvSpPr>
        <p:spPr>
          <a:xfrm>
            <a:off x="1116000" y="5734080"/>
            <a:ext cx="1873440" cy="431640"/>
          </a:xfrm>
          <a:custGeom>
            <a:avLst/>
            <a:gdLst>
              <a:gd name="textAreaLeft" fmla="*/ 27720 w 1873440"/>
              <a:gd name="textAreaRight" fmla="*/ 1845720 w 187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3690" h="21600">
                <a:moveTo>
                  <a:pt x="0" y="0"/>
                </a:moveTo>
                <a:lnTo>
                  <a:pt x="93690" y="0"/>
                </a:lnTo>
                <a:lnTo>
                  <a:pt x="93690" y="21600"/>
                </a:lnTo>
                <a:lnTo>
                  <a:pt x="0" y="21600"/>
                </a:lnTo>
                <a:close/>
              </a:path>
              <a:path fill="lightenLess" w="93690" h="21600">
                <a:moveTo>
                  <a:pt x="0" y="0"/>
                </a:moveTo>
                <a:lnTo>
                  <a:pt x="93690" y="0"/>
                </a:lnTo>
                <a:lnTo>
                  <a:pt x="92290" y="1400"/>
                </a:lnTo>
                <a:lnTo>
                  <a:pt x="1400" y="1400"/>
                </a:lnTo>
                <a:close/>
              </a:path>
              <a:path fill="darken" w="93690" h="21600">
                <a:moveTo>
                  <a:pt x="93690" y="0"/>
                </a:moveTo>
                <a:lnTo>
                  <a:pt x="93690" y="21600"/>
                </a:lnTo>
                <a:lnTo>
                  <a:pt x="92290" y="20200"/>
                </a:lnTo>
                <a:lnTo>
                  <a:pt x="92290" y="1400"/>
                </a:lnTo>
                <a:close/>
              </a:path>
              <a:path fill="darkenLess" w="93690" h="21600">
                <a:moveTo>
                  <a:pt x="93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90" y="20200"/>
                </a:lnTo>
                <a:close/>
              </a:path>
              <a:path fill="lighten" w="93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прос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9" action="ppaction://hlinksldjump"/>
          </p:cNvPr>
          <p:cNvSpPr/>
          <p:nvPr/>
        </p:nvSpPr>
        <p:spPr>
          <a:xfrm>
            <a:off x="1116000" y="6237360"/>
            <a:ext cx="1873440" cy="431640"/>
          </a:xfrm>
          <a:custGeom>
            <a:avLst/>
            <a:gdLst>
              <a:gd name="textAreaLeft" fmla="*/ 27720 w 1873440"/>
              <a:gd name="textAreaRight" fmla="*/ 1845720 w 187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3690" h="21600">
                <a:moveTo>
                  <a:pt x="0" y="0"/>
                </a:moveTo>
                <a:lnTo>
                  <a:pt x="93690" y="0"/>
                </a:lnTo>
                <a:lnTo>
                  <a:pt x="93690" y="21600"/>
                </a:lnTo>
                <a:lnTo>
                  <a:pt x="0" y="21600"/>
                </a:lnTo>
                <a:close/>
              </a:path>
              <a:path fill="lightenLess" w="93690" h="21600">
                <a:moveTo>
                  <a:pt x="0" y="0"/>
                </a:moveTo>
                <a:lnTo>
                  <a:pt x="93690" y="0"/>
                </a:lnTo>
                <a:lnTo>
                  <a:pt x="92290" y="1400"/>
                </a:lnTo>
                <a:lnTo>
                  <a:pt x="1400" y="1400"/>
                </a:lnTo>
                <a:close/>
              </a:path>
              <a:path fill="darken" w="93690" h="21600">
                <a:moveTo>
                  <a:pt x="93690" y="0"/>
                </a:moveTo>
                <a:lnTo>
                  <a:pt x="93690" y="21600"/>
                </a:lnTo>
                <a:lnTo>
                  <a:pt x="92290" y="20200"/>
                </a:lnTo>
                <a:lnTo>
                  <a:pt x="92290" y="1400"/>
                </a:lnTo>
                <a:close/>
              </a:path>
              <a:path fill="darkenLess" w="93690" h="21600">
                <a:moveTo>
                  <a:pt x="93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90" y="20200"/>
                </a:lnTo>
                <a:close/>
              </a:path>
              <a:path fill="lighten" w="93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прос №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500720" y="3443400"/>
            <a:ext cx="4392360" cy="31939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140000" y="2565000"/>
            <a:ext cx="47415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Неправильно, попробуй ещё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">
            <a:hlinkClick r:id="rId2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3" action="ppaction://hlinksldjump"/>
          </p:cNvPr>
          <p:cNvSpPr/>
          <p:nvPr/>
        </p:nvSpPr>
        <p:spPr>
          <a:xfrm>
            <a:off x="468360" y="5950080"/>
            <a:ext cx="1224000" cy="57600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5885" h="21600">
                <a:moveTo>
                  <a:pt x="0" y="0"/>
                </a:moveTo>
                <a:lnTo>
                  <a:pt x="45885" y="0"/>
                </a:lnTo>
                <a:lnTo>
                  <a:pt x="45885" y="21600"/>
                </a:lnTo>
                <a:lnTo>
                  <a:pt x="0" y="21600"/>
                </a:lnTo>
                <a:close/>
              </a:path>
              <a:path fill="lightenLess" w="45885" h="21600">
                <a:moveTo>
                  <a:pt x="0" y="0"/>
                </a:moveTo>
                <a:lnTo>
                  <a:pt x="45885" y="0"/>
                </a:lnTo>
                <a:lnTo>
                  <a:pt x="44485" y="1400"/>
                </a:lnTo>
                <a:lnTo>
                  <a:pt x="1400" y="1400"/>
                </a:lnTo>
                <a:close/>
              </a:path>
              <a:path fill="darken" w="45885" h="21600">
                <a:moveTo>
                  <a:pt x="45885" y="0"/>
                </a:moveTo>
                <a:lnTo>
                  <a:pt x="45885" y="21600"/>
                </a:lnTo>
                <a:lnTo>
                  <a:pt x="44485" y="20200"/>
                </a:lnTo>
                <a:lnTo>
                  <a:pt x="44485" y="1400"/>
                </a:lnTo>
                <a:close/>
              </a:path>
              <a:path fill="darkenLess" w="45885" h="21600">
                <a:moveTo>
                  <a:pt x="45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85" y="20200"/>
                </a:lnTo>
                <a:close/>
              </a:path>
              <a:path fill="lighten" w="45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85" h="21600">
                <a:moveTo>
                  <a:pt x="15936" y="10800"/>
                </a:moveTo>
                <a:lnTo>
                  <a:pt x="29949" y="3794"/>
                </a:lnTo>
                <a:lnTo>
                  <a:pt x="29949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rId4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ушить пожар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rId5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вести пожилых и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6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звонить «0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7" action="ppaction://hlinksldjump"/>
          </p:cNvPr>
          <p:cNvSpPr/>
          <p:nvPr/>
        </p:nvSpPr>
        <p:spPr>
          <a:xfrm>
            <a:off x="179280" y="4149720"/>
            <a:ext cx="3672000" cy="5745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37972" h="21600">
                <a:moveTo>
                  <a:pt x="0" y="0"/>
                </a:moveTo>
                <a:lnTo>
                  <a:pt x="137972" y="0"/>
                </a:lnTo>
                <a:lnTo>
                  <a:pt x="137972" y="21600"/>
                </a:lnTo>
                <a:lnTo>
                  <a:pt x="0" y="21600"/>
                </a:lnTo>
                <a:close/>
              </a:path>
              <a:path fill="lightenLess" w="137972" h="21600">
                <a:moveTo>
                  <a:pt x="0" y="0"/>
                </a:moveTo>
                <a:lnTo>
                  <a:pt x="137972" y="0"/>
                </a:lnTo>
                <a:lnTo>
                  <a:pt x="136572" y="1400"/>
                </a:lnTo>
                <a:lnTo>
                  <a:pt x="1400" y="1400"/>
                </a:lnTo>
                <a:close/>
              </a:path>
              <a:path fill="darken" w="137972" h="21600">
                <a:moveTo>
                  <a:pt x="137972" y="0"/>
                </a:moveTo>
                <a:lnTo>
                  <a:pt x="137972" y="21600"/>
                </a:lnTo>
                <a:lnTo>
                  <a:pt x="136572" y="20200"/>
                </a:lnTo>
                <a:lnTo>
                  <a:pt x="136572" y="1400"/>
                </a:lnTo>
                <a:close/>
              </a:path>
              <a:path fill="darkenLess" w="137972" h="21600">
                <a:moveTo>
                  <a:pt x="137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572" y="20200"/>
                </a:lnTo>
                <a:close/>
              </a:path>
              <a:path fill="lighten" w="137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тключить электро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40360" y="1916280"/>
            <a:ext cx="47415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Что нужно делать первым при пожаре в кварт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4140360" y="1916280"/>
            <a:ext cx="460836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Если ночью вы просыпаетесь в задымленной комнате, ваши первые действ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ежать в кровати и звать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катиться с кроват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лзти к дв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rId4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стать и бежать с кров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4500720" y="3357720"/>
            <a:ext cx="4427280" cy="3321000"/>
          </a:xfrm>
          <a:prstGeom prst="rect">
            <a:avLst/>
          </a:prstGeom>
          <a:ln w="0">
            <a:noFill/>
          </a:ln>
        </p:spPr>
      </p:pic>
      <p:sp>
        <p:nvSpPr>
          <p:cNvPr id="303" name="">
            <a:hlinkClick r:id="rId6" action="ppaction://hlinksldjump"/>
          </p:cNvPr>
          <p:cNvSpPr/>
          <p:nvPr/>
        </p:nvSpPr>
        <p:spPr>
          <a:xfrm>
            <a:off x="1763640" y="5950080"/>
            <a:ext cx="1152720" cy="57600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213" h="21600">
                <a:moveTo>
                  <a:pt x="0" y="0"/>
                </a:moveTo>
                <a:lnTo>
                  <a:pt x="43213" y="0"/>
                </a:lnTo>
                <a:lnTo>
                  <a:pt x="43213" y="21600"/>
                </a:lnTo>
                <a:lnTo>
                  <a:pt x="0" y="21600"/>
                </a:lnTo>
                <a:close/>
              </a:path>
              <a:path fill="lightenLess" w="43213" h="21600">
                <a:moveTo>
                  <a:pt x="0" y="0"/>
                </a:moveTo>
                <a:lnTo>
                  <a:pt x="43213" y="0"/>
                </a:lnTo>
                <a:lnTo>
                  <a:pt x="41813" y="1400"/>
                </a:lnTo>
                <a:lnTo>
                  <a:pt x="1400" y="1400"/>
                </a:lnTo>
                <a:close/>
              </a:path>
              <a:path fill="darken" w="43213" h="21600">
                <a:moveTo>
                  <a:pt x="43213" y="0"/>
                </a:moveTo>
                <a:lnTo>
                  <a:pt x="43213" y="21600"/>
                </a:lnTo>
                <a:lnTo>
                  <a:pt x="41813" y="20200"/>
                </a:lnTo>
                <a:lnTo>
                  <a:pt x="41813" y="1400"/>
                </a:lnTo>
                <a:close/>
              </a:path>
              <a:path fill="darkenLess" w="43213" h="21600">
                <a:moveTo>
                  <a:pt x="43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3" y="20200"/>
                </a:lnTo>
                <a:close/>
              </a:path>
              <a:path fill="lighten" w="43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3" h="21600">
                <a:moveTo>
                  <a:pt x="14600" y="3794"/>
                </a:moveTo>
                <a:lnTo>
                  <a:pt x="28613" y="10800"/>
                </a:lnTo>
                <a:lnTo>
                  <a:pt x="14600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7" action="ppaction://hlinksldjump"/>
          </p:cNvPr>
          <p:cNvSpPr/>
          <p:nvPr/>
        </p:nvSpPr>
        <p:spPr>
          <a:xfrm>
            <a:off x="468360" y="5950080"/>
            <a:ext cx="1224000" cy="57600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5885" h="21600">
                <a:moveTo>
                  <a:pt x="0" y="0"/>
                </a:moveTo>
                <a:lnTo>
                  <a:pt x="45885" y="0"/>
                </a:lnTo>
                <a:lnTo>
                  <a:pt x="45885" y="21600"/>
                </a:lnTo>
                <a:lnTo>
                  <a:pt x="0" y="21600"/>
                </a:lnTo>
                <a:close/>
              </a:path>
              <a:path fill="lightenLess" w="45885" h="21600">
                <a:moveTo>
                  <a:pt x="0" y="0"/>
                </a:moveTo>
                <a:lnTo>
                  <a:pt x="45885" y="0"/>
                </a:lnTo>
                <a:lnTo>
                  <a:pt x="44485" y="1400"/>
                </a:lnTo>
                <a:lnTo>
                  <a:pt x="1400" y="1400"/>
                </a:lnTo>
                <a:close/>
              </a:path>
              <a:path fill="darken" w="45885" h="21600">
                <a:moveTo>
                  <a:pt x="45885" y="0"/>
                </a:moveTo>
                <a:lnTo>
                  <a:pt x="45885" y="21600"/>
                </a:lnTo>
                <a:lnTo>
                  <a:pt x="44485" y="20200"/>
                </a:lnTo>
                <a:lnTo>
                  <a:pt x="44485" y="1400"/>
                </a:lnTo>
                <a:close/>
              </a:path>
              <a:path fill="darkenLess" w="45885" h="21600">
                <a:moveTo>
                  <a:pt x="45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85" y="20200"/>
                </a:lnTo>
                <a:close/>
              </a:path>
              <a:path fill="lighten" w="45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85" h="21600">
                <a:moveTo>
                  <a:pt x="15936" y="10800"/>
                </a:moveTo>
                <a:lnTo>
                  <a:pt x="29949" y="3794"/>
                </a:lnTo>
                <a:lnTo>
                  <a:pt x="29949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4140360" y="1916280"/>
            <a:ext cx="460836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Если ночью вы просыпаетесь в задымленной комнате, ваши первые действ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140000" y="2852640"/>
            <a:ext cx="47415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Правильно, молодец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2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ежать в кровати и звать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3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катиться с кроват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лзти к дв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4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стать и бежать с кров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4500720" y="3357720"/>
            <a:ext cx="4427280" cy="3321000"/>
          </a:xfrm>
          <a:prstGeom prst="rect">
            <a:avLst/>
          </a:prstGeom>
          <a:ln w="0">
            <a:noFill/>
          </a:ln>
        </p:spPr>
      </p:pic>
      <p:sp>
        <p:nvSpPr>
          <p:cNvPr id="313" name="">
            <a:hlinkClick r:id="rId6" action="ppaction://hlinksldjump"/>
          </p:cNvPr>
          <p:cNvSpPr/>
          <p:nvPr/>
        </p:nvSpPr>
        <p:spPr>
          <a:xfrm>
            <a:off x="1763640" y="5950080"/>
            <a:ext cx="1152720" cy="57600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213" h="21600">
                <a:moveTo>
                  <a:pt x="0" y="0"/>
                </a:moveTo>
                <a:lnTo>
                  <a:pt x="43213" y="0"/>
                </a:lnTo>
                <a:lnTo>
                  <a:pt x="43213" y="21600"/>
                </a:lnTo>
                <a:lnTo>
                  <a:pt x="0" y="21600"/>
                </a:lnTo>
                <a:close/>
              </a:path>
              <a:path fill="lightenLess" w="43213" h="21600">
                <a:moveTo>
                  <a:pt x="0" y="0"/>
                </a:moveTo>
                <a:lnTo>
                  <a:pt x="43213" y="0"/>
                </a:lnTo>
                <a:lnTo>
                  <a:pt x="41813" y="1400"/>
                </a:lnTo>
                <a:lnTo>
                  <a:pt x="1400" y="1400"/>
                </a:lnTo>
                <a:close/>
              </a:path>
              <a:path fill="darken" w="43213" h="21600">
                <a:moveTo>
                  <a:pt x="43213" y="0"/>
                </a:moveTo>
                <a:lnTo>
                  <a:pt x="43213" y="21600"/>
                </a:lnTo>
                <a:lnTo>
                  <a:pt x="41813" y="20200"/>
                </a:lnTo>
                <a:lnTo>
                  <a:pt x="41813" y="1400"/>
                </a:lnTo>
                <a:close/>
              </a:path>
              <a:path fill="darkenLess" w="43213" h="21600">
                <a:moveTo>
                  <a:pt x="43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3" y="20200"/>
                </a:lnTo>
                <a:close/>
              </a:path>
              <a:path fill="lighten" w="43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3" h="21600">
                <a:moveTo>
                  <a:pt x="14600" y="3794"/>
                </a:moveTo>
                <a:lnTo>
                  <a:pt x="28613" y="10800"/>
                </a:lnTo>
                <a:lnTo>
                  <a:pt x="14600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4140360" y="1916280"/>
            <a:ext cx="460836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Если ночью вы просыпаетесь в задымленной комнате, ваши первые действ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140000" y="2852280"/>
            <a:ext cx="47415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Неправильно, попробуй ещё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>
            <a:hlinkClick r:id="rId2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ежать в кровати и звать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rId3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катиться с кроват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лзти к дв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>
            <a:hlinkClick r:id="rId4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стать и бежать с кров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5"/>
          <a:stretch/>
        </p:blipFill>
        <p:spPr>
          <a:xfrm>
            <a:off x="4500720" y="3357720"/>
            <a:ext cx="4427280" cy="3321000"/>
          </a:xfrm>
          <a:prstGeom prst="rect">
            <a:avLst/>
          </a:prstGeom>
          <a:ln w="0">
            <a:noFill/>
          </a:ln>
        </p:spPr>
      </p:pic>
      <p:sp>
        <p:nvSpPr>
          <p:cNvPr id="322" name="">
            <a:hlinkClick r:id="rId6" action="ppaction://hlinksldjump"/>
          </p:cNvPr>
          <p:cNvSpPr/>
          <p:nvPr/>
        </p:nvSpPr>
        <p:spPr>
          <a:xfrm>
            <a:off x="468360" y="5950080"/>
            <a:ext cx="1224000" cy="57600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5885" h="21600">
                <a:moveTo>
                  <a:pt x="0" y="0"/>
                </a:moveTo>
                <a:lnTo>
                  <a:pt x="45885" y="0"/>
                </a:lnTo>
                <a:lnTo>
                  <a:pt x="45885" y="21600"/>
                </a:lnTo>
                <a:lnTo>
                  <a:pt x="0" y="21600"/>
                </a:lnTo>
                <a:close/>
              </a:path>
              <a:path fill="lightenLess" w="45885" h="21600">
                <a:moveTo>
                  <a:pt x="0" y="0"/>
                </a:moveTo>
                <a:lnTo>
                  <a:pt x="45885" y="0"/>
                </a:lnTo>
                <a:lnTo>
                  <a:pt x="44485" y="1400"/>
                </a:lnTo>
                <a:lnTo>
                  <a:pt x="1400" y="1400"/>
                </a:lnTo>
                <a:close/>
              </a:path>
              <a:path fill="darken" w="45885" h="21600">
                <a:moveTo>
                  <a:pt x="45885" y="0"/>
                </a:moveTo>
                <a:lnTo>
                  <a:pt x="45885" y="21600"/>
                </a:lnTo>
                <a:lnTo>
                  <a:pt x="44485" y="20200"/>
                </a:lnTo>
                <a:lnTo>
                  <a:pt x="44485" y="1400"/>
                </a:lnTo>
                <a:close/>
              </a:path>
              <a:path fill="darkenLess" w="45885" h="21600">
                <a:moveTo>
                  <a:pt x="45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85" y="20200"/>
                </a:lnTo>
                <a:close/>
              </a:path>
              <a:path fill="lighten" w="45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85" h="21600">
                <a:moveTo>
                  <a:pt x="15936" y="10800"/>
                </a:moveTo>
                <a:lnTo>
                  <a:pt x="29949" y="3794"/>
                </a:lnTo>
                <a:lnTo>
                  <a:pt x="29949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40360" y="1916280"/>
            <a:ext cx="460836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аша комната наполнена дымом. Что вы сделаете, прежде чем открыть ок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rId2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зовите на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делаете глубокий вд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rId4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делаете веревку из пос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инадле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5"/>
          <a:stretch/>
        </p:blipFill>
        <p:spPr>
          <a:xfrm>
            <a:off x="4427640" y="3284640"/>
            <a:ext cx="4537080" cy="3389040"/>
          </a:xfrm>
          <a:prstGeom prst="rect">
            <a:avLst/>
          </a:prstGeom>
          <a:ln w="0">
            <a:noFill/>
          </a:ln>
        </p:spPr>
      </p:pic>
      <p:sp>
        <p:nvSpPr>
          <p:cNvPr id="330" name="">
            <a:hlinkClick r:id="rId6" action="ppaction://hlinksldjump"/>
          </p:cNvPr>
          <p:cNvSpPr/>
          <p:nvPr/>
        </p:nvSpPr>
        <p:spPr>
          <a:xfrm>
            <a:off x="1763640" y="5950080"/>
            <a:ext cx="1152720" cy="57600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213" h="21600">
                <a:moveTo>
                  <a:pt x="0" y="0"/>
                </a:moveTo>
                <a:lnTo>
                  <a:pt x="43213" y="0"/>
                </a:lnTo>
                <a:lnTo>
                  <a:pt x="43213" y="21600"/>
                </a:lnTo>
                <a:lnTo>
                  <a:pt x="0" y="21600"/>
                </a:lnTo>
                <a:close/>
              </a:path>
              <a:path fill="lightenLess" w="43213" h="21600">
                <a:moveTo>
                  <a:pt x="0" y="0"/>
                </a:moveTo>
                <a:lnTo>
                  <a:pt x="43213" y="0"/>
                </a:lnTo>
                <a:lnTo>
                  <a:pt x="41813" y="1400"/>
                </a:lnTo>
                <a:lnTo>
                  <a:pt x="1400" y="1400"/>
                </a:lnTo>
                <a:close/>
              </a:path>
              <a:path fill="darken" w="43213" h="21600">
                <a:moveTo>
                  <a:pt x="43213" y="0"/>
                </a:moveTo>
                <a:lnTo>
                  <a:pt x="43213" y="21600"/>
                </a:lnTo>
                <a:lnTo>
                  <a:pt x="41813" y="20200"/>
                </a:lnTo>
                <a:lnTo>
                  <a:pt x="41813" y="1400"/>
                </a:lnTo>
                <a:close/>
              </a:path>
              <a:path fill="darkenLess" w="43213" h="21600">
                <a:moveTo>
                  <a:pt x="43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3" y="20200"/>
                </a:lnTo>
                <a:close/>
              </a:path>
              <a:path fill="lighten" w="43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3" h="21600">
                <a:moveTo>
                  <a:pt x="14600" y="3794"/>
                </a:moveTo>
                <a:lnTo>
                  <a:pt x="28613" y="10800"/>
                </a:lnTo>
                <a:lnTo>
                  <a:pt x="14600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rId7" action="ppaction://hlinksldjump"/>
          </p:cNvPr>
          <p:cNvSpPr/>
          <p:nvPr/>
        </p:nvSpPr>
        <p:spPr>
          <a:xfrm>
            <a:off x="468360" y="5950080"/>
            <a:ext cx="1224000" cy="57600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5885" h="21600">
                <a:moveTo>
                  <a:pt x="0" y="0"/>
                </a:moveTo>
                <a:lnTo>
                  <a:pt x="45885" y="0"/>
                </a:lnTo>
                <a:lnTo>
                  <a:pt x="45885" y="21600"/>
                </a:lnTo>
                <a:lnTo>
                  <a:pt x="0" y="21600"/>
                </a:lnTo>
                <a:close/>
              </a:path>
              <a:path fill="lightenLess" w="45885" h="21600">
                <a:moveTo>
                  <a:pt x="0" y="0"/>
                </a:moveTo>
                <a:lnTo>
                  <a:pt x="45885" y="0"/>
                </a:lnTo>
                <a:lnTo>
                  <a:pt x="44485" y="1400"/>
                </a:lnTo>
                <a:lnTo>
                  <a:pt x="1400" y="1400"/>
                </a:lnTo>
                <a:close/>
              </a:path>
              <a:path fill="darken" w="45885" h="21600">
                <a:moveTo>
                  <a:pt x="45885" y="0"/>
                </a:moveTo>
                <a:lnTo>
                  <a:pt x="45885" y="21600"/>
                </a:lnTo>
                <a:lnTo>
                  <a:pt x="44485" y="20200"/>
                </a:lnTo>
                <a:lnTo>
                  <a:pt x="44485" y="1400"/>
                </a:lnTo>
                <a:close/>
              </a:path>
              <a:path fill="darkenLess" w="45885" h="21600">
                <a:moveTo>
                  <a:pt x="45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85" y="20200"/>
                </a:lnTo>
                <a:close/>
              </a:path>
              <a:path fill="lighten" w="45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85" h="21600">
                <a:moveTo>
                  <a:pt x="15936" y="10800"/>
                </a:moveTo>
                <a:lnTo>
                  <a:pt x="29949" y="3794"/>
                </a:lnTo>
                <a:lnTo>
                  <a:pt x="29949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40000" y="2781360"/>
            <a:ext cx="47415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Правильно, молодец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">
            <a:hlinkClick r:id="rId1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140360" y="1916280"/>
            <a:ext cx="460836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аша комната наполнена дымом. Что вы сделаете, прежде чем открыть ок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2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зовите на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3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делаете глубокий вд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rId4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делаете веревку из пос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инадле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4427640" y="3284640"/>
            <a:ext cx="4537080" cy="3389040"/>
          </a:xfrm>
          <a:prstGeom prst="rect">
            <a:avLst/>
          </a:prstGeom>
          <a:ln w="0">
            <a:noFill/>
          </a:ln>
        </p:spPr>
      </p:pic>
      <p:sp>
        <p:nvSpPr>
          <p:cNvPr id="340" name="">
            <a:hlinkClick r:id="rId6" action="ppaction://hlinksldjump"/>
          </p:cNvPr>
          <p:cNvSpPr/>
          <p:nvPr/>
        </p:nvSpPr>
        <p:spPr>
          <a:xfrm>
            <a:off x="1763640" y="5950080"/>
            <a:ext cx="1152720" cy="57600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213" h="21600">
                <a:moveTo>
                  <a:pt x="0" y="0"/>
                </a:moveTo>
                <a:lnTo>
                  <a:pt x="43213" y="0"/>
                </a:lnTo>
                <a:lnTo>
                  <a:pt x="43213" y="21600"/>
                </a:lnTo>
                <a:lnTo>
                  <a:pt x="0" y="21600"/>
                </a:lnTo>
                <a:close/>
              </a:path>
              <a:path fill="lightenLess" w="43213" h="21600">
                <a:moveTo>
                  <a:pt x="0" y="0"/>
                </a:moveTo>
                <a:lnTo>
                  <a:pt x="43213" y="0"/>
                </a:lnTo>
                <a:lnTo>
                  <a:pt x="41813" y="1400"/>
                </a:lnTo>
                <a:lnTo>
                  <a:pt x="1400" y="1400"/>
                </a:lnTo>
                <a:close/>
              </a:path>
              <a:path fill="darken" w="43213" h="21600">
                <a:moveTo>
                  <a:pt x="43213" y="0"/>
                </a:moveTo>
                <a:lnTo>
                  <a:pt x="43213" y="21600"/>
                </a:lnTo>
                <a:lnTo>
                  <a:pt x="41813" y="20200"/>
                </a:lnTo>
                <a:lnTo>
                  <a:pt x="41813" y="1400"/>
                </a:lnTo>
                <a:close/>
              </a:path>
              <a:path fill="darkenLess" w="43213" h="21600">
                <a:moveTo>
                  <a:pt x="43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3" y="20200"/>
                </a:lnTo>
                <a:close/>
              </a:path>
              <a:path fill="lighten" w="43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3" h="21600">
                <a:moveTo>
                  <a:pt x="14600" y="3794"/>
                </a:moveTo>
                <a:lnTo>
                  <a:pt x="28613" y="10800"/>
                </a:lnTo>
                <a:lnTo>
                  <a:pt x="14600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140000" y="2781000"/>
            <a:ext cx="47415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Неправильно, попробуй ещё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40360" y="1916280"/>
            <a:ext cx="460836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аша комната наполнена дымом. Что вы сделаете, прежде чем открыть ок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2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зовите на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rId3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делаете глубокий вд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rId4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делаете веревку из пос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инадле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4427640" y="3284640"/>
            <a:ext cx="4537080" cy="3389040"/>
          </a:xfrm>
          <a:prstGeom prst="rect">
            <a:avLst/>
          </a:prstGeom>
          <a:ln w="0">
            <a:noFill/>
          </a:ln>
        </p:spPr>
      </p:pic>
      <p:sp>
        <p:nvSpPr>
          <p:cNvPr id="349" name="">
            <a:hlinkClick r:id="rId6" action="ppaction://hlinksldjump"/>
          </p:cNvPr>
          <p:cNvSpPr/>
          <p:nvPr/>
        </p:nvSpPr>
        <p:spPr>
          <a:xfrm>
            <a:off x="468360" y="5950080"/>
            <a:ext cx="1224000" cy="57600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5885" h="21600">
                <a:moveTo>
                  <a:pt x="0" y="0"/>
                </a:moveTo>
                <a:lnTo>
                  <a:pt x="45885" y="0"/>
                </a:lnTo>
                <a:lnTo>
                  <a:pt x="45885" y="21600"/>
                </a:lnTo>
                <a:lnTo>
                  <a:pt x="0" y="21600"/>
                </a:lnTo>
                <a:close/>
              </a:path>
              <a:path fill="lightenLess" w="45885" h="21600">
                <a:moveTo>
                  <a:pt x="0" y="0"/>
                </a:moveTo>
                <a:lnTo>
                  <a:pt x="45885" y="0"/>
                </a:lnTo>
                <a:lnTo>
                  <a:pt x="44485" y="1400"/>
                </a:lnTo>
                <a:lnTo>
                  <a:pt x="1400" y="1400"/>
                </a:lnTo>
                <a:close/>
              </a:path>
              <a:path fill="darken" w="45885" h="21600">
                <a:moveTo>
                  <a:pt x="45885" y="0"/>
                </a:moveTo>
                <a:lnTo>
                  <a:pt x="45885" y="21600"/>
                </a:lnTo>
                <a:lnTo>
                  <a:pt x="44485" y="20200"/>
                </a:lnTo>
                <a:lnTo>
                  <a:pt x="44485" y="1400"/>
                </a:lnTo>
                <a:close/>
              </a:path>
              <a:path fill="darkenLess" w="45885" h="21600">
                <a:moveTo>
                  <a:pt x="45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85" y="20200"/>
                </a:lnTo>
                <a:close/>
              </a:path>
              <a:path fill="lighten" w="45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85" h="21600">
                <a:moveTo>
                  <a:pt x="15936" y="10800"/>
                </a:moveTo>
                <a:lnTo>
                  <a:pt x="29949" y="3794"/>
                </a:lnTo>
                <a:lnTo>
                  <a:pt x="29949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40360" y="1916280"/>
            <a:ext cx="460836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Что делать, если вы не можете открыть окно, чтобы позвать на помощь, когда дом в ог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ползти в другую комн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3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тучать в ок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rId4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збить ок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5"/>
          <a:stretch/>
        </p:blipFill>
        <p:spPr>
          <a:xfrm>
            <a:off x="4643280" y="342900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357" name="">
            <a:hlinkClick r:id="rId6" action="ppaction://hlinksldjump"/>
          </p:cNvPr>
          <p:cNvSpPr/>
          <p:nvPr/>
        </p:nvSpPr>
        <p:spPr>
          <a:xfrm>
            <a:off x="1763640" y="5950080"/>
            <a:ext cx="1152720" cy="57600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213" h="21600">
                <a:moveTo>
                  <a:pt x="0" y="0"/>
                </a:moveTo>
                <a:lnTo>
                  <a:pt x="43213" y="0"/>
                </a:lnTo>
                <a:lnTo>
                  <a:pt x="43213" y="21600"/>
                </a:lnTo>
                <a:lnTo>
                  <a:pt x="0" y="21600"/>
                </a:lnTo>
                <a:close/>
              </a:path>
              <a:path fill="lightenLess" w="43213" h="21600">
                <a:moveTo>
                  <a:pt x="0" y="0"/>
                </a:moveTo>
                <a:lnTo>
                  <a:pt x="43213" y="0"/>
                </a:lnTo>
                <a:lnTo>
                  <a:pt x="41813" y="1400"/>
                </a:lnTo>
                <a:lnTo>
                  <a:pt x="1400" y="1400"/>
                </a:lnTo>
                <a:close/>
              </a:path>
              <a:path fill="darken" w="43213" h="21600">
                <a:moveTo>
                  <a:pt x="43213" y="0"/>
                </a:moveTo>
                <a:lnTo>
                  <a:pt x="43213" y="21600"/>
                </a:lnTo>
                <a:lnTo>
                  <a:pt x="41813" y="20200"/>
                </a:lnTo>
                <a:lnTo>
                  <a:pt x="41813" y="1400"/>
                </a:lnTo>
                <a:close/>
              </a:path>
              <a:path fill="darkenLess" w="43213" h="21600">
                <a:moveTo>
                  <a:pt x="43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3" y="20200"/>
                </a:lnTo>
                <a:close/>
              </a:path>
              <a:path fill="lighten" w="43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3" h="21600">
                <a:moveTo>
                  <a:pt x="14600" y="3794"/>
                </a:moveTo>
                <a:lnTo>
                  <a:pt x="28613" y="10800"/>
                </a:lnTo>
                <a:lnTo>
                  <a:pt x="14600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7" action="ppaction://hlinksldjump"/>
          </p:cNvPr>
          <p:cNvSpPr/>
          <p:nvPr/>
        </p:nvSpPr>
        <p:spPr>
          <a:xfrm>
            <a:off x="468360" y="5950080"/>
            <a:ext cx="1224000" cy="57600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5885" h="21600">
                <a:moveTo>
                  <a:pt x="0" y="0"/>
                </a:moveTo>
                <a:lnTo>
                  <a:pt x="45885" y="0"/>
                </a:lnTo>
                <a:lnTo>
                  <a:pt x="45885" y="21600"/>
                </a:lnTo>
                <a:lnTo>
                  <a:pt x="0" y="21600"/>
                </a:lnTo>
                <a:close/>
              </a:path>
              <a:path fill="lightenLess" w="45885" h="21600">
                <a:moveTo>
                  <a:pt x="0" y="0"/>
                </a:moveTo>
                <a:lnTo>
                  <a:pt x="45885" y="0"/>
                </a:lnTo>
                <a:lnTo>
                  <a:pt x="44485" y="1400"/>
                </a:lnTo>
                <a:lnTo>
                  <a:pt x="1400" y="1400"/>
                </a:lnTo>
                <a:close/>
              </a:path>
              <a:path fill="darken" w="45885" h="21600">
                <a:moveTo>
                  <a:pt x="45885" y="0"/>
                </a:moveTo>
                <a:lnTo>
                  <a:pt x="45885" y="21600"/>
                </a:lnTo>
                <a:lnTo>
                  <a:pt x="44485" y="20200"/>
                </a:lnTo>
                <a:lnTo>
                  <a:pt x="44485" y="1400"/>
                </a:lnTo>
                <a:close/>
              </a:path>
              <a:path fill="darkenLess" w="45885" h="21600">
                <a:moveTo>
                  <a:pt x="45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85" y="20200"/>
                </a:lnTo>
                <a:close/>
              </a:path>
              <a:path fill="lighten" w="45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85" h="21600">
                <a:moveTo>
                  <a:pt x="15936" y="10800"/>
                </a:moveTo>
                <a:lnTo>
                  <a:pt x="29949" y="3794"/>
                </a:lnTo>
                <a:lnTo>
                  <a:pt x="29949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4140360" y="2781360"/>
            <a:ext cx="47415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Правильно, молодец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40360" y="1916280"/>
            <a:ext cx="460836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Что делать, если вы не можете открыть окно, чтобы позвать на помощь, когда дом в ог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ползти в другую комн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тучать в ок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збить ок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643280" y="342900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63640" y="5950080"/>
            <a:ext cx="1152720" cy="57600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213" h="21600">
                <a:moveTo>
                  <a:pt x="0" y="0"/>
                </a:moveTo>
                <a:lnTo>
                  <a:pt x="43213" y="0"/>
                </a:lnTo>
                <a:lnTo>
                  <a:pt x="43213" y="21600"/>
                </a:lnTo>
                <a:lnTo>
                  <a:pt x="0" y="21600"/>
                </a:lnTo>
                <a:close/>
              </a:path>
              <a:path fill="lightenLess" w="43213" h="21600">
                <a:moveTo>
                  <a:pt x="0" y="0"/>
                </a:moveTo>
                <a:lnTo>
                  <a:pt x="43213" y="0"/>
                </a:lnTo>
                <a:lnTo>
                  <a:pt x="41813" y="1400"/>
                </a:lnTo>
                <a:lnTo>
                  <a:pt x="1400" y="1400"/>
                </a:lnTo>
                <a:close/>
              </a:path>
              <a:path fill="darken" w="43213" h="21600">
                <a:moveTo>
                  <a:pt x="43213" y="0"/>
                </a:moveTo>
                <a:lnTo>
                  <a:pt x="43213" y="21600"/>
                </a:lnTo>
                <a:lnTo>
                  <a:pt x="41813" y="20200"/>
                </a:lnTo>
                <a:lnTo>
                  <a:pt x="41813" y="1400"/>
                </a:lnTo>
                <a:close/>
              </a:path>
              <a:path fill="darkenLess" w="43213" h="21600">
                <a:moveTo>
                  <a:pt x="43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3" y="20200"/>
                </a:lnTo>
                <a:close/>
              </a:path>
              <a:path fill="lighten" w="43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3" h="21600">
                <a:moveTo>
                  <a:pt x="14600" y="3794"/>
                </a:moveTo>
                <a:lnTo>
                  <a:pt x="28613" y="10800"/>
                </a:lnTo>
                <a:lnTo>
                  <a:pt x="14600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140000" y="2781000"/>
            <a:ext cx="47415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Неправильно, попробуй ещё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40360" y="1916280"/>
            <a:ext cx="460836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Что делать, если вы не можете открыть окно, чтобы позвать на помощь, когда дом в ог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ползти в другую комн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тучать в ок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збить ок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643280" y="342900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468360" y="5950080"/>
            <a:ext cx="1224000" cy="57600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5885" h="21600">
                <a:moveTo>
                  <a:pt x="0" y="0"/>
                </a:moveTo>
                <a:lnTo>
                  <a:pt x="45885" y="0"/>
                </a:lnTo>
                <a:lnTo>
                  <a:pt x="45885" y="21600"/>
                </a:lnTo>
                <a:lnTo>
                  <a:pt x="0" y="21600"/>
                </a:lnTo>
                <a:close/>
              </a:path>
              <a:path fill="lightenLess" w="45885" h="21600">
                <a:moveTo>
                  <a:pt x="0" y="0"/>
                </a:moveTo>
                <a:lnTo>
                  <a:pt x="45885" y="0"/>
                </a:lnTo>
                <a:lnTo>
                  <a:pt x="44485" y="1400"/>
                </a:lnTo>
                <a:lnTo>
                  <a:pt x="1400" y="1400"/>
                </a:lnTo>
                <a:close/>
              </a:path>
              <a:path fill="darken" w="45885" h="21600">
                <a:moveTo>
                  <a:pt x="45885" y="0"/>
                </a:moveTo>
                <a:lnTo>
                  <a:pt x="45885" y="21600"/>
                </a:lnTo>
                <a:lnTo>
                  <a:pt x="44485" y="20200"/>
                </a:lnTo>
                <a:lnTo>
                  <a:pt x="44485" y="1400"/>
                </a:lnTo>
                <a:close/>
              </a:path>
              <a:path fill="darkenLess" w="45885" h="21600">
                <a:moveTo>
                  <a:pt x="45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85" y="20200"/>
                </a:lnTo>
                <a:close/>
              </a:path>
              <a:path fill="lighten" w="45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85" h="21600">
                <a:moveTo>
                  <a:pt x="15936" y="10800"/>
                </a:moveTo>
                <a:lnTo>
                  <a:pt x="29949" y="3794"/>
                </a:lnTo>
                <a:lnTo>
                  <a:pt x="29949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40000" y="1916280"/>
            <a:ext cx="47415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акой газ выделяется при пожаре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д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глекислый 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исл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179280" y="4149720"/>
            <a:ext cx="3672000" cy="5745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37972" h="21600">
                <a:moveTo>
                  <a:pt x="0" y="0"/>
                </a:moveTo>
                <a:lnTo>
                  <a:pt x="137972" y="0"/>
                </a:lnTo>
                <a:lnTo>
                  <a:pt x="137972" y="21600"/>
                </a:lnTo>
                <a:lnTo>
                  <a:pt x="0" y="21600"/>
                </a:lnTo>
                <a:close/>
              </a:path>
              <a:path fill="lightenLess" w="137972" h="21600">
                <a:moveTo>
                  <a:pt x="0" y="0"/>
                </a:moveTo>
                <a:lnTo>
                  <a:pt x="137972" y="0"/>
                </a:lnTo>
                <a:lnTo>
                  <a:pt x="136572" y="1400"/>
                </a:lnTo>
                <a:lnTo>
                  <a:pt x="1400" y="1400"/>
                </a:lnTo>
                <a:close/>
              </a:path>
              <a:path fill="darken" w="137972" h="21600">
                <a:moveTo>
                  <a:pt x="137972" y="0"/>
                </a:moveTo>
                <a:lnTo>
                  <a:pt x="137972" y="21600"/>
                </a:lnTo>
                <a:lnTo>
                  <a:pt x="136572" y="20200"/>
                </a:lnTo>
                <a:lnTo>
                  <a:pt x="136572" y="1400"/>
                </a:lnTo>
                <a:close/>
              </a:path>
              <a:path fill="darkenLess" w="137972" h="21600">
                <a:moveTo>
                  <a:pt x="137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572" y="20200"/>
                </a:lnTo>
                <a:close/>
              </a:path>
              <a:path fill="lighten" w="137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Хл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1763640" y="5950080"/>
            <a:ext cx="1152720" cy="57600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213" h="21600">
                <a:moveTo>
                  <a:pt x="0" y="0"/>
                </a:moveTo>
                <a:lnTo>
                  <a:pt x="43213" y="0"/>
                </a:lnTo>
                <a:lnTo>
                  <a:pt x="43213" y="21600"/>
                </a:lnTo>
                <a:lnTo>
                  <a:pt x="0" y="21600"/>
                </a:lnTo>
                <a:close/>
              </a:path>
              <a:path fill="lightenLess" w="43213" h="21600">
                <a:moveTo>
                  <a:pt x="0" y="0"/>
                </a:moveTo>
                <a:lnTo>
                  <a:pt x="43213" y="0"/>
                </a:lnTo>
                <a:lnTo>
                  <a:pt x="41813" y="1400"/>
                </a:lnTo>
                <a:lnTo>
                  <a:pt x="1400" y="1400"/>
                </a:lnTo>
                <a:close/>
              </a:path>
              <a:path fill="darken" w="43213" h="21600">
                <a:moveTo>
                  <a:pt x="43213" y="0"/>
                </a:moveTo>
                <a:lnTo>
                  <a:pt x="43213" y="21600"/>
                </a:lnTo>
                <a:lnTo>
                  <a:pt x="41813" y="20200"/>
                </a:lnTo>
                <a:lnTo>
                  <a:pt x="41813" y="1400"/>
                </a:lnTo>
                <a:close/>
              </a:path>
              <a:path fill="darkenLess" w="43213" h="21600">
                <a:moveTo>
                  <a:pt x="43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3" y="20200"/>
                </a:lnTo>
                <a:close/>
              </a:path>
              <a:path fill="lighten" w="43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3" h="21600">
                <a:moveTo>
                  <a:pt x="14600" y="3794"/>
                </a:moveTo>
                <a:lnTo>
                  <a:pt x="28613" y="10800"/>
                </a:lnTo>
                <a:lnTo>
                  <a:pt x="14600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4716360" y="3552840"/>
            <a:ext cx="4067280" cy="29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оне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пасибо, вы прошли тест по пожарной безопасно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40000" y="2276640"/>
            <a:ext cx="47415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Правильно, молодец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д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глекислый 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исл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5" action="ppaction://hlinksldjump"/>
          </p:cNvPr>
          <p:cNvSpPr/>
          <p:nvPr/>
        </p:nvSpPr>
        <p:spPr>
          <a:xfrm>
            <a:off x="179280" y="4149720"/>
            <a:ext cx="3672000" cy="5745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37972" h="21600">
                <a:moveTo>
                  <a:pt x="0" y="0"/>
                </a:moveTo>
                <a:lnTo>
                  <a:pt x="137972" y="0"/>
                </a:lnTo>
                <a:lnTo>
                  <a:pt x="137972" y="21600"/>
                </a:lnTo>
                <a:lnTo>
                  <a:pt x="0" y="21600"/>
                </a:lnTo>
                <a:close/>
              </a:path>
              <a:path fill="lightenLess" w="137972" h="21600">
                <a:moveTo>
                  <a:pt x="0" y="0"/>
                </a:moveTo>
                <a:lnTo>
                  <a:pt x="137972" y="0"/>
                </a:lnTo>
                <a:lnTo>
                  <a:pt x="136572" y="1400"/>
                </a:lnTo>
                <a:lnTo>
                  <a:pt x="1400" y="1400"/>
                </a:lnTo>
                <a:close/>
              </a:path>
              <a:path fill="darken" w="137972" h="21600">
                <a:moveTo>
                  <a:pt x="137972" y="0"/>
                </a:moveTo>
                <a:lnTo>
                  <a:pt x="137972" y="21600"/>
                </a:lnTo>
                <a:lnTo>
                  <a:pt x="136572" y="20200"/>
                </a:lnTo>
                <a:lnTo>
                  <a:pt x="136572" y="1400"/>
                </a:lnTo>
                <a:close/>
              </a:path>
              <a:path fill="darkenLess" w="137972" h="21600">
                <a:moveTo>
                  <a:pt x="137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572" y="20200"/>
                </a:lnTo>
                <a:close/>
              </a:path>
              <a:path fill="lighten" w="137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Хл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6" action="ppaction://hlinksldjump"/>
          </p:cNvPr>
          <p:cNvSpPr/>
          <p:nvPr/>
        </p:nvSpPr>
        <p:spPr>
          <a:xfrm>
            <a:off x="1763640" y="5950080"/>
            <a:ext cx="1152720" cy="57600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213" h="21600">
                <a:moveTo>
                  <a:pt x="0" y="0"/>
                </a:moveTo>
                <a:lnTo>
                  <a:pt x="43213" y="0"/>
                </a:lnTo>
                <a:lnTo>
                  <a:pt x="43213" y="21600"/>
                </a:lnTo>
                <a:lnTo>
                  <a:pt x="0" y="21600"/>
                </a:lnTo>
                <a:close/>
              </a:path>
              <a:path fill="lightenLess" w="43213" h="21600">
                <a:moveTo>
                  <a:pt x="0" y="0"/>
                </a:moveTo>
                <a:lnTo>
                  <a:pt x="43213" y="0"/>
                </a:lnTo>
                <a:lnTo>
                  <a:pt x="41813" y="1400"/>
                </a:lnTo>
                <a:lnTo>
                  <a:pt x="1400" y="1400"/>
                </a:lnTo>
                <a:close/>
              </a:path>
              <a:path fill="darken" w="43213" h="21600">
                <a:moveTo>
                  <a:pt x="43213" y="0"/>
                </a:moveTo>
                <a:lnTo>
                  <a:pt x="43213" y="21600"/>
                </a:lnTo>
                <a:lnTo>
                  <a:pt x="41813" y="20200"/>
                </a:lnTo>
                <a:lnTo>
                  <a:pt x="41813" y="1400"/>
                </a:lnTo>
                <a:close/>
              </a:path>
              <a:path fill="darkenLess" w="43213" h="21600">
                <a:moveTo>
                  <a:pt x="43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3" y="20200"/>
                </a:lnTo>
                <a:close/>
              </a:path>
              <a:path fill="lighten" w="43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3" h="21600">
                <a:moveTo>
                  <a:pt x="14600" y="3794"/>
                </a:moveTo>
                <a:lnTo>
                  <a:pt x="28613" y="10800"/>
                </a:lnTo>
                <a:lnTo>
                  <a:pt x="14600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1916280"/>
            <a:ext cx="47415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акой газ выделяется при пожар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4716360" y="3552840"/>
            <a:ext cx="4067280" cy="29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140000" y="2276640"/>
            <a:ext cx="47415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Неправильно, попробуй ещё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д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3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глекислый 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4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исл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5" action="ppaction://hlinksldjump"/>
          </p:cNvPr>
          <p:cNvSpPr/>
          <p:nvPr/>
        </p:nvSpPr>
        <p:spPr>
          <a:xfrm>
            <a:off x="179280" y="4149720"/>
            <a:ext cx="3672000" cy="5745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37972" h="21600">
                <a:moveTo>
                  <a:pt x="0" y="0"/>
                </a:moveTo>
                <a:lnTo>
                  <a:pt x="137972" y="0"/>
                </a:lnTo>
                <a:lnTo>
                  <a:pt x="137972" y="21600"/>
                </a:lnTo>
                <a:lnTo>
                  <a:pt x="0" y="21600"/>
                </a:lnTo>
                <a:close/>
              </a:path>
              <a:path fill="lightenLess" w="137972" h="21600">
                <a:moveTo>
                  <a:pt x="0" y="0"/>
                </a:moveTo>
                <a:lnTo>
                  <a:pt x="137972" y="0"/>
                </a:lnTo>
                <a:lnTo>
                  <a:pt x="136572" y="1400"/>
                </a:lnTo>
                <a:lnTo>
                  <a:pt x="1400" y="1400"/>
                </a:lnTo>
                <a:close/>
              </a:path>
              <a:path fill="darken" w="137972" h="21600">
                <a:moveTo>
                  <a:pt x="137972" y="0"/>
                </a:moveTo>
                <a:lnTo>
                  <a:pt x="137972" y="21600"/>
                </a:lnTo>
                <a:lnTo>
                  <a:pt x="136572" y="20200"/>
                </a:lnTo>
                <a:lnTo>
                  <a:pt x="136572" y="1400"/>
                </a:lnTo>
                <a:close/>
              </a:path>
              <a:path fill="darkenLess" w="137972" h="21600">
                <a:moveTo>
                  <a:pt x="137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572" y="20200"/>
                </a:lnTo>
                <a:close/>
              </a:path>
              <a:path fill="lighten" w="137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Хл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1916280"/>
            <a:ext cx="47415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акой газ выделяется при пожар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4500720" y="3395520"/>
            <a:ext cx="4282920" cy="31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40000" y="1916280"/>
            <a:ext cx="47415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ой номер у пожарной охраны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3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4" action="ppaction://hlinksldjump"/>
          </p:cNvPr>
          <p:cNvSpPr/>
          <p:nvPr/>
        </p:nvSpPr>
        <p:spPr>
          <a:xfrm>
            <a:off x="179280" y="4149720"/>
            <a:ext cx="3672000" cy="5745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37972" h="21600">
                <a:moveTo>
                  <a:pt x="0" y="0"/>
                </a:moveTo>
                <a:lnTo>
                  <a:pt x="137972" y="0"/>
                </a:lnTo>
                <a:lnTo>
                  <a:pt x="137972" y="21600"/>
                </a:lnTo>
                <a:lnTo>
                  <a:pt x="0" y="21600"/>
                </a:lnTo>
                <a:close/>
              </a:path>
              <a:path fill="lightenLess" w="137972" h="21600">
                <a:moveTo>
                  <a:pt x="0" y="0"/>
                </a:moveTo>
                <a:lnTo>
                  <a:pt x="137972" y="0"/>
                </a:lnTo>
                <a:lnTo>
                  <a:pt x="136572" y="1400"/>
                </a:lnTo>
                <a:lnTo>
                  <a:pt x="1400" y="1400"/>
                </a:lnTo>
                <a:close/>
              </a:path>
              <a:path fill="darken" w="137972" h="21600">
                <a:moveTo>
                  <a:pt x="137972" y="0"/>
                </a:moveTo>
                <a:lnTo>
                  <a:pt x="137972" y="21600"/>
                </a:lnTo>
                <a:lnTo>
                  <a:pt x="136572" y="20200"/>
                </a:lnTo>
                <a:lnTo>
                  <a:pt x="136572" y="1400"/>
                </a:lnTo>
                <a:close/>
              </a:path>
              <a:path fill="darkenLess" w="137972" h="21600">
                <a:moveTo>
                  <a:pt x="137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572" y="20200"/>
                </a:lnTo>
                <a:close/>
              </a:path>
              <a:path fill="lighten" w="137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5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6" action="ppaction://hlinksldjump"/>
          </p:cNvPr>
          <p:cNvSpPr/>
          <p:nvPr/>
        </p:nvSpPr>
        <p:spPr>
          <a:xfrm>
            <a:off x="1763640" y="5950080"/>
            <a:ext cx="1152720" cy="57600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213" h="21600">
                <a:moveTo>
                  <a:pt x="0" y="0"/>
                </a:moveTo>
                <a:lnTo>
                  <a:pt x="43213" y="0"/>
                </a:lnTo>
                <a:lnTo>
                  <a:pt x="43213" y="21600"/>
                </a:lnTo>
                <a:lnTo>
                  <a:pt x="0" y="21600"/>
                </a:lnTo>
                <a:close/>
              </a:path>
              <a:path fill="lightenLess" w="43213" h="21600">
                <a:moveTo>
                  <a:pt x="0" y="0"/>
                </a:moveTo>
                <a:lnTo>
                  <a:pt x="43213" y="0"/>
                </a:lnTo>
                <a:lnTo>
                  <a:pt x="41813" y="1400"/>
                </a:lnTo>
                <a:lnTo>
                  <a:pt x="1400" y="1400"/>
                </a:lnTo>
                <a:close/>
              </a:path>
              <a:path fill="darken" w="43213" h="21600">
                <a:moveTo>
                  <a:pt x="43213" y="0"/>
                </a:moveTo>
                <a:lnTo>
                  <a:pt x="43213" y="21600"/>
                </a:lnTo>
                <a:lnTo>
                  <a:pt x="41813" y="20200"/>
                </a:lnTo>
                <a:lnTo>
                  <a:pt x="41813" y="1400"/>
                </a:lnTo>
                <a:close/>
              </a:path>
              <a:path fill="darkenLess" w="43213" h="21600">
                <a:moveTo>
                  <a:pt x="43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3" y="20200"/>
                </a:lnTo>
                <a:close/>
              </a:path>
              <a:path fill="lighten" w="43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3" h="21600">
                <a:moveTo>
                  <a:pt x="14600" y="3794"/>
                </a:moveTo>
                <a:lnTo>
                  <a:pt x="28613" y="10800"/>
                </a:lnTo>
                <a:lnTo>
                  <a:pt x="14600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7" action="ppaction://hlinksldjump"/>
          </p:cNvPr>
          <p:cNvSpPr/>
          <p:nvPr/>
        </p:nvSpPr>
        <p:spPr>
          <a:xfrm>
            <a:off x="468360" y="5950080"/>
            <a:ext cx="1224000" cy="57600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5885" h="21600">
                <a:moveTo>
                  <a:pt x="0" y="0"/>
                </a:moveTo>
                <a:lnTo>
                  <a:pt x="45885" y="0"/>
                </a:lnTo>
                <a:lnTo>
                  <a:pt x="45885" y="21600"/>
                </a:lnTo>
                <a:lnTo>
                  <a:pt x="0" y="21600"/>
                </a:lnTo>
                <a:close/>
              </a:path>
              <a:path fill="lightenLess" w="45885" h="21600">
                <a:moveTo>
                  <a:pt x="0" y="0"/>
                </a:moveTo>
                <a:lnTo>
                  <a:pt x="45885" y="0"/>
                </a:lnTo>
                <a:lnTo>
                  <a:pt x="44485" y="1400"/>
                </a:lnTo>
                <a:lnTo>
                  <a:pt x="1400" y="1400"/>
                </a:lnTo>
                <a:close/>
              </a:path>
              <a:path fill="darken" w="45885" h="21600">
                <a:moveTo>
                  <a:pt x="45885" y="0"/>
                </a:moveTo>
                <a:lnTo>
                  <a:pt x="45885" y="21600"/>
                </a:lnTo>
                <a:lnTo>
                  <a:pt x="44485" y="20200"/>
                </a:lnTo>
                <a:lnTo>
                  <a:pt x="44485" y="1400"/>
                </a:lnTo>
                <a:close/>
              </a:path>
              <a:path fill="darkenLess" w="45885" h="21600">
                <a:moveTo>
                  <a:pt x="45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85" y="20200"/>
                </a:lnTo>
                <a:close/>
              </a:path>
              <a:path fill="lighten" w="45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85" h="21600">
                <a:moveTo>
                  <a:pt x="15936" y="10800"/>
                </a:moveTo>
                <a:lnTo>
                  <a:pt x="29949" y="3794"/>
                </a:lnTo>
                <a:lnTo>
                  <a:pt x="29949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>
            <a:off x="5580000" y="4149720"/>
            <a:ext cx="3348000" cy="24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40000" y="2276280"/>
            <a:ext cx="47415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Правильно, молодец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3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4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5" action="ppaction://hlinksldjump"/>
          </p:cNvPr>
          <p:cNvSpPr/>
          <p:nvPr/>
        </p:nvSpPr>
        <p:spPr>
          <a:xfrm>
            <a:off x="179280" y="4149720"/>
            <a:ext cx="3672000" cy="5745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37972" h="21600">
                <a:moveTo>
                  <a:pt x="0" y="0"/>
                </a:moveTo>
                <a:lnTo>
                  <a:pt x="137972" y="0"/>
                </a:lnTo>
                <a:lnTo>
                  <a:pt x="137972" y="21600"/>
                </a:lnTo>
                <a:lnTo>
                  <a:pt x="0" y="21600"/>
                </a:lnTo>
                <a:close/>
              </a:path>
              <a:path fill="lightenLess" w="137972" h="21600">
                <a:moveTo>
                  <a:pt x="0" y="0"/>
                </a:moveTo>
                <a:lnTo>
                  <a:pt x="137972" y="0"/>
                </a:lnTo>
                <a:lnTo>
                  <a:pt x="136572" y="1400"/>
                </a:lnTo>
                <a:lnTo>
                  <a:pt x="1400" y="1400"/>
                </a:lnTo>
                <a:close/>
              </a:path>
              <a:path fill="darken" w="137972" h="21600">
                <a:moveTo>
                  <a:pt x="137972" y="0"/>
                </a:moveTo>
                <a:lnTo>
                  <a:pt x="137972" y="21600"/>
                </a:lnTo>
                <a:lnTo>
                  <a:pt x="136572" y="20200"/>
                </a:lnTo>
                <a:lnTo>
                  <a:pt x="136572" y="1400"/>
                </a:lnTo>
                <a:close/>
              </a:path>
              <a:path fill="darkenLess" w="137972" h="21600">
                <a:moveTo>
                  <a:pt x="137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572" y="20200"/>
                </a:lnTo>
                <a:close/>
              </a:path>
              <a:path fill="lighten" w="137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6" action="ppaction://hlinksldjump"/>
          </p:cNvPr>
          <p:cNvSpPr/>
          <p:nvPr/>
        </p:nvSpPr>
        <p:spPr>
          <a:xfrm>
            <a:off x="1763640" y="5950080"/>
            <a:ext cx="1152720" cy="57600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213" h="21600">
                <a:moveTo>
                  <a:pt x="0" y="0"/>
                </a:moveTo>
                <a:lnTo>
                  <a:pt x="43213" y="0"/>
                </a:lnTo>
                <a:lnTo>
                  <a:pt x="43213" y="21600"/>
                </a:lnTo>
                <a:lnTo>
                  <a:pt x="0" y="21600"/>
                </a:lnTo>
                <a:close/>
              </a:path>
              <a:path fill="lightenLess" w="43213" h="21600">
                <a:moveTo>
                  <a:pt x="0" y="0"/>
                </a:moveTo>
                <a:lnTo>
                  <a:pt x="43213" y="0"/>
                </a:lnTo>
                <a:lnTo>
                  <a:pt x="41813" y="1400"/>
                </a:lnTo>
                <a:lnTo>
                  <a:pt x="1400" y="1400"/>
                </a:lnTo>
                <a:close/>
              </a:path>
              <a:path fill="darken" w="43213" h="21600">
                <a:moveTo>
                  <a:pt x="43213" y="0"/>
                </a:moveTo>
                <a:lnTo>
                  <a:pt x="43213" y="21600"/>
                </a:lnTo>
                <a:lnTo>
                  <a:pt x="41813" y="20200"/>
                </a:lnTo>
                <a:lnTo>
                  <a:pt x="41813" y="1400"/>
                </a:lnTo>
                <a:close/>
              </a:path>
              <a:path fill="darkenLess" w="43213" h="21600">
                <a:moveTo>
                  <a:pt x="43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3" y="20200"/>
                </a:lnTo>
                <a:close/>
              </a:path>
              <a:path fill="lighten" w="43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3" h="21600">
                <a:moveTo>
                  <a:pt x="14600" y="3794"/>
                </a:moveTo>
                <a:lnTo>
                  <a:pt x="28613" y="10800"/>
                </a:lnTo>
                <a:lnTo>
                  <a:pt x="14600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40360" y="1916280"/>
            <a:ext cx="47415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ой номер у пожарной охра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5580000" y="4149720"/>
            <a:ext cx="3348000" cy="24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40000" y="2276280"/>
            <a:ext cx="47415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Неправильно, попробуй ещё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3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179280" y="4149720"/>
            <a:ext cx="3672000" cy="5745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37972" h="21600">
                <a:moveTo>
                  <a:pt x="0" y="0"/>
                </a:moveTo>
                <a:lnTo>
                  <a:pt x="137972" y="0"/>
                </a:lnTo>
                <a:lnTo>
                  <a:pt x="137972" y="21600"/>
                </a:lnTo>
                <a:lnTo>
                  <a:pt x="0" y="21600"/>
                </a:lnTo>
                <a:close/>
              </a:path>
              <a:path fill="lightenLess" w="137972" h="21600">
                <a:moveTo>
                  <a:pt x="0" y="0"/>
                </a:moveTo>
                <a:lnTo>
                  <a:pt x="137972" y="0"/>
                </a:lnTo>
                <a:lnTo>
                  <a:pt x="136572" y="1400"/>
                </a:lnTo>
                <a:lnTo>
                  <a:pt x="1400" y="1400"/>
                </a:lnTo>
                <a:close/>
              </a:path>
              <a:path fill="darken" w="137972" h="21600">
                <a:moveTo>
                  <a:pt x="137972" y="0"/>
                </a:moveTo>
                <a:lnTo>
                  <a:pt x="137972" y="21600"/>
                </a:lnTo>
                <a:lnTo>
                  <a:pt x="136572" y="20200"/>
                </a:lnTo>
                <a:lnTo>
                  <a:pt x="136572" y="1400"/>
                </a:lnTo>
                <a:close/>
              </a:path>
              <a:path fill="darkenLess" w="137972" h="21600">
                <a:moveTo>
                  <a:pt x="137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572" y="20200"/>
                </a:lnTo>
                <a:close/>
              </a:path>
              <a:path fill="lighten" w="137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6" action="ppaction://hlinksldjump"/>
          </p:cNvPr>
          <p:cNvSpPr/>
          <p:nvPr/>
        </p:nvSpPr>
        <p:spPr>
          <a:xfrm>
            <a:off x="468360" y="5950080"/>
            <a:ext cx="1224000" cy="57600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5885" h="21600">
                <a:moveTo>
                  <a:pt x="0" y="0"/>
                </a:moveTo>
                <a:lnTo>
                  <a:pt x="45885" y="0"/>
                </a:lnTo>
                <a:lnTo>
                  <a:pt x="45885" y="21600"/>
                </a:lnTo>
                <a:lnTo>
                  <a:pt x="0" y="21600"/>
                </a:lnTo>
                <a:close/>
              </a:path>
              <a:path fill="lightenLess" w="45885" h="21600">
                <a:moveTo>
                  <a:pt x="0" y="0"/>
                </a:moveTo>
                <a:lnTo>
                  <a:pt x="45885" y="0"/>
                </a:lnTo>
                <a:lnTo>
                  <a:pt x="44485" y="1400"/>
                </a:lnTo>
                <a:lnTo>
                  <a:pt x="1400" y="1400"/>
                </a:lnTo>
                <a:close/>
              </a:path>
              <a:path fill="darken" w="45885" h="21600">
                <a:moveTo>
                  <a:pt x="45885" y="0"/>
                </a:moveTo>
                <a:lnTo>
                  <a:pt x="45885" y="21600"/>
                </a:lnTo>
                <a:lnTo>
                  <a:pt x="44485" y="20200"/>
                </a:lnTo>
                <a:lnTo>
                  <a:pt x="44485" y="1400"/>
                </a:lnTo>
                <a:close/>
              </a:path>
              <a:path fill="darkenLess" w="45885" h="21600">
                <a:moveTo>
                  <a:pt x="45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85" y="20200"/>
                </a:lnTo>
                <a:close/>
              </a:path>
              <a:path fill="lighten" w="45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85" h="21600">
                <a:moveTo>
                  <a:pt x="15936" y="10800"/>
                </a:moveTo>
                <a:lnTo>
                  <a:pt x="29949" y="3794"/>
                </a:lnTo>
                <a:lnTo>
                  <a:pt x="29949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1916280"/>
            <a:ext cx="47415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ой номер у пожарной охра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5580000" y="4149720"/>
            <a:ext cx="3348000" cy="24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43280" y="3362400"/>
            <a:ext cx="4176720" cy="32526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 №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140000" y="1915920"/>
            <a:ext cx="47415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 называется устройство для забора воды из водопроводной сети для тушения пожар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179280" y="220500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жарный рук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179280" y="285264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допроводный 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4" action="ppaction://hlinksldjump"/>
          </p:cNvPr>
          <p:cNvSpPr/>
          <p:nvPr/>
        </p:nvSpPr>
        <p:spPr>
          <a:xfrm>
            <a:off x="179280" y="350028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жарный гидр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5" action="ppaction://hlinksldjump"/>
          </p:cNvPr>
          <p:cNvSpPr/>
          <p:nvPr/>
        </p:nvSpPr>
        <p:spPr>
          <a:xfrm>
            <a:off x="179280" y="4149720"/>
            <a:ext cx="3672000" cy="5745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37972" h="21600">
                <a:moveTo>
                  <a:pt x="0" y="0"/>
                </a:moveTo>
                <a:lnTo>
                  <a:pt x="137972" y="0"/>
                </a:lnTo>
                <a:lnTo>
                  <a:pt x="137972" y="21600"/>
                </a:lnTo>
                <a:lnTo>
                  <a:pt x="0" y="21600"/>
                </a:lnTo>
                <a:close/>
              </a:path>
              <a:path fill="lightenLess" w="137972" h="21600">
                <a:moveTo>
                  <a:pt x="0" y="0"/>
                </a:moveTo>
                <a:lnTo>
                  <a:pt x="137972" y="0"/>
                </a:lnTo>
                <a:lnTo>
                  <a:pt x="136572" y="1400"/>
                </a:lnTo>
                <a:lnTo>
                  <a:pt x="1400" y="1400"/>
                </a:lnTo>
                <a:close/>
              </a:path>
              <a:path fill="darken" w="137972" h="21600">
                <a:moveTo>
                  <a:pt x="137972" y="0"/>
                </a:moveTo>
                <a:lnTo>
                  <a:pt x="137972" y="21600"/>
                </a:lnTo>
                <a:lnTo>
                  <a:pt x="136572" y="20200"/>
                </a:lnTo>
                <a:lnTo>
                  <a:pt x="136572" y="1400"/>
                </a:lnTo>
                <a:close/>
              </a:path>
              <a:path fill="darkenLess" w="137972" h="21600">
                <a:moveTo>
                  <a:pt x="137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572" y="20200"/>
                </a:lnTo>
                <a:close/>
              </a:path>
              <a:path fill="lighten" w="137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нализационный лю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6" action="ppaction://hlinksldjump"/>
          </p:cNvPr>
          <p:cNvSpPr/>
          <p:nvPr/>
        </p:nvSpPr>
        <p:spPr>
          <a:xfrm>
            <a:off x="6372360" y="981000"/>
            <a:ext cx="2233440" cy="576360"/>
          </a:xfrm>
          <a:custGeom>
            <a:avLst/>
            <a:gdLst>
              <a:gd name="textAreaLeft" fmla="*/ 37080 w 2233440"/>
              <a:gd name="textAreaRight" fmla="*/ 2196360 w 223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63" h="21600">
                <a:moveTo>
                  <a:pt x="0" y="0"/>
                </a:moveTo>
                <a:lnTo>
                  <a:pt x="83663" y="0"/>
                </a:lnTo>
                <a:lnTo>
                  <a:pt x="83663" y="21600"/>
                </a:lnTo>
                <a:lnTo>
                  <a:pt x="0" y="21600"/>
                </a:lnTo>
                <a:close/>
              </a:path>
              <a:path fill="lightenLess" w="83663" h="21600">
                <a:moveTo>
                  <a:pt x="0" y="0"/>
                </a:moveTo>
                <a:lnTo>
                  <a:pt x="83663" y="0"/>
                </a:lnTo>
                <a:lnTo>
                  <a:pt x="82263" y="1400"/>
                </a:lnTo>
                <a:lnTo>
                  <a:pt x="1400" y="1400"/>
                </a:lnTo>
                <a:close/>
              </a:path>
              <a:path fill="darken" w="83663" h="21600">
                <a:moveTo>
                  <a:pt x="83663" y="0"/>
                </a:moveTo>
                <a:lnTo>
                  <a:pt x="83663" y="21600"/>
                </a:lnTo>
                <a:lnTo>
                  <a:pt x="82263" y="20200"/>
                </a:lnTo>
                <a:lnTo>
                  <a:pt x="82263" y="1400"/>
                </a:lnTo>
                <a:close/>
              </a:path>
              <a:path fill="darkenLess" w="83663" h="21600">
                <a:moveTo>
                  <a:pt x="83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3" y="20200"/>
                </a:lnTo>
                <a:close/>
              </a:path>
              <a:path fill="lighten" w="83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7" action="ppaction://hlinksldjump"/>
          </p:cNvPr>
          <p:cNvSpPr/>
          <p:nvPr/>
        </p:nvSpPr>
        <p:spPr>
          <a:xfrm>
            <a:off x="1763640" y="5950080"/>
            <a:ext cx="1152720" cy="57600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213" h="21600">
                <a:moveTo>
                  <a:pt x="0" y="0"/>
                </a:moveTo>
                <a:lnTo>
                  <a:pt x="43213" y="0"/>
                </a:lnTo>
                <a:lnTo>
                  <a:pt x="43213" y="21600"/>
                </a:lnTo>
                <a:lnTo>
                  <a:pt x="0" y="21600"/>
                </a:lnTo>
                <a:close/>
              </a:path>
              <a:path fill="lightenLess" w="43213" h="21600">
                <a:moveTo>
                  <a:pt x="0" y="0"/>
                </a:moveTo>
                <a:lnTo>
                  <a:pt x="43213" y="0"/>
                </a:lnTo>
                <a:lnTo>
                  <a:pt x="41813" y="1400"/>
                </a:lnTo>
                <a:lnTo>
                  <a:pt x="1400" y="1400"/>
                </a:lnTo>
                <a:close/>
              </a:path>
              <a:path fill="darken" w="43213" h="21600">
                <a:moveTo>
                  <a:pt x="43213" y="0"/>
                </a:moveTo>
                <a:lnTo>
                  <a:pt x="43213" y="21600"/>
                </a:lnTo>
                <a:lnTo>
                  <a:pt x="41813" y="20200"/>
                </a:lnTo>
                <a:lnTo>
                  <a:pt x="41813" y="1400"/>
                </a:lnTo>
                <a:close/>
              </a:path>
              <a:path fill="darkenLess" w="43213" h="21600">
                <a:moveTo>
                  <a:pt x="43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3" y="20200"/>
                </a:lnTo>
                <a:close/>
              </a:path>
              <a:path fill="lighten" w="43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3" h="21600">
                <a:moveTo>
                  <a:pt x="14600" y="3794"/>
                </a:moveTo>
                <a:lnTo>
                  <a:pt x="28613" y="10800"/>
                </a:lnTo>
                <a:lnTo>
                  <a:pt x="14600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8" action="ppaction://hlinksldjump"/>
          </p:cNvPr>
          <p:cNvSpPr/>
          <p:nvPr/>
        </p:nvSpPr>
        <p:spPr>
          <a:xfrm>
            <a:off x="468360" y="5950080"/>
            <a:ext cx="1224000" cy="57600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5885" h="21600">
                <a:moveTo>
                  <a:pt x="0" y="0"/>
                </a:moveTo>
                <a:lnTo>
                  <a:pt x="45885" y="0"/>
                </a:lnTo>
                <a:lnTo>
                  <a:pt x="45885" y="21600"/>
                </a:lnTo>
                <a:lnTo>
                  <a:pt x="0" y="21600"/>
                </a:lnTo>
                <a:close/>
              </a:path>
              <a:path fill="lightenLess" w="45885" h="21600">
                <a:moveTo>
                  <a:pt x="0" y="0"/>
                </a:moveTo>
                <a:lnTo>
                  <a:pt x="45885" y="0"/>
                </a:lnTo>
                <a:lnTo>
                  <a:pt x="44485" y="1400"/>
                </a:lnTo>
                <a:lnTo>
                  <a:pt x="1400" y="1400"/>
                </a:lnTo>
                <a:close/>
              </a:path>
              <a:path fill="darken" w="45885" h="21600">
                <a:moveTo>
                  <a:pt x="45885" y="0"/>
                </a:moveTo>
                <a:lnTo>
                  <a:pt x="45885" y="21600"/>
                </a:lnTo>
                <a:lnTo>
                  <a:pt x="44485" y="20200"/>
                </a:lnTo>
                <a:lnTo>
                  <a:pt x="44485" y="1400"/>
                </a:lnTo>
                <a:close/>
              </a:path>
              <a:path fill="darkenLess" w="45885" h="21600">
                <a:moveTo>
                  <a:pt x="45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85" y="20200"/>
                </a:lnTo>
                <a:close/>
              </a:path>
              <a:path fill="lighten" w="45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85" h="21600">
                <a:moveTo>
                  <a:pt x="15936" y="10800"/>
                </a:moveTo>
                <a:lnTo>
                  <a:pt x="29949" y="3794"/>
                </a:lnTo>
                <a:lnTo>
                  <a:pt x="29949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8039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14:32:24Z</dcterms:created>
  <dc:creator>ученики</dc:creator>
  <dc:description/>
  <dc:language>en-US</dc:language>
  <cp:lastModifiedBy>Ученики</cp:lastModifiedBy>
  <dcterms:modified xsi:type="dcterms:W3CDTF">2012-01-19T07:40:03Z</dcterms:modified>
  <cp:revision>23</cp:revision>
  <dc:subject/>
  <dc:title>Пожарная безопасность</dc:title>
</cp:coreProperties>
</file>