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36.wmf" ContentType="image/x-wmf"/>
  <Override PartName="/ppt/media/image38.png" ContentType="image/png"/>
  <Override PartName="/ppt/media/image41.wmf" ContentType="image/x-wmf"/>
  <Override PartName="/ppt/media/image40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8.wmf" ContentType="image/x-wmf"/>
  <Override PartName="/ppt/media/image6.png" ContentType="image/png"/>
  <Override PartName="/ppt/media/image14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B92-7557-43B5-9723-980F54D31A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9FC3-9458-4E0B-97BC-271E5C14D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A35-97EB-4112-9A46-5AC979A5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F90-14AC-4511-87A3-D515CDC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1CB-4404-4CC1-8A6B-5399078F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EF2-9C46-4647-BF88-6B189573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0515-F8B0-4093-BA56-3707EAD8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0B96-807D-4F3C-8547-742644A1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B058-1C2A-469C-BEC4-20529C44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1E51-E1DF-453F-91C6-3B587767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7067-5A8F-462F-B33A-8C9163EE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B35A-3F6A-4C0A-9912-75A9DA67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36C4-CE5D-462F-A38F-E72328F0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78A-3171-4846-A841-701BADA2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26E6-6D0E-4D99-B239-9FBF204E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DDF5-F625-4460-8974-186F507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CD42-BE5A-450B-80BA-05A22CB5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556D-E06A-41D0-ACF9-84785901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1C85-07F2-4321-A23C-46C078E4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438-CCE5-4BBB-907B-E38A9D3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B7F-3605-45E8-94EF-67AB02D9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7DD-20B1-4490-BB5A-F1E81A38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F1A-83AD-4A2D-BFA1-080345E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3BD-D89E-45F0-8BED-C3F70DF4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ED7-825B-4EB0-A5CF-EF67BBFF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61F-CD84-4949-9102-7959534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ded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b9f25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ded1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1903-6FB7-4A56-BE7A-2E1A190B31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ded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b9f25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ded1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1D5C-9516-4530-A053-7E5D20818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7.wmf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1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4.wmf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9.wmf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.wmf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.wmf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9.wmf"/><Relationship Id="rId23" Type="http://schemas.openxmlformats.org/officeDocument/2006/relationships/image" Target="../media/image6.png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Times New Roman"/>
              </a:rPr>
              <a:t>Решение неравенств второй степени с одной переменной</a:t>
            </a:r>
            <a:endParaRPr b="0" lang="en-US" sz="4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348000" y="3284640"/>
            <a:ext cx="41529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68360" y="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Лицей философии планетарного гум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975680" y="5589720"/>
            <a:ext cx="50043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читель высшей категории М.Н.Ковш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1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Gf9"/>
          <p:cNvPicPr/>
          <p:nvPr/>
        </p:nvPicPr>
        <p:blipFill>
          <a:blip r:embed="rId1"/>
          <a:stretch/>
        </p:blipFill>
        <p:spPr>
          <a:xfrm>
            <a:off x="963720" y="3492360"/>
            <a:ext cx="18828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k1"/>
          <p:cNvPicPr/>
          <p:nvPr/>
        </p:nvPicPr>
        <p:blipFill>
          <a:blip r:embed="rId1"/>
          <a:stretch/>
        </p:blipFill>
        <p:spPr>
          <a:xfrm>
            <a:off x="3546360" y="1557360"/>
            <a:ext cx="5597640" cy="53053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1292400" y="1190520"/>
            <a:ext cx="4701960" cy="595440"/>
          </a:xfrm>
          <a:prstGeom prst="rect">
            <a:avLst/>
          </a:prstGeom>
          <a:gradFill rotWithShape="0">
            <a:gsLst>
              <a:gs pos="0">
                <a:srgbClr val="ff8b8b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06440" y="5675400"/>
            <a:ext cx="3003480" cy="581040"/>
          </a:xfrm>
          <a:prstGeom prst="rect">
            <a:avLst/>
          </a:prstGeom>
          <a:solidFill>
            <a:srgbClr val="ffe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784080" y="4933800"/>
            <a:ext cx="2232000" cy="290520"/>
          </a:xfrm>
          <a:prstGeom prst="parallelogram">
            <a:avLst>
              <a:gd name="adj" fmla="val 192069"/>
            </a:avLst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3232"/>
                </a:solidFill>
                <a:latin typeface="Times New Roman"/>
              </a:rPr>
              <a:t>Решить неравенство:</a:t>
            </a:r>
            <a:endParaRPr b="0" lang="en-US" sz="3400" spc="-1" strike="noStrike">
              <a:solidFill>
                <a:srgbClr val="323232"/>
              </a:solidFill>
              <a:latin typeface="Arial"/>
            </a:endParaRPr>
          </a:p>
        </p:txBody>
      </p:sp>
      <p:graphicFrame>
        <p:nvGraphicFramePr>
          <p:cNvPr id="276" name="Object 7"/>
          <p:cNvGraphicFramePr/>
          <p:nvPr/>
        </p:nvGraphicFramePr>
        <p:xfrm>
          <a:off x="1465200" y="1168560"/>
          <a:ext cx="2543400" cy="56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5200" y="1168560"/>
                    <a:ext cx="254340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8"/>
          <p:cNvGraphicFramePr/>
          <p:nvPr/>
        </p:nvGraphicFramePr>
        <p:xfrm>
          <a:off x="923760" y="3260880"/>
          <a:ext cx="2038680" cy="45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3760" y="3260880"/>
                    <a:ext cx="20386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9"/>
          <p:cNvGraphicFramePr/>
          <p:nvPr/>
        </p:nvGraphicFramePr>
        <p:xfrm>
          <a:off x="849240" y="2295360"/>
          <a:ext cx="261468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9240" y="2295360"/>
                    <a:ext cx="26146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Oval 10"/>
          <p:cNvSpPr/>
          <p:nvPr/>
        </p:nvSpPr>
        <p:spPr>
          <a:xfrm>
            <a:off x="6781680" y="4152960"/>
            <a:ext cx="10188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982800" y="4761000"/>
          <a:ext cx="1724040" cy="45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82800" y="4761000"/>
                    <a:ext cx="17240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2"/>
          <p:cNvGraphicFramePr/>
          <p:nvPr/>
        </p:nvGraphicFramePr>
        <p:xfrm>
          <a:off x="474840" y="5719680"/>
          <a:ext cx="2914560" cy="554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4840" y="5719680"/>
                    <a:ext cx="29145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3"/>
          <p:cNvGraphicFramePr/>
          <p:nvPr/>
        </p:nvGraphicFramePr>
        <p:xfrm>
          <a:off x="1459080" y="1174680"/>
          <a:ext cx="2546280" cy="565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59080" y="1174680"/>
                    <a:ext cx="25462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14"/>
          <p:cNvGraphicFramePr/>
          <p:nvPr/>
        </p:nvGraphicFramePr>
        <p:xfrm>
          <a:off x="1430280" y="4711680"/>
          <a:ext cx="804960" cy="458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30280" y="4711680"/>
                    <a:ext cx="8049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15"/>
          <p:cNvGraphicFramePr/>
          <p:nvPr/>
        </p:nvGraphicFramePr>
        <p:xfrm>
          <a:off x="1071720" y="5688000"/>
          <a:ext cx="183348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2" name="Object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71720" y="5688000"/>
                    <a:ext cx="1833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16"/>
          <p:cNvSpPr/>
          <p:nvPr/>
        </p:nvSpPr>
        <p:spPr>
          <a:xfrm>
            <a:off x="3844800" y="1893960"/>
            <a:ext cx="4989600" cy="2327040"/>
          </a:xfrm>
          <a:prstGeom prst="rect">
            <a:avLst/>
          </a:prstGeom>
          <a:solidFill>
            <a:srgbClr val="f07f0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7"/>
          <p:cNvSpPr/>
          <p:nvPr/>
        </p:nvSpPr>
        <p:spPr>
          <a:xfrm flipV="1">
            <a:off x="6143760" y="1853640"/>
            <a:ext cx="1380960" cy="2360520"/>
          </a:xfrm>
          <a:custGeom>
            <a:avLst/>
            <a:gdLst>
              <a:gd name="textAreaLeft" fmla="*/ 0 w 1380960"/>
              <a:gd name="textAreaRight" fmla="*/ 1380960 w 1380960"/>
              <a:gd name="textAreaTop" fmla="*/ -360 h 2360520"/>
              <a:gd name="textAreaBottom" fmla="*/ 2360520 h 236052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5239800" y="2735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7790760" y="2712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3836880" y="4048200"/>
            <a:ext cx="2989440" cy="144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6864480" y="4043520"/>
            <a:ext cx="1974600" cy="144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22"/>
          <p:cNvGraphicFramePr/>
          <p:nvPr/>
        </p:nvGraphicFramePr>
        <p:xfrm>
          <a:off x="4584600" y="1900080"/>
          <a:ext cx="1521000" cy="370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00" name="Object 2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84600" y="1900080"/>
                    <a:ext cx="15210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Oval 23"/>
          <p:cNvSpPr/>
          <p:nvPr/>
        </p:nvSpPr>
        <p:spPr>
          <a:xfrm>
            <a:off x="6780240" y="4148280"/>
            <a:ext cx="1015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5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Копия k2"/>
          <p:cNvPicPr/>
          <p:nvPr/>
        </p:nvPicPr>
        <p:blipFill>
          <a:blip r:embed="rId1"/>
          <a:stretch/>
        </p:blipFill>
        <p:spPr>
          <a:xfrm>
            <a:off x="4094280" y="1596960"/>
            <a:ext cx="5049720" cy="48578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3"/>
          <p:cNvSpPr/>
          <p:nvPr/>
        </p:nvSpPr>
        <p:spPr>
          <a:xfrm>
            <a:off x="1292400" y="1190520"/>
            <a:ext cx="4701960" cy="595440"/>
          </a:xfrm>
          <a:prstGeom prst="rect">
            <a:avLst/>
          </a:prstGeom>
          <a:gradFill rotWithShape="0">
            <a:gsLst>
              <a:gs pos="0">
                <a:srgbClr val="ff8b8b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784080" y="4933800"/>
            <a:ext cx="2232000" cy="290520"/>
          </a:xfrm>
          <a:prstGeom prst="parallelogram">
            <a:avLst>
              <a:gd name="adj" fmla="val 192069"/>
            </a:avLst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3232"/>
                </a:solidFill>
                <a:latin typeface="Arial"/>
              </a:rPr>
              <a:t>Решить неравенство:</a:t>
            </a:r>
            <a:endParaRPr b="0" lang="en-US" sz="3400" spc="-1" strike="noStrike">
              <a:solidFill>
                <a:srgbClr val="323232"/>
              </a:solidFill>
              <a:latin typeface="Arial"/>
            </a:endParaRPr>
          </a:p>
        </p:txBody>
      </p:sp>
      <p:graphicFrame>
        <p:nvGraphicFramePr>
          <p:cNvPr id="306" name="Object 6"/>
          <p:cNvGraphicFramePr/>
          <p:nvPr/>
        </p:nvGraphicFramePr>
        <p:xfrm>
          <a:off x="1258920" y="1197000"/>
          <a:ext cx="2543040" cy="56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197000"/>
                    <a:ext cx="25430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1496880" y="3073320"/>
          <a:ext cx="890640" cy="40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6880" y="3073320"/>
                    <a:ext cx="8906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849240" y="2295360"/>
          <a:ext cx="261468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9240" y="2295360"/>
                    <a:ext cx="26146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9"/>
          <p:cNvGraphicFramePr/>
          <p:nvPr/>
        </p:nvGraphicFramePr>
        <p:xfrm>
          <a:off x="3851280" y="1197000"/>
          <a:ext cx="2160720" cy="56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1280" y="1197000"/>
                    <a:ext cx="21607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0"/>
          <p:cNvGraphicFramePr/>
          <p:nvPr/>
        </p:nvGraphicFramePr>
        <p:xfrm>
          <a:off x="1461960" y="4741920"/>
          <a:ext cx="80640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5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61960" y="4741920"/>
                    <a:ext cx="8064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Rectangle 11"/>
          <p:cNvSpPr/>
          <p:nvPr/>
        </p:nvSpPr>
        <p:spPr>
          <a:xfrm>
            <a:off x="4059360" y="1973160"/>
            <a:ext cx="4719600" cy="2718000"/>
          </a:xfrm>
          <a:prstGeom prst="rect">
            <a:avLst/>
          </a:prstGeom>
          <a:solidFill>
            <a:srgbClr val="f07f0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2"/>
          <p:cNvSpPr/>
          <p:nvPr/>
        </p:nvSpPr>
        <p:spPr>
          <a:xfrm flipV="1">
            <a:off x="5553000" y="1958400"/>
            <a:ext cx="1594080" cy="2725560"/>
          </a:xfrm>
          <a:custGeom>
            <a:avLst/>
            <a:gdLst>
              <a:gd name="textAreaLeft" fmla="*/ 0 w 1594080"/>
              <a:gd name="textAreaRight" fmla="*/ 1594440 w 1594080"/>
              <a:gd name="textAreaTop" fmla="*/ -360 h 2725560"/>
              <a:gd name="textAreaBottom" fmla="*/ 2725560 h 272556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5133240" y="3286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7830360" y="3276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15"/>
          <p:cNvGraphicFramePr/>
          <p:nvPr/>
        </p:nvGraphicFramePr>
        <p:xfrm>
          <a:off x="4056120" y="2208240"/>
          <a:ext cx="1500120" cy="36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1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56120" y="2208240"/>
                    <a:ext cx="15001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16"/>
          <p:cNvSpPr/>
          <p:nvPr/>
        </p:nvSpPr>
        <p:spPr>
          <a:xfrm>
            <a:off x="1126080" y="43657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9f25"/>
                </a:solidFill>
                <a:latin typeface="Tahoma"/>
              </a:rPr>
              <a:t>Нет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4052880" y="4800600"/>
            <a:ext cx="4710240" cy="1573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k3"/>
          <p:cNvPicPr/>
          <p:nvPr/>
        </p:nvPicPr>
        <p:blipFill>
          <a:blip r:embed="rId1"/>
          <a:stretch/>
        </p:blipFill>
        <p:spPr>
          <a:xfrm>
            <a:off x="4113360" y="1862280"/>
            <a:ext cx="4709880" cy="47545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1292400" y="1190520"/>
            <a:ext cx="4701960" cy="595440"/>
          </a:xfrm>
          <a:prstGeom prst="rect">
            <a:avLst/>
          </a:prstGeom>
          <a:gradFill rotWithShape="0">
            <a:gsLst>
              <a:gs pos="0">
                <a:srgbClr val="ff8b8b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784080" y="4933800"/>
            <a:ext cx="2232000" cy="290520"/>
          </a:xfrm>
          <a:prstGeom prst="parallelogram">
            <a:avLst>
              <a:gd name="adj" fmla="val 192069"/>
            </a:avLst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3232"/>
                </a:solidFill>
                <a:latin typeface="Arial"/>
              </a:rPr>
              <a:t>Решить неравенство:</a:t>
            </a:r>
            <a:endParaRPr b="0" lang="en-US" sz="3400" spc="-1" strike="noStrike">
              <a:solidFill>
                <a:srgbClr val="323232"/>
              </a:solidFill>
              <a:latin typeface="Arial"/>
            </a:endParaRPr>
          </a:p>
        </p:txBody>
      </p:sp>
      <p:graphicFrame>
        <p:nvGraphicFramePr>
          <p:cNvPr id="328" name="Object 6"/>
          <p:cNvGraphicFramePr/>
          <p:nvPr/>
        </p:nvGraphicFramePr>
        <p:xfrm>
          <a:off x="1465200" y="1193760"/>
          <a:ext cx="25434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5200" y="1193760"/>
                    <a:ext cx="2543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7"/>
          <p:cNvGraphicFramePr/>
          <p:nvPr/>
        </p:nvGraphicFramePr>
        <p:xfrm>
          <a:off x="1496880" y="3073320"/>
          <a:ext cx="890640" cy="40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6880" y="3073320"/>
                    <a:ext cx="8906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8"/>
          <p:cNvGraphicFramePr/>
          <p:nvPr/>
        </p:nvGraphicFramePr>
        <p:xfrm>
          <a:off x="722160" y="2295360"/>
          <a:ext cx="286884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2160" y="2295360"/>
                    <a:ext cx="28688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9"/>
          <p:cNvGraphicFramePr/>
          <p:nvPr/>
        </p:nvGraphicFramePr>
        <p:xfrm>
          <a:off x="755640" y="1773360"/>
          <a:ext cx="2793960" cy="56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5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1773360"/>
                    <a:ext cx="27939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0"/>
          <p:cNvGraphicFramePr/>
          <p:nvPr/>
        </p:nvGraphicFramePr>
        <p:xfrm>
          <a:off x="1461960" y="4741920"/>
          <a:ext cx="80640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7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61960" y="4741920"/>
                    <a:ext cx="8064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11"/>
          <p:cNvSpPr/>
          <p:nvPr/>
        </p:nvSpPr>
        <p:spPr>
          <a:xfrm>
            <a:off x="4102200" y="3860640"/>
            <a:ext cx="4573440" cy="2573640"/>
          </a:xfrm>
          <a:prstGeom prst="rect">
            <a:avLst/>
          </a:prstGeom>
          <a:solidFill>
            <a:srgbClr val="f07f0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2"/>
          <p:cNvSpPr/>
          <p:nvPr/>
        </p:nvSpPr>
        <p:spPr>
          <a:xfrm>
            <a:off x="5624640" y="3855960"/>
            <a:ext cx="1506240" cy="2557440"/>
          </a:xfrm>
          <a:custGeom>
            <a:avLst/>
            <a:gdLst>
              <a:gd name="textAreaLeft" fmla="*/ 0 w 1506240"/>
              <a:gd name="textAreaRight" fmla="*/ 1506600 w 1506240"/>
              <a:gd name="textAreaTop" fmla="*/ 0 h 2557440"/>
              <a:gd name="textAreaBottom" fmla="*/ 2557800 h 255744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4736160" y="454176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9f25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7550640" y="448956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9f25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15"/>
          <p:cNvGraphicFramePr/>
          <p:nvPr/>
        </p:nvGraphicFramePr>
        <p:xfrm>
          <a:off x="7018200" y="5270400"/>
          <a:ext cx="1644840" cy="370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3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18200" y="5270400"/>
                    <a:ext cx="16448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16"/>
          <p:cNvSpPr/>
          <p:nvPr/>
        </p:nvSpPr>
        <p:spPr>
          <a:xfrm>
            <a:off x="1054800" y="429264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9f25"/>
                </a:solidFill>
                <a:latin typeface="Tahoma"/>
              </a:rPr>
              <a:t>Нет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4140360" y="3378240"/>
            <a:ext cx="4535280" cy="1569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45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00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500"/>
                            </p:stCondLst>
                            <p:childTnLst>
                              <p:par>
                                <p:cTn id="9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55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Для решения неравенств вида  </a:t>
            </a:r>
            <a:r>
              <a:rPr b="1" i="1" lang="ru-RU" sz="2400" spc="-1" strike="noStrike">
                <a:solidFill>
                  <a:srgbClr val="323232"/>
                </a:solidFill>
                <a:latin typeface="Times New Roman"/>
              </a:rPr>
              <a:t>ах</a:t>
            </a:r>
            <a:r>
              <a:rPr b="1" i="1" lang="en-US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+ вх +с </a:t>
            </a:r>
            <a:r>
              <a:rPr b="1" i="1" lang="en-US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23232"/>
                </a:solidFill>
                <a:latin typeface="Times New Roman"/>
              </a:rPr>
              <a:t>ах</a:t>
            </a:r>
            <a:r>
              <a:rPr b="1" i="1" lang="en-US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+ вх +с </a:t>
            </a:r>
            <a:r>
              <a:rPr b="1" lang="en-US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0</a:t>
            </a:r>
            <a:r>
              <a:rPr b="1" i="1" lang="ru-RU" sz="2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поступают следующим образом: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ходят дискриминант квадратного трехчлена и выясняют, имеет ли трехчлен кор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трехчлен имеет корни, то отмечают их на ос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через отмеченные точки проводят схематически параболу, ветви которой направлены вверх при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низ пр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если трехчлен не имеет корней, то схематически изображают параболу, расположенную в верхней полуплоскости пр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нижней пр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6b9f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ят на оси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межутки, для которых точки параболы расположены выше ос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если решают неравенство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вх +с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иже ос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ли решают неравенство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вх +с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23232"/>
                </a:solidFill>
                <a:latin typeface="Arial"/>
              </a:rPr>
              <a:t>  </a:t>
            </a:r>
            <a:br>
              <a:rPr sz="1600"/>
            </a:br>
            <a:endParaRPr b="0" lang="en-US" sz="1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741348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втор составитель: учитель высшей категории М.Н.Ковш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281120" y="623736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3333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ЕШЕНИЕ НЕРАВЕНСТВ ВТОРОЙ СТЕПЕНИ С ОДНОЙ ПЕРЕ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Times New Roman"/>
              </a:rPr>
              <a:t>СПИСОК </a:t>
            </a:r>
            <a:br>
              <a:rPr sz="2800"/>
            </a:br>
            <a:r>
              <a:rPr b="1" lang="en-US" sz="2800" spc="-1" strike="noStrike">
                <a:solidFill>
                  <a:srgbClr val="323232"/>
                </a:solidFill>
                <a:latin typeface="Times New Roman"/>
              </a:rPr>
              <a:t>ИСПОЛЬЗУЕМОЙ ЛИТЕРАТУРЫ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ГЕБРА. Учебник для  9 класса общеобразовательных учреждений под редакцией  С.А. Теляковского. Авторы: Ю.Н. Макарычев, И.Г. Миндюк, К.И. Нешков, С.Б. Суворова. Москва «Просвещение»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гебра. Поурочные планы по учебник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.Н. Макарычев и др./ авт.-сост. С.П. Ковалева.-Волгоград: Учитель, 2005. – 316с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B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5-7057-0666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Цель:</a:t>
            </a: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мения решать нераве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вх +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вх +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вх +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вх +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а ≠ 0, с опорой на сведения о графике квадратичной функции (направление ветвей параболы, ее расположение относительно оси 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Устная работа</a:t>
            </a: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6288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ожно сказать о количестве корней уравн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вх +с =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знаке коэффициента  а, если график функции   у 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вх +с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k1"/>
          <p:cNvPicPr/>
          <p:nvPr/>
        </p:nvPicPr>
        <p:blipFill>
          <a:blip r:embed="rId1"/>
          <a:stretch/>
        </p:blipFill>
        <p:spPr>
          <a:xfrm>
            <a:off x="2268360" y="2421000"/>
            <a:ext cx="4319640" cy="4094280"/>
          </a:xfrm>
          <a:prstGeom prst="rect">
            <a:avLst/>
          </a:prstGeom>
          <a:ln w="0">
            <a:noFill/>
          </a:ln>
        </p:spPr>
      </p:pic>
      <p:sp>
        <p:nvSpPr>
          <p:cNvPr id="108" name="Freeform 5"/>
          <p:cNvSpPr/>
          <p:nvPr/>
        </p:nvSpPr>
        <p:spPr>
          <a:xfrm flipV="1">
            <a:off x="4284720" y="2781360"/>
            <a:ext cx="1871640" cy="2287440"/>
          </a:xfrm>
          <a:custGeom>
            <a:avLst/>
            <a:gdLst>
              <a:gd name="textAreaLeft" fmla="*/ 0 w 1871640"/>
              <a:gd name="textAreaRight" fmla="*/ 1872000 w 1871640"/>
              <a:gd name="textAreaTop" fmla="*/ 360 h 2287440"/>
              <a:gd name="textAreaBottom" fmla="*/ 2288160 h 228744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"/>
          <p:cNvSpPr/>
          <p:nvPr/>
        </p:nvSpPr>
        <p:spPr>
          <a:xfrm flipV="1" rot="10638000">
            <a:off x="4716360" y="4653000"/>
            <a:ext cx="1100160" cy="1441440"/>
          </a:xfrm>
          <a:custGeom>
            <a:avLst/>
            <a:gdLst>
              <a:gd name="textAreaLeft" fmla="*/ 0 w 1100160"/>
              <a:gd name="textAreaRight" fmla="*/ 1100520 w 1100160"/>
              <a:gd name="textAreaTop" fmla="*/ 360 h 1441440"/>
              <a:gd name="textAreaBottom" fmla="*/ 1442160 h 144144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"/>
          <p:cNvSpPr/>
          <p:nvPr/>
        </p:nvSpPr>
        <p:spPr>
          <a:xfrm flipV="1">
            <a:off x="4788000" y="3068640"/>
            <a:ext cx="1079280" cy="1225440"/>
          </a:xfrm>
          <a:custGeom>
            <a:avLst/>
            <a:gdLst>
              <a:gd name="textAreaLeft" fmla="*/ 0 w 1079280"/>
              <a:gd name="textAreaRight" fmla="*/ 1079640 w 1079280"/>
              <a:gd name="textAreaTop" fmla="*/ 360 h 1225440"/>
              <a:gd name="textAreaBottom" fmla="*/ 1226160 h 122544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"/>
          <p:cNvSpPr/>
          <p:nvPr/>
        </p:nvSpPr>
        <p:spPr>
          <a:xfrm flipV="1" rot="10783200">
            <a:off x="2917440" y="4434480"/>
            <a:ext cx="1100160" cy="1728720"/>
          </a:xfrm>
          <a:custGeom>
            <a:avLst/>
            <a:gdLst>
              <a:gd name="textAreaLeft" fmla="*/ 0 w 1100160"/>
              <a:gd name="textAreaRight" fmla="*/ 1100520 w 1100160"/>
              <a:gd name="textAreaTop" fmla="*/ 360 h 1728720"/>
              <a:gd name="textAreaBottom" fmla="*/ 1729440 h 172872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Устная работа</a:t>
            </a:r>
            <a:endParaRPr b="0" lang="en-US" sz="4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6288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овите промежутки знакопостоянства функции  у 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+ вх +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ее графи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ложен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k1"/>
          <p:cNvPicPr/>
          <p:nvPr/>
        </p:nvPicPr>
        <p:blipFill>
          <a:blip r:embed="rId1"/>
          <a:stretch/>
        </p:blipFill>
        <p:spPr>
          <a:xfrm>
            <a:off x="2268360" y="2352600"/>
            <a:ext cx="4391280" cy="41626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6"/>
          <p:cNvSpPr/>
          <p:nvPr/>
        </p:nvSpPr>
        <p:spPr>
          <a:xfrm flipV="1" rot="10714200">
            <a:off x="4498200" y="3929760"/>
            <a:ext cx="1800360" cy="187344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1873440"/>
              <a:gd name="textAreaBottom" fmla="*/ 1874160 h 187344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"/>
          <p:cNvSpPr/>
          <p:nvPr/>
        </p:nvSpPr>
        <p:spPr>
          <a:xfrm flipV="1">
            <a:off x="2771640" y="2924280"/>
            <a:ext cx="1079640" cy="1225440"/>
          </a:xfrm>
          <a:custGeom>
            <a:avLst/>
            <a:gdLst>
              <a:gd name="textAreaLeft" fmla="*/ 0 w 1079640"/>
              <a:gd name="textAreaRight" fmla="*/ 1080000 w 1079640"/>
              <a:gd name="textAreaTop" fmla="*/ 360 h 1225440"/>
              <a:gd name="textAreaBottom" fmla="*/ 1226160 h 122544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8"/>
          <p:cNvSpPr/>
          <p:nvPr/>
        </p:nvSpPr>
        <p:spPr>
          <a:xfrm flipV="1">
            <a:off x="4788000" y="3141720"/>
            <a:ext cx="934920" cy="1279440"/>
          </a:xfrm>
          <a:custGeom>
            <a:avLst/>
            <a:gdLst>
              <a:gd name="textAreaLeft" fmla="*/ 0 w 934920"/>
              <a:gd name="textAreaRight" fmla="*/ 935280 w 934920"/>
              <a:gd name="textAreaTop" fmla="*/ 0 h 1279440"/>
              <a:gd name="textAreaBottom" fmla="*/ 1279440 h 127944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k1"/>
          <p:cNvPicPr/>
          <p:nvPr/>
        </p:nvPicPr>
        <p:blipFill>
          <a:blip r:embed="rId1"/>
          <a:stretch/>
        </p:blipFill>
        <p:spPr>
          <a:xfrm>
            <a:off x="3546360" y="1557360"/>
            <a:ext cx="5597640" cy="5305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1292400" y="1190520"/>
            <a:ext cx="4701960" cy="595440"/>
          </a:xfrm>
          <a:prstGeom prst="rect">
            <a:avLst/>
          </a:prstGeom>
          <a:gradFill rotWithShape="0">
            <a:gsLst>
              <a:gs pos="0">
                <a:srgbClr val="ff8b8b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28800" y="5661000"/>
            <a:ext cx="1842840" cy="595440"/>
          </a:xfrm>
          <a:prstGeom prst="rect">
            <a:avLst/>
          </a:prstGeom>
          <a:solidFill>
            <a:srgbClr val="ffe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784080" y="4933800"/>
            <a:ext cx="2044800" cy="290520"/>
          </a:xfrm>
          <a:prstGeom prst="parallelogram">
            <a:avLst>
              <a:gd name="adj" fmla="val 175960"/>
            </a:avLst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3232"/>
                </a:solidFill>
                <a:latin typeface="Times New Roman"/>
              </a:rPr>
              <a:t>Решить неравенство:</a:t>
            </a:r>
            <a:endParaRPr b="0" lang="en-US" sz="3400" spc="-1" strike="noStrike">
              <a:solidFill>
                <a:srgbClr val="323232"/>
              </a:solidFill>
              <a:latin typeface="Arial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1258920" y="1197000"/>
          <a:ext cx="2684520" cy="56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197000"/>
                    <a:ext cx="26845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8"/>
          <p:cNvGraphicFramePr/>
          <p:nvPr/>
        </p:nvGraphicFramePr>
        <p:xfrm>
          <a:off x="866880" y="3159000"/>
          <a:ext cx="2038320" cy="51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6880" y="3159000"/>
                    <a:ext cx="203832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9"/>
          <p:cNvGraphicFramePr/>
          <p:nvPr/>
        </p:nvGraphicFramePr>
        <p:xfrm>
          <a:off x="676440" y="2279520"/>
          <a:ext cx="275904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8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6440" y="2279520"/>
                    <a:ext cx="27590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Oval 10"/>
          <p:cNvSpPr/>
          <p:nvPr/>
        </p:nvSpPr>
        <p:spPr>
          <a:xfrm>
            <a:off x="6781680" y="4152960"/>
            <a:ext cx="10188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1"/>
          <p:cNvSpPr/>
          <p:nvPr/>
        </p:nvSpPr>
        <p:spPr>
          <a:xfrm flipV="1">
            <a:off x="6838920" y="4190400"/>
            <a:ext cx="984240" cy="981000"/>
          </a:xfrm>
          <a:custGeom>
            <a:avLst/>
            <a:gdLst>
              <a:gd name="textAreaLeft" fmla="*/ 0 w 984240"/>
              <a:gd name="textAreaRight" fmla="*/ 984600 w 984240"/>
              <a:gd name="textAreaTop" fmla="*/ -360 h 981000"/>
              <a:gd name="textAreaBottom" fmla="*/ 981000 h 981000"/>
            </a:gdLst>
            <a:ahLst/>
            <a:rect l="textAreaLeft" t="textAreaTop" r="textAreaRight" b="textAreaBottom"/>
            <a:pathLst>
              <a:path w="500" h="496">
                <a:moveTo>
                  <a:pt x="0" y="496"/>
                </a:moveTo>
                <a:lnTo>
                  <a:pt x="44" y="340"/>
                </a:lnTo>
                <a:lnTo>
                  <a:pt x="100" y="160"/>
                </a:lnTo>
                <a:lnTo>
                  <a:pt x="160" y="52"/>
                </a:lnTo>
                <a:lnTo>
                  <a:pt x="208" y="16"/>
                </a:lnTo>
                <a:lnTo>
                  <a:pt x="240" y="0"/>
                </a:lnTo>
                <a:lnTo>
                  <a:pt x="280" y="8"/>
                </a:lnTo>
                <a:lnTo>
                  <a:pt x="320" y="60"/>
                </a:lnTo>
                <a:lnTo>
                  <a:pt x="364" y="128"/>
                </a:lnTo>
                <a:lnTo>
                  <a:pt x="420" y="228"/>
                </a:lnTo>
                <a:lnTo>
                  <a:pt x="444" y="316"/>
                </a:lnTo>
                <a:lnTo>
                  <a:pt x="480" y="428"/>
                </a:lnTo>
                <a:lnTo>
                  <a:pt x="500" y="496"/>
                </a:lnTo>
                <a:lnTo>
                  <a:pt x="0" y="496"/>
                </a:lnTo>
                <a:close/>
              </a:path>
            </a:pathLst>
          </a:custGeom>
          <a:solidFill>
            <a:srgbClr val="f07f09">
              <a:alpha val="2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7791480" y="4152960"/>
            <a:ext cx="10152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7161480" y="428148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4"/>
          <p:cNvSpPr/>
          <p:nvPr/>
        </p:nvSpPr>
        <p:spPr>
          <a:xfrm flipV="1">
            <a:off x="6548400" y="1823400"/>
            <a:ext cx="1554120" cy="3328920"/>
          </a:xfrm>
          <a:custGeom>
            <a:avLst/>
            <a:gdLst>
              <a:gd name="textAreaLeft" fmla="*/ 0 w 1554120"/>
              <a:gd name="textAreaRight" fmla="*/ 1554480 w 1554120"/>
              <a:gd name="textAreaTop" fmla="*/ -360 h 3328920"/>
              <a:gd name="textAreaBottom" fmla="*/ 3328920 h 332892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6835680" y="4035600"/>
            <a:ext cx="1001880" cy="144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6"/>
          <p:cNvGraphicFramePr/>
          <p:nvPr/>
        </p:nvGraphicFramePr>
        <p:xfrm>
          <a:off x="1212840" y="4761000"/>
          <a:ext cx="1263600" cy="4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2840" y="4761000"/>
                    <a:ext cx="1263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7048440" y="5199120"/>
          <a:ext cx="1581120" cy="36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48440" y="5199120"/>
                    <a:ext cx="15811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8"/>
          <p:cNvGraphicFramePr/>
          <p:nvPr/>
        </p:nvGraphicFramePr>
        <p:xfrm>
          <a:off x="1179360" y="5661000"/>
          <a:ext cx="1478160" cy="64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79360" y="5661000"/>
                    <a:ext cx="1478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9"/>
          <p:cNvGraphicFramePr/>
          <p:nvPr/>
        </p:nvGraphicFramePr>
        <p:xfrm>
          <a:off x="3995640" y="1197000"/>
          <a:ext cx="1944720" cy="56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95640" y="1197000"/>
                    <a:ext cx="19447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0"/>
          <p:cNvGraphicFramePr/>
          <p:nvPr/>
        </p:nvGraphicFramePr>
        <p:xfrm>
          <a:off x="1220760" y="4781520"/>
          <a:ext cx="1263600" cy="45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20760" y="4781520"/>
                    <a:ext cx="1263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1"/>
          <p:cNvGraphicFramePr/>
          <p:nvPr/>
        </p:nvGraphicFramePr>
        <p:xfrm>
          <a:off x="1219320" y="5681520"/>
          <a:ext cx="1414440" cy="64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6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19320" y="5681520"/>
                    <a:ext cx="14144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22"/>
          <p:cNvSpPr/>
          <p:nvPr/>
        </p:nvSpPr>
        <p:spPr>
          <a:xfrm>
            <a:off x="4930200" y="2735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8301960" y="2712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k1"/>
          <p:cNvPicPr/>
          <p:nvPr/>
        </p:nvPicPr>
        <p:blipFill>
          <a:blip r:embed="rId1"/>
          <a:stretch/>
        </p:blipFill>
        <p:spPr>
          <a:xfrm>
            <a:off x="3546360" y="1557360"/>
            <a:ext cx="5597640" cy="53053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1292400" y="1190520"/>
            <a:ext cx="4701960" cy="595440"/>
          </a:xfrm>
          <a:prstGeom prst="rect">
            <a:avLst/>
          </a:prstGeom>
          <a:gradFill rotWithShape="0">
            <a:gsLst>
              <a:gs pos="0">
                <a:srgbClr val="ff8b8b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06440" y="5675400"/>
            <a:ext cx="3003480" cy="581040"/>
          </a:xfrm>
          <a:prstGeom prst="rect">
            <a:avLst/>
          </a:prstGeom>
          <a:solidFill>
            <a:srgbClr val="ffe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784080" y="4933800"/>
            <a:ext cx="2232000" cy="290520"/>
          </a:xfrm>
          <a:prstGeom prst="parallelogram">
            <a:avLst>
              <a:gd name="adj" fmla="val 192069"/>
            </a:avLst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3232"/>
                </a:solidFill>
                <a:latin typeface="Times New Roman"/>
              </a:rPr>
              <a:t>Решить неравенство:</a:t>
            </a:r>
            <a:endParaRPr b="0" lang="en-US" sz="3400" spc="-1" strike="noStrike">
              <a:solidFill>
                <a:srgbClr val="323232"/>
              </a:solidFill>
              <a:latin typeface="Arial"/>
            </a:endParaRPr>
          </a:p>
        </p:txBody>
      </p:sp>
      <p:graphicFrame>
        <p:nvGraphicFramePr>
          <p:cNvPr id="154" name="Object 7"/>
          <p:cNvGraphicFramePr/>
          <p:nvPr/>
        </p:nvGraphicFramePr>
        <p:xfrm>
          <a:off x="1395360" y="1168560"/>
          <a:ext cx="2684520" cy="56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5360" y="1168560"/>
                    <a:ext cx="268452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8"/>
          <p:cNvGraphicFramePr/>
          <p:nvPr/>
        </p:nvGraphicFramePr>
        <p:xfrm>
          <a:off x="923760" y="3232080"/>
          <a:ext cx="2038680" cy="51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3760" y="3232080"/>
                    <a:ext cx="2038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9"/>
          <p:cNvGraphicFramePr/>
          <p:nvPr/>
        </p:nvGraphicFramePr>
        <p:xfrm>
          <a:off x="777960" y="2295360"/>
          <a:ext cx="275904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7960" y="2295360"/>
                    <a:ext cx="27590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Oval 10"/>
          <p:cNvSpPr/>
          <p:nvPr/>
        </p:nvSpPr>
        <p:spPr>
          <a:xfrm>
            <a:off x="6781680" y="4152960"/>
            <a:ext cx="10188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7791480" y="4152960"/>
            <a:ext cx="10152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148880" y="435276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13"/>
          <p:cNvGraphicFramePr/>
          <p:nvPr/>
        </p:nvGraphicFramePr>
        <p:xfrm>
          <a:off x="996840" y="4761000"/>
          <a:ext cx="1695600" cy="45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4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6840" y="4761000"/>
                    <a:ext cx="1695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4"/>
          <p:cNvGraphicFramePr/>
          <p:nvPr/>
        </p:nvGraphicFramePr>
        <p:xfrm>
          <a:off x="6961320" y="5170320"/>
          <a:ext cx="1582560" cy="37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6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961320" y="5170320"/>
                    <a:ext cx="15825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5"/>
          <p:cNvGraphicFramePr/>
          <p:nvPr/>
        </p:nvGraphicFramePr>
        <p:xfrm>
          <a:off x="474840" y="5719680"/>
          <a:ext cx="2914560" cy="554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4840" y="5719680"/>
                    <a:ext cx="29145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4067280" y="1197000"/>
          <a:ext cx="2687400" cy="565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67280" y="1197000"/>
                    <a:ext cx="26874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7"/>
          <p:cNvGraphicFramePr/>
          <p:nvPr/>
        </p:nvGraphicFramePr>
        <p:xfrm>
          <a:off x="1001880" y="4751280"/>
          <a:ext cx="1638000" cy="459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2" name="Object 1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01880" y="4751280"/>
                    <a:ext cx="16380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8"/>
          <p:cNvGraphicFramePr/>
          <p:nvPr/>
        </p:nvGraphicFramePr>
        <p:xfrm>
          <a:off x="500040" y="5746680"/>
          <a:ext cx="281952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4" name="Object 1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0040" y="5746680"/>
                    <a:ext cx="2819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19"/>
          <p:cNvSpPr/>
          <p:nvPr/>
        </p:nvSpPr>
        <p:spPr>
          <a:xfrm flipV="1">
            <a:off x="3860640" y="1840320"/>
            <a:ext cx="2961000" cy="2351160"/>
          </a:xfrm>
          <a:custGeom>
            <a:avLst/>
            <a:gdLst>
              <a:gd name="textAreaLeft" fmla="*/ 0 w 2961000"/>
              <a:gd name="textAreaRight" fmla="*/ 2961360 w 2961000"/>
              <a:gd name="textAreaTop" fmla="*/ -360 h 2351160"/>
              <a:gd name="textAreaBottom" fmla="*/ 2351160 h 2351160"/>
            </a:gdLst>
            <a:ahLst/>
            <a:rect l="textAreaLeft" t="textAreaTop" r="textAreaRight" b="textAreaBottom"/>
            <a:pathLst>
              <a:path w="1865" h="1491">
                <a:moveTo>
                  <a:pt x="0" y="1491"/>
                </a:moveTo>
                <a:lnTo>
                  <a:pt x="1691" y="1491"/>
                </a:lnTo>
                <a:lnTo>
                  <a:pt x="1737" y="933"/>
                </a:lnTo>
                <a:lnTo>
                  <a:pt x="1774" y="595"/>
                </a:lnTo>
                <a:lnTo>
                  <a:pt x="1819" y="275"/>
                </a:lnTo>
                <a:lnTo>
                  <a:pt x="1847" y="83"/>
                </a:lnTo>
                <a:lnTo>
                  <a:pt x="1865" y="0"/>
                </a:lnTo>
                <a:lnTo>
                  <a:pt x="0" y="9"/>
                </a:lnTo>
                <a:lnTo>
                  <a:pt x="0" y="1491"/>
                </a:lnTo>
                <a:close/>
              </a:path>
            </a:pathLst>
          </a:custGeom>
          <a:solidFill>
            <a:srgbClr val="f07f0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0"/>
          <p:cNvSpPr/>
          <p:nvPr/>
        </p:nvSpPr>
        <p:spPr>
          <a:xfrm flipV="1">
            <a:off x="7837560" y="1843200"/>
            <a:ext cx="1001520" cy="2350800"/>
          </a:xfrm>
          <a:custGeom>
            <a:avLst/>
            <a:gdLst>
              <a:gd name="textAreaLeft" fmla="*/ 0 w 1001520"/>
              <a:gd name="textAreaRight" fmla="*/ 1001880 w 1001520"/>
              <a:gd name="textAreaTop" fmla="*/ 360 h 2350800"/>
              <a:gd name="textAreaBottom" fmla="*/ 2351520 h 2350800"/>
            </a:gdLst>
            <a:ahLst/>
            <a:rect l="textAreaLeft" t="textAreaTop" r="textAreaRight" b="textAreaBottom"/>
            <a:pathLst>
              <a:path w="631" h="1491">
                <a:moveTo>
                  <a:pt x="165" y="1491"/>
                </a:moveTo>
                <a:lnTo>
                  <a:pt x="631" y="1481"/>
                </a:lnTo>
                <a:lnTo>
                  <a:pt x="631" y="0"/>
                </a:lnTo>
                <a:lnTo>
                  <a:pt x="0" y="0"/>
                </a:lnTo>
                <a:lnTo>
                  <a:pt x="37" y="238"/>
                </a:lnTo>
                <a:lnTo>
                  <a:pt x="82" y="558"/>
                </a:lnTo>
                <a:lnTo>
                  <a:pt x="110" y="841"/>
                </a:lnTo>
                <a:lnTo>
                  <a:pt x="137" y="1143"/>
                </a:lnTo>
                <a:lnTo>
                  <a:pt x="165" y="1491"/>
                </a:lnTo>
                <a:close/>
              </a:path>
            </a:pathLst>
          </a:custGeom>
          <a:solidFill>
            <a:srgbClr val="f07f0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1"/>
          <p:cNvSpPr/>
          <p:nvPr/>
        </p:nvSpPr>
        <p:spPr>
          <a:xfrm flipV="1">
            <a:off x="6548400" y="1838160"/>
            <a:ext cx="1554120" cy="3316320"/>
          </a:xfrm>
          <a:custGeom>
            <a:avLst/>
            <a:gdLst>
              <a:gd name="textAreaLeft" fmla="*/ 0 w 1554120"/>
              <a:gd name="textAreaRight" fmla="*/ 1554480 w 1554120"/>
              <a:gd name="textAreaTop" fmla="*/ 360 h 3316320"/>
              <a:gd name="textAreaBottom" fmla="*/ 3317040 h 331632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4930200" y="2735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8301960" y="2712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4"/>
          <p:cNvSpPr/>
          <p:nvPr/>
        </p:nvSpPr>
        <p:spPr>
          <a:xfrm>
            <a:off x="3846600" y="4035600"/>
            <a:ext cx="2989080" cy="1443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5"/>
          <p:cNvSpPr/>
          <p:nvPr/>
        </p:nvSpPr>
        <p:spPr>
          <a:xfrm>
            <a:off x="7843680" y="4041720"/>
            <a:ext cx="1001880" cy="144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k1"/>
          <p:cNvPicPr/>
          <p:nvPr/>
        </p:nvPicPr>
        <p:blipFill>
          <a:blip r:embed="rId1"/>
          <a:stretch/>
        </p:blipFill>
        <p:spPr>
          <a:xfrm>
            <a:off x="3546360" y="1557360"/>
            <a:ext cx="5597640" cy="5305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1292400" y="1190520"/>
            <a:ext cx="4701960" cy="595440"/>
          </a:xfrm>
          <a:prstGeom prst="rect">
            <a:avLst/>
          </a:prstGeom>
          <a:gradFill rotWithShape="0">
            <a:gsLst>
              <a:gs pos="0">
                <a:srgbClr val="ff8b8b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28800" y="5661000"/>
            <a:ext cx="1842840" cy="595440"/>
          </a:xfrm>
          <a:prstGeom prst="rect">
            <a:avLst/>
          </a:prstGeom>
          <a:solidFill>
            <a:srgbClr val="ffe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784080" y="4933800"/>
            <a:ext cx="2044800" cy="290520"/>
          </a:xfrm>
          <a:prstGeom prst="parallelogram">
            <a:avLst>
              <a:gd name="adj" fmla="val 175960"/>
            </a:avLst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3232"/>
                </a:solidFill>
                <a:latin typeface="Times New Roman"/>
              </a:rPr>
              <a:t>Решить неравенство:</a:t>
            </a:r>
            <a:endParaRPr b="0" lang="en-US" sz="3400" spc="-1" strike="noStrike">
              <a:solidFill>
                <a:srgbClr val="323232"/>
              </a:solidFill>
              <a:latin typeface="Arial"/>
            </a:endParaRPr>
          </a:p>
        </p:txBody>
      </p:sp>
      <p:graphicFrame>
        <p:nvGraphicFramePr>
          <p:cNvPr id="187" name="Object 7"/>
          <p:cNvGraphicFramePr/>
          <p:nvPr/>
        </p:nvGraphicFramePr>
        <p:xfrm>
          <a:off x="1270080" y="1168560"/>
          <a:ext cx="2935080" cy="56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080" y="1168560"/>
                    <a:ext cx="293508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8"/>
          <p:cNvGraphicFramePr/>
          <p:nvPr/>
        </p:nvGraphicFramePr>
        <p:xfrm>
          <a:off x="542880" y="2141640"/>
          <a:ext cx="3013200" cy="58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2880" y="2141640"/>
                    <a:ext cx="3013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9"/>
          <p:cNvGraphicFramePr/>
          <p:nvPr/>
        </p:nvGraphicFramePr>
        <p:xfrm>
          <a:off x="1112760" y="3681360"/>
          <a:ext cx="2038320" cy="5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2760" y="3681360"/>
                    <a:ext cx="2038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0"/>
          <p:cNvGraphicFramePr/>
          <p:nvPr/>
        </p:nvGraphicFramePr>
        <p:xfrm>
          <a:off x="763560" y="2889360"/>
          <a:ext cx="2759040" cy="581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560" y="2889360"/>
                    <a:ext cx="27590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Oval 11"/>
          <p:cNvSpPr/>
          <p:nvPr/>
        </p:nvSpPr>
        <p:spPr>
          <a:xfrm>
            <a:off x="6781680" y="4152960"/>
            <a:ext cx="10188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2"/>
          <p:cNvSpPr/>
          <p:nvPr/>
        </p:nvSpPr>
        <p:spPr>
          <a:xfrm>
            <a:off x="6838920" y="3270240"/>
            <a:ext cx="984240" cy="920880"/>
          </a:xfrm>
          <a:custGeom>
            <a:avLst/>
            <a:gdLst>
              <a:gd name="textAreaLeft" fmla="*/ 0 w 984240"/>
              <a:gd name="textAreaRight" fmla="*/ 984600 w 9842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500" h="496">
                <a:moveTo>
                  <a:pt x="0" y="496"/>
                </a:moveTo>
                <a:lnTo>
                  <a:pt x="44" y="340"/>
                </a:lnTo>
                <a:lnTo>
                  <a:pt x="100" y="160"/>
                </a:lnTo>
                <a:lnTo>
                  <a:pt x="160" y="52"/>
                </a:lnTo>
                <a:lnTo>
                  <a:pt x="208" y="16"/>
                </a:lnTo>
                <a:lnTo>
                  <a:pt x="240" y="0"/>
                </a:lnTo>
                <a:lnTo>
                  <a:pt x="280" y="8"/>
                </a:lnTo>
                <a:lnTo>
                  <a:pt x="320" y="60"/>
                </a:lnTo>
                <a:lnTo>
                  <a:pt x="364" y="128"/>
                </a:lnTo>
                <a:lnTo>
                  <a:pt x="420" y="228"/>
                </a:lnTo>
                <a:lnTo>
                  <a:pt x="444" y="316"/>
                </a:lnTo>
                <a:lnTo>
                  <a:pt x="480" y="428"/>
                </a:lnTo>
                <a:lnTo>
                  <a:pt x="500" y="496"/>
                </a:lnTo>
                <a:lnTo>
                  <a:pt x="0" y="496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3"/>
          <p:cNvSpPr/>
          <p:nvPr/>
        </p:nvSpPr>
        <p:spPr>
          <a:xfrm>
            <a:off x="7791480" y="4152960"/>
            <a:ext cx="10152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119000" y="3513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6548400" y="3267000"/>
            <a:ext cx="1554120" cy="331812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3318120"/>
              <a:gd name="textAreaBottom" fmla="*/ 3318480 h 331812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6835680" y="4035600"/>
            <a:ext cx="1001880" cy="144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7"/>
          <p:cNvGraphicFramePr/>
          <p:nvPr/>
        </p:nvGraphicFramePr>
        <p:xfrm>
          <a:off x="1212840" y="4761000"/>
          <a:ext cx="1263600" cy="45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2840" y="4761000"/>
                    <a:ext cx="1263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8"/>
          <p:cNvGraphicFramePr/>
          <p:nvPr/>
        </p:nvGraphicFramePr>
        <p:xfrm>
          <a:off x="6875640" y="2774880"/>
          <a:ext cx="1725480" cy="37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75640" y="2774880"/>
                    <a:ext cx="17254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9"/>
          <p:cNvGraphicFramePr/>
          <p:nvPr/>
        </p:nvGraphicFramePr>
        <p:xfrm>
          <a:off x="1179360" y="5661000"/>
          <a:ext cx="1478160" cy="64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6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79360" y="5661000"/>
                    <a:ext cx="1478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20"/>
          <p:cNvGraphicFramePr/>
          <p:nvPr/>
        </p:nvGraphicFramePr>
        <p:xfrm>
          <a:off x="1278000" y="1189080"/>
          <a:ext cx="2935080" cy="56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8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8000" y="1189080"/>
                    <a:ext cx="29350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1"/>
          <p:cNvGraphicFramePr/>
          <p:nvPr/>
        </p:nvGraphicFramePr>
        <p:xfrm>
          <a:off x="1220760" y="4781520"/>
          <a:ext cx="1263600" cy="45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0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20760" y="4781520"/>
                    <a:ext cx="1263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22"/>
          <p:cNvGraphicFramePr/>
          <p:nvPr/>
        </p:nvGraphicFramePr>
        <p:xfrm>
          <a:off x="1219320" y="5681520"/>
          <a:ext cx="1414440" cy="64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2" name="Object 2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219320" y="5681520"/>
                    <a:ext cx="14144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k1"/>
          <p:cNvPicPr/>
          <p:nvPr/>
        </p:nvPicPr>
        <p:blipFill>
          <a:blip r:embed="rId1"/>
          <a:stretch/>
        </p:blipFill>
        <p:spPr>
          <a:xfrm>
            <a:off x="3546360" y="1557360"/>
            <a:ext cx="5597640" cy="5305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1292400" y="1190520"/>
            <a:ext cx="4701960" cy="595440"/>
          </a:xfrm>
          <a:prstGeom prst="rect">
            <a:avLst/>
          </a:prstGeom>
          <a:gradFill rotWithShape="0">
            <a:gsLst>
              <a:gs pos="0">
                <a:srgbClr val="ff8b8b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06440" y="5675400"/>
            <a:ext cx="3003480" cy="581040"/>
          </a:xfrm>
          <a:prstGeom prst="rect">
            <a:avLst/>
          </a:prstGeom>
          <a:solidFill>
            <a:srgbClr val="ffe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784080" y="4933800"/>
            <a:ext cx="2232000" cy="290520"/>
          </a:xfrm>
          <a:prstGeom prst="parallelogram">
            <a:avLst>
              <a:gd name="adj" fmla="val 192069"/>
            </a:avLst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3232"/>
                </a:solidFill>
                <a:latin typeface="Times New Roman"/>
              </a:rPr>
              <a:t>Решить неравенство:</a:t>
            </a:r>
            <a:endParaRPr b="0" lang="en-US" sz="3400" spc="-1" strike="noStrike">
              <a:solidFill>
                <a:srgbClr val="323232"/>
              </a:solidFill>
              <a:latin typeface="Arial"/>
            </a:endParaRPr>
          </a:p>
        </p:txBody>
      </p:sp>
      <p:graphicFrame>
        <p:nvGraphicFramePr>
          <p:cNvPr id="218" name="Object 7"/>
          <p:cNvGraphicFramePr/>
          <p:nvPr/>
        </p:nvGraphicFramePr>
        <p:xfrm>
          <a:off x="1270080" y="1168560"/>
          <a:ext cx="2935080" cy="56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080" y="1168560"/>
                    <a:ext cx="293508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8"/>
          <p:cNvGraphicFramePr/>
          <p:nvPr/>
        </p:nvGraphicFramePr>
        <p:xfrm>
          <a:off x="542880" y="2141640"/>
          <a:ext cx="3013200" cy="58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2880" y="2141640"/>
                    <a:ext cx="3013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9"/>
          <p:cNvGraphicFramePr/>
          <p:nvPr/>
        </p:nvGraphicFramePr>
        <p:xfrm>
          <a:off x="1112760" y="3681360"/>
          <a:ext cx="2038320" cy="5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2760" y="3681360"/>
                    <a:ext cx="2038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10"/>
          <p:cNvGraphicFramePr/>
          <p:nvPr/>
        </p:nvGraphicFramePr>
        <p:xfrm>
          <a:off x="763560" y="2889360"/>
          <a:ext cx="2759040" cy="581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560" y="2889360"/>
                    <a:ext cx="27590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Oval 11"/>
          <p:cNvSpPr/>
          <p:nvPr/>
        </p:nvSpPr>
        <p:spPr>
          <a:xfrm>
            <a:off x="6781680" y="4152960"/>
            <a:ext cx="10188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7791480" y="4152960"/>
            <a:ext cx="10152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7164720" y="348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846600" y="4035600"/>
            <a:ext cx="2975040" cy="144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5"/>
          <p:cNvGraphicFramePr/>
          <p:nvPr/>
        </p:nvGraphicFramePr>
        <p:xfrm>
          <a:off x="996840" y="4761000"/>
          <a:ext cx="1695600" cy="45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6840" y="4761000"/>
                    <a:ext cx="1695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6"/>
          <p:cNvGraphicFramePr/>
          <p:nvPr/>
        </p:nvGraphicFramePr>
        <p:xfrm>
          <a:off x="6875640" y="2774880"/>
          <a:ext cx="1725480" cy="37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3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75640" y="2774880"/>
                    <a:ext cx="17254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7"/>
          <p:cNvGraphicFramePr/>
          <p:nvPr/>
        </p:nvGraphicFramePr>
        <p:xfrm>
          <a:off x="474840" y="5719680"/>
          <a:ext cx="2914560" cy="554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4840" y="5719680"/>
                    <a:ext cx="29145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8"/>
          <p:cNvGraphicFramePr/>
          <p:nvPr/>
        </p:nvGraphicFramePr>
        <p:xfrm>
          <a:off x="1263600" y="1201680"/>
          <a:ext cx="2935440" cy="56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7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63600" y="1201680"/>
                    <a:ext cx="29354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9"/>
          <p:cNvGraphicFramePr/>
          <p:nvPr/>
        </p:nvGraphicFramePr>
        <p:xfrm>
          <a:off x="1033560" y="4737240"/>
          <a:ext cx="1638360" cy="45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9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33560" y="4737240"/>
                    <a:ext cx="16383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20"/>
          <p:cNvGraphicFramePr/>
          <p:nvPr/>
        </p:nvGraphicFramePr>
        <p:xfrm>
          <a:off x="531720" y="5732640"/>
          <a:ext cx="2819520" cy="545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1" name="Object 2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1720" y="5732640"/>
                    <a:ext cx="281952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Freeform 21"/>
          <p:cNvSpPr/>
          <p:nvPr/>
        </p:nvSpPr>
        <p:spPr>
          <a:xfrm>
            <a:off x="3860640" y="4192560"/>
            <a:ext cx="2961000" cy="2367000"/>
          </a:xfrm>
          <a:custGeom>
            <a:avLst/>
            <a:gdLst>
              <a:gd name="textAreaLeft" fmla="*/ 0 w 2961000"/>
              <a:gd name="textAreaRight" fmla="*/ 2961360 w 2961000"/>
              <a:gd name="textAreaTop" fmla="*/ 0 h 2367000"/>
              <a:gd name="textAreaBottom" fmla="*/ 2367000 h 2367000"/>
            </a:gdLst>
            <a:ahLst/>
            <a:rect l="textAreaLeft" t="textAreaTop" r="textAreaRight" b="textAreaBottom"/>
            <a:pathLst>
              <a:path w="1865" h="1491">
                <a:moveTo>
                  <a:pt x="0" y="1491"/>
                </a:moveTo>
                <a:lnTo>
                  <a:pt x="1691" y="1491"/>
                </a:lnTo>
                <a:lnTo>
                  <a:pt x="1737" y="933"/>
                </a:lnTo>
                <a:lnTo>
                  <a:pt x="1774" y="595"/>
                </a:lnTo>
                <a:lnTo>
                  <a:pt x="1819" y="275"/>
                </a:lnTo>
                <a:lnTo>
                  <a:pt x="1847" y="83"/>
                </a:lnTo>
                <a:lnTo>
                  <a:pt x="1865" y="0"/>
                </a:lnTo>
                <a:lnTo>
                  <a:pt x="0" y="9"/>
                </a:lnTo>
                <a:lnTo>
                  <a:pt x="0" y="1491"/>
                </a:lnTo>
                <a:close/>
              </a:path>
            </a:pathLst>
          </a:custGeom>
          <a:solidFill>
            <a:srgbClr val="f07f0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2"/>
          <p:cNvSpPr/>
          <p:nvPr/>
        </p:nvSpPr>
        <p:spPr>
          <a:xfrm>
            <a:off x="7837560" y="4194000"/>
            <a:ext cx="1001520" cy="236700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2367000"/>
              <a:gd name="textAreaBottom" fmla="*/ 2367000 h 2367000"/>
            </a:gdLst>
            <a:ahLst/>
            <a:rect l="textAreaLeft" t="textAreaTop" r="textAreaRight" b="textAreaBottom"/>
            <a:pathLst>
              <a:path w="631" h="1491">
                <a:moveTo>
                  <a:pt x="165" y="1491"/>
                </a:moveTo>
                <a:lnTo>
                  <a:pt x="631" y="1481"/>
                </a:lnTo>
                <a:lnTo>
                  <a:pt x="631" y="0"/>
                </a:lnTo>
                <a:lnTo>
                  <a:pt x="0" y="0"/>
                </a:lnTo>
                <a:lnTo>
                  <a:pt x="37" y="238"/>
                </a:lnTo>
                <a:lnTo>
                  <a:pt x="82" y="558"/>
                </a:lnTo>
                <a:lnTo>
                  <a:pt x="110" y="841"/>
                </a:lnTo>
                <a:lnTo>
                  <a:pt x="137" y="1143"/>
                </a:lnTo>
                <a:lnTo>
                  <a:pt x="165" y="1491"/>
                </a:lnTo>
                <a:close/>
              </a:path>
            </a:pathLst>
          </a:custGeom>
          <a:solidFill>
            <a:srgbClr val="f07f0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3"/>
          <p:cNvSpPr/>
          <p:nvPr/>
        </p:nvSpPr>
        <p:spPr>
          <a:xfrm>
            <a:off x="6548400" y="3267000"/>
            <a:ext cx="1554120" cy="331812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3318120"/>
              <a:gd name="textAreaBottom" fmla="*/ 3318480 h 331812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7843680" y="4041720"/>
            <a:ext cx="1001880" cy="1443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4910760" y="490536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9f25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8298360" y="488304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9f25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k1"/>
          <p:cNvPicPr/>
          <p:nvPr/>
        </p:nvPicPr>
        <p:blipFill>
          <a:blip r:embed="rId1"/>
          <a:stretch/>
        </p:blipFill>
        <p:spPr>
          <a:xfrm>
            <a:off x="3546360" y="1557360"/>
            <a:ext cx="5597640" cy="53053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1292400" y="1190520"/>
            <a:ext cx="4701960" cy="595440"/>
          </a:xfrm>
          <a:prstGeom prst="rect">
            <a:avLst/>
          </a:prstGeom>
          <a:gradFill rotWithShape="0">
            <a:gsLst>
              <a:gs pos="0">
                <a:srgbClr val="ff8b8b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784080" y="4933800"/>
            <a:ext cx="2232000" cy="290520"/>
          </a:xfrm>
          <a:prstGeom prst="parallelogram">
            <a:avLst>
              <a:gd name="adj" fmla="val 192069"/>
            </a:avLst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3232"/>
                </a:solidFill>
                <a:latin typeface="Arial"/>
              </a:rPr>
              <a:t>Решить неравенство:</a:t>
            </a:r>
            <a:endParaRPr b="0" lang="en-US" sz="3400" spc="-1" strike="noStrike">
              <a:solidFill>
                <a:srgbClr val="323232"/>
              </a:solidFill>
              <a:latin typeface="Arial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465200" y="1168560"/>
          <a:ext cx="2543400" cy="56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5200" y="1168560"/>
                    <a:ext cx="254340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7"/>
          <p:cNvGraphicFramePr/>
          <p:nvPr/>
        </p:nvGraphicFramePr>
        <p:xfrm>
          <a:off x="923760" y="3260880"/>
          <a:ext cx="2038680" cy="45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3760" y="3260880"/>
                    <a:ext cx="20386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8"/>
          <p:cNvGraphicFramePr/>
          <p:nvPr/>
        </p:nvGraphicFramePr>
        <p:xfrm>
          <a:off x="849240" y="2295360"/>
          <a:ext cx="261468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9240" y="2295360"/>
                    <a:ext cx="26146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Oval 9"/>
          <p:cNvSpPr/>
          <p:nvPr/>
        </p:nvSpPr>
        <p:spPr>
          <a:xfrm>
            <a:off x="6781680" y="4152960"/>
            <a:ext cx="101880" cy="115920"/>
          </a:xfrm>
          <a:prstGeom prst="ellipse">
            <a:avLst/>
          </a:pr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10"/>
          <p:cNvGraphicFramePr/>
          <p:nvPr/>
        </p:nvGraphicFramePr>
        <p:xfrm>
          <a:off x="1430280" y="1144440"/>
          <a:ext cx="2546280" cy="56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30280" y="1144440"/>
                    <a:ext cx="25462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11"/>
          <p:cNvGraphicFramePr/>
          <p:nvPr/>
        </p:nvGraphicFramePr>
        <p:xfrm>
          <a:off x="1501920" y="4756320"/>
          <a:ext cx="77616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2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01920" y="4756320"/>
                    <a:ext cx="7761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12"/>
          <p:cNvSpPr/>
          <p:nvPr/>
        </p:nvSpPr>
        <p:spPr>
          <a:xfrm>
            <a:off x="3844800" y="1893960"/>
            <a:ext cx="4989600" cy="2327040"/>
          </a:xfrm>
          <a:prstGeom prst="rect">
            <a:avLst/>
          </a:prstGeom>
          <a:solidFill>
            <a:srgbClr val="f07f0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3"/>
          <p:cNvSpPr/>
          <p:nvPr/>
        </p:nvSpPr>
        <p:spPr>
          <a:xfrm flipV="1">
            <a:off x="6143760" y="1853640"/>
            <a:ext cx="1380960" cy="2360520"/>
          </a:xfrm>
          <a:custGeom>
            <a:avLst/>
            <a:gdLst>
              <a:gd name="textAreaLeft" fmla="*/ 0 w 1380960"/>
              <a:gd name="textAreaRight" fmla="*/ 1380960 w 1380960"/>
              <a:gd name="textAreaTop" fmla="*/ -360 h 2360520"/>
              <a:gd name="textAreaBottom" fmla="*/ 2360520 h 2360520"/>
            </a:gdLst>
            <a:ahLst/>
            <a:rect l="textAreaLeft" t="textAreaTop" r="textAreaRight" b="textAreaBottom"/>
            <a:pathLst>
              <a:path w="759" h="1701">
                <a:moveTo>
                  <a:pt x="0" y="1701"/>
                </a:moveTo>
                <a:cubicBezTo>
                  <a:pt x="38" y="1239"/>
                  <a:pt x="76" y="777"/>
                  <a:pt x="138" y="494"/>
                </a:cubicBezTo>
                <a:cubicBezTo>
                  <a:pt x="200" y="211"/>
                  <a:pt x="293" y="0"/>
                  <a:pt x="375" y="0"/>
                </a:cubicBezTo>
                <a:cubicBezTo>
                  <a:pt x="457" y="0"/>
                  <a:pt x="567" y="211"/>
                  <a:pt x="631" y="494"/>
                </a:cubicBezTo>
                <a:cubicBezTo>
                  <a:pt x="695" y="777"/>
                  <a:pt x="727" y="1239"/>
                  <a:pt x="759" y="1701"/>
                </a:cubicBezTo>
              </a:path>
            </a:pathLst>
          </a:custGeom>
          <a:noFill/>
          <a:ln w="381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239800" y="2735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7790760" y="2712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9f25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6"/>
          <p:cNvGraphicFramePr/>
          <p:nvPr/>
        </p:nvGraphicFramePr>
        <p:xfrm>
          <a:off x="4584600" y="1900080"/>
          <a:ext cx="1521000" cy="370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84600" y="1900080"/>
                    <a:ext cx="15210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Oval 17"/>
          <p:cNvSpPr/>
          <p:nvPr/>
        </p:nvSpPr>
        <p:spPr>
          <a:xfrm>
            <a:off x="6780240" y="4148280"/>
            <a:ext cx="1015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1035720" y="479124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9f25"/>
                </a:solidFill>
                <a:latin typeface="Tahoma"/>
              </a:rPr>
              <a:t>Нет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7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06:54:50Z</dcterms:created>
  <dc:creator>Киселева Любовь Алексеевна</dc:creator>
  <dc:description/>
  <dc:language>en-US</dc:language>
  <cp:lastModifiedBy>Станислав В. Мануйлов</cp:lastModifiedBy>
  <dcterms:modified xsi:type="dcterms:W3CDTF">2012-01-19T10:12:10Z</dcterms:modified>
  <cp:revision>36</cp:revision>
  <dc:subject/>
  <dc:title>Решение неравенств второй степени с одной переменной</dc:title>
</cp:coreProperties>
</file>