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gif" ContentType="image/gif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3E7-1FD2-4C81-B9CC-C7623E5E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C4E-5110-4FFD-B33D-3F053409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91762-5586-4889-86D5-96F842B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CCE9A-A179-4E93-B99A-D355701A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83A70-E372-471E-8DD5-4995ACD8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671EC-70EE-42FA-A0AC-DB91D16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99BAA-0F65-4433-987D-DF9E44C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BBB7C-C54E-46D2-B55B-B785A640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57067-F181-46DA-AB13-F3C8DFD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10A23-6D94-4C1F-98E7-011F8BAF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46F6E-3865-4BE9-9E24-15C32121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AB7-B06F-4DED-8B42-C11EB4A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7FA-CE34-4D57-AEE2-6464B6A8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CBC2-63B0-4FAA-B501-5707932F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A86A-2D5A-4F4D-9F4D-53B6258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9586-966F-43EA-9A4C-F2CEA307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79C7-EF86-4A3B-97A7-9AE3938F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5A9-E7ED-4059-81BA-6E2392F1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EBC-DF9E-45E0-96E0-665660D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C4CA-EAFA-459A-AF14-A92AB91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955-7535-4F54-9BCA-9AF0708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DEC-85D4-4552-B200-B84DFFF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A00-2427-48ED-9680-17CCCC7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827-8506-4717-B923-AF4B387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937-FA88-47C1-A674-AD49F54E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6685-CB37-414C-8727-D32B0DB8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B61C-424F-400F-825E-820D8E5A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A474-7723-4A12-B67F-3D5B8E2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9C28-D128-472F-824C-26C26E8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466C-2C9F-42FC-8832-EFFD933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DEAE-AE18-48C7-8433-DDAB6104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E8C-4B9E-4328-BEF6-49995E5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AEE9-FC8A-4F1F-809E-3AF92F8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8E04-2359-4596-A80C-C9059EA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7851-C028-464C-9EC3-7CE5E15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5FAA-8AB1-420F-8A2D-3B58D5C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DD42-FAE1-4C41-B3CF-49F1403A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A614-D785-4D50-8C4D-E0019D39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D21C-4CC7-44D6-986C-CE2A0ADD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3429-B2A1-476A-B36A-DB43D42F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1F60-DC59-4E99-8FDD-5DAF9FE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681C-C849-4F72-B16D-B53F2C4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BF0-1FDB-4AC8-8B48-0F4C1B9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DAD7-36C0-48B9-A0CA-00224820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94F8-321A-497C-B996-DA7BC75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7DC6-9B1F-4F01-87AA-3A1488D2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B85A-2EFB-4BAC-B36A-B8C03B0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BACC-2D14-4B4B-86B7-AA9E3523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07571-A6A4-4FB4-8038-FDC1933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2281-2EF9-4D6E-B27B-B1D5687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A5D0-34B5-4033-9F75-4111A96F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97B6-0215-48FA-94B9-C96B006D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75AA-878F-46BB-9F46-C4805481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8E1-5A2A-42F5-A39E-1B46514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9AFB-CDBC-4CB6-9061-CF76134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E77E-726F-4015-BD5B-B6F9575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5498-1F51-40EB-9671-44094E3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694B-B85B-445D-A8CC-0AF89CE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99E8-6B00-454B-A820-FBEE0BAE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9E7A-7826-4EEE-BA13-10EA9E1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FF10-6964-4C8E-BAA8-C3D7796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A141-A95F-40FB-9132-341A897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EE82-F6B8-4965-91DE-58DEB653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CC4E-B0B9-4F66-851F-DD4CB279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F4C-24D5-40D0-9B50-5D49FCD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B505-BEF0-44BC-9BF8-26FD6A0D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F667-C469-4A40-B800-FA1F4EEA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98B8-D6ED-472B-9EEE-F3906BBC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662B-506A-46BF-A77C-AF2B44AC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04AE-463E-4F57-8DD6-08BDA77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A6C24-74DC-4000-946B-7817364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2809-992C-4ED6-9EE7-2ED765F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17EC-D7FF-4E77-B0DE-5FE6770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9D90E-0869-4F8C-8F92-3F245D2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36D54-E763-49C8-A045-4A5334E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F5F-EC0F-45C6-A4DE-A98D79D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B429-1F7D-4EED-B47C-04C46BD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A60A-B24B-44E8-A454-D73800B2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4A6C3-ACA4-48F6-844A-E34232B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7C1D-A225-475E-8ADF-920A69BF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65A4-4A47-4A35-B2F9-82857B3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F852-EBBC-4A6A-A76B-AAD5A3A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801AF-C276-45ED-BA76-1684A025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3BD33-BAAC-4792-934B-30FE2B29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0D26-9D72-4E0E-A185-A0A93CB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8B03-4E61-4FE4-8193-188F590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A78-453F-4578-8A8C-4837A75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AF26A-0A9A-42AF-B9E3-C967294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1403-747C-4DFC-9DC6-C4D6747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AB2E-5CD7-4472-ABAD-9FC34AEE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786F-6298-4338-8C50-5DD06A17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9ECC-6C1E-4128-AB99-C00F4702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96126-C441-4CE0-B4B2-F02C6D5B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B71C1-043E-4A3A-B530-882E0113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E6ABF-179E-4A62-912E-3D05931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4DA8-96D4-402A-A11D-536A4A8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9FFD-7C63-412A-AD16-A546438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954-8A0B-49B3-ACE3-73264E7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90EA-D195-4670-9E7F-191A62F6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BC7B0-690A-4631-8368-162203B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92C7-C3CD-4932-BF3A-CDB7F44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8076-50F7-4D8B-964C-00F3B99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0F533-FA6F-4234-8ADE-55CAA99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1CC34-4E69-4584-94D6-FC35300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21D8-E250-46E7-8FE5-7EF76587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E4681-9793-45E5-94CE-0E416636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BBB37-2D1A-4F6B-B5D8-8F7726C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72DE-710A-4B0A-8083-DB26E33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9D4-2CE1-4ED3-909A-18B53C9398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A93-BC32-441C-99AE-0F0DFA7FB4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97E-A86E-48BF-87FE-1C27B3D5001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567F7020-0C00-4671-97E9-68D712852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8CACAA6F-55A2-4742-81F6-1B1631D06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785-6825-4262-A12D-FCCB4924E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Скругленный 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247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8" descr="x1pIjpkY.gif"/>
          <p:cNvPicPr/>
          <p:nvPr/>
        </p:nvPicPr>
        <p:blipFill>
          <a:blip r:embed="rId3"/>
          <a:stretch/>
        </p:blipFill>
        <p:spPr>
          <a:xfrm>
            <a:off x="395280" y="40464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490E41C6-BFE7-4CF1-A129-F103A2A53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65C6-30D2-4A6E-A1AF-EF50D6AD2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334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50920" y="5124600"/>
            <a:ext cx="1008000" cy="14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F8A27FCE-6BCC-48DC-84F8-15EC50549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Взаимно обратные числ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  Нужно стремиться к тому, чтобы каждый видел и знал больше, чем видел и знал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отец и де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На ёлке зажгли 15 свечей. 10 из них сгорели, остальные потухли. Сколько свечей на ёлк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дно яблоко весит 200 г. Всего на берёзе 10 яблок. Сколько весят все эти яблоки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дно колесо велосипеда рассчитано на 12 км. Сколько км можно будет проехать, если у велосипеда 2 колеса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00 * 5     - 130     :29     +270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,45 : 9       *6       +2,7    :0,0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4"/>
              <p:cNvSpPr txBox="1"/>
              <p:nvPr/>
            </p:nvSpPr>
            <p:spPr>
              <a:xfrm>
                <a:off x="1698480" y="4143240"/>
                <a:ext cx="2905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1751040" y="3143160"/>
                <a:ext cx="2187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1660680" y="5429160"/>
                <a:ext cx="28605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2" name="Line 11"/>
          <p:cNvGrpSpPr/>
          <p:nvPr/>
        </p:nvGrpSpPr>
        <p:grpSpPr>
          <a:xfrm>
            <a:off x="2773440" y="2554200"/>
            <a:ext cx="6413040" cy="79560"/>
            <a:chOff x="2773440" y="2554200"/>
            <a:chExt cx="6413040" cy="79560"/>
          </a:xfrm>
        </p:grpSpPr>
        <p:pic>
          <p:nvPicPr>
            <p:cNvPr id="423" name="Line 11" descr=""/>
            <p:cNvPicPr/>
            <p:nvPr/>
          </p:nvPicPr>
          <p:blipFill>
            <a:blip r:embed="rId1"/>
            <a:stretch/>
          </p:blipFill>
          <p:spPr>
            <a:xfrm>
              <a:off x="2774880" y="2554200"/>
              <a:ext cx="64116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773440" y="259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" name="Рисунок 30" descr="штора.GIF"/>
          <p:cNvPicPr/>
          <p:nvPr/>
        </p:nvPicPr>
        <p:blipFill>
          <a:blip r:embed="rId2"/>
          <a:stretch/>
        </p:blipFill>
        <p:spPr>
          <a:xfrm>
            <a:off x="3430440" y="2500200"/>
            <a:ext cx="5572440" cy="43578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2"/>
          <p:cNvSpPr/>
          <p:nvPr/>
        </p:nvSpPr>
        <p:spPr>
          <a:xfrm>
            <a:off x="-285840" y="142920"/>
            <a:ext cx="9715680" cy="647640"/>
          </a:xfrm>
          <a:prstGeom prst="rect">
            <a:avLst/>
          </a:prstGeom>
          <a:gradFill rotWithShape="0">
            <a:gsLst>
              <a:gs pos="0">
                <a:srgbClr val="fdfefc"/>
              </a:gs>
              <a:gs pos="100000">
                <a:srgbClr val="f9db91"/>
              </a:gs>
            </a:gsLst>
            <a:lin ang="27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Прямоугольник 13" descr=""/>
          <p:cNvPicPr/>
          <p:nvPr/>
        </p:nvPicPr>
        <p:blipFill>
          <a:blip r:embed="rId3"/>
          <a:stretch/>
        </p:blipFill>
        <p:spPr>
          <a:xfrm>
            <a:off x="225360" y="36360"/>
            <a:ext cx="639468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клубок.gif"/>
          <p:cNvPicPr/>
          <p:nvPr/>
        </p:nvPicPr>
        <p:blipFill>
          <a:blip r:embed="rId4"/>
          <a:stretch/>
        </p:blipFill>
        <p:spPr>
          <a:xfrm>
            <a:off x="8429760" y="214200"/>
            <a:ext cx="533160" cy="5428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6"/>
          <p:cNvSpPr/>
          <p:nvPr/>
        </p:nvSpPr>
        <p:spPr>
          <a:xfrm>
            <a:off x="6300720" y="144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чис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7407E-006 L 0.36354 -0.00371 E">
                                      <p:cBhvr>
                                        <p:cTn id="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1357200" y="3286080"/>
                <a:ext cx="2911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1571760" y="4286160"/>
                <a:ext cx="4547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7"/>
              <p:cNvSpPr txBox="1"/>
              <p:nvPr/>
            </p:nvSpPr>
            <p:spPr>
              <a:xfrm>
                <a:off x="1500120" y="5357880"/>
                <a:ext cx="2497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3" name="Line 11"/>
          <p:cNvGrpSpPr/>
          <p:nvPr/>
        </p:nvGrpSpPr>
        <p:grpSpPr>
          <a:xfrm>
            <a:off x="2773440" y="2554200"/>
            <a:ext cx="6413040" cy="79560"/>
            <a:chOff x="2773440" y="2554200"/>
            <a:chExt cx="6413040" cy="79560"/>
          </a:xfrm>
        </p:grpSpPr>
        <p:pic>
          <p:nvPicPr>
            <p:cNvPr id="434" name="Line 11" descr=""/>
            <p:cNvPicPr/>
            <p:nvPr/>
          </p:nvPicPr>
          <p:blipFill>
            <a:blip r:embed="rId1"/>
            <a:stretch/>
          </p:blipFill>
          <p:spPr>
            <a:xfrm>
              <a:off x="2774880" y="2554200"/>
              <a:ext cx="64116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3440" y="259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Рисунок 15" descr="штора.GIF"/>
          <p:cNvPicPr/>
          <p:nvPr/>
        </p:nvPicPr>
        <p:blipFill>
          <a:blip r:embed="rId2"/>
          <a:stretch/>
        </p:blipFill>
        <p:spPr>
          <a:xfrm>
            <a:off x="3430440" y="2500200"/>
            <a:ext cx="5572440" cy="435780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0"/>
          <p:cNvSpPr/>
          <p:nvPr/>
        </p:nvSpPr>
        <p:spPr>
          <a:xfrm>
            <a:off x="-285840" y="142920"/>
            <a:ext cx="9715680" cy="647640"/>
          </a:xfrm>
          <a:prstGeom prst="rect">
            <a:avLst/>
          </a:prstGeom>
          <a:gradFill rotWithShape="0">
            <a:gsLst>
              <a:gs pos="0">
                <a:srgbClr val="fdfefc"/>
              </a:gs>
              <a:gs pos="100000">
                <a:srgbClr val="f9db91"/>
              </a:gs>
            </a:gsLst>
            <a:lin ang="27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Прямоугольник 11" descr=""/>
          <p:cNvPicPr/>
          <p:nvPr/>
        </p:nvPicPr>
        <p:blipFill>
          <a:blip r:embed="rId3"/>
          <a:stretch/>
        </p:blipFill>
        <p:spPr>
          <a:xfrm>
            <a:off x="225360" y="36360"/>
            <a:ext cx="6394680" cy="755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клубок.gif"/>
          <p:cNvPicPr/>
          <p:nvPr/>
        </p:nvPicPr>
        <p:blipFill>
          <a:blip r:embed="rId4"/>
          <a:stretch/>
        </p:blipFill>
        <p:spPr>
          <a:xfrm>
            <a:off x="8429760" y="214200"/>
            <a:ext cx="533160" cy="54288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6"/>
          <p:cNvSpPr/>
          <p:nvPr/>
        </p:nvSpPr>
        <p:spPr>
          <a:xfrm>
            <a:off x="6300720" y="144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чис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7407E-006 L 0.36354 -0.00371 E">
                                      <p:cBhvr>
                                        <p:cTn id="1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299520"/>
            <a:ext cx="7642440" cy="60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Bookman Old Style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04000" cy="388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1.  Что больше       или     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alibri"/>
              </a:rPr>
              <a:t>2. Что  меньше      или   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alibri"/>
              </a:rPr>
              <a:t>3.  Сравните     и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Текст 2"/>
              <p:cNvSpPr txBox="1"/>
              <p:nvPr/>
            </p:nvSpPr>
            <p:spPr>
              <a:xfrm>
                <a:off x="3708360" y="1268280"/>
                <a:ext cx="631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276720" y="2781360"/>
                <a:ext cx="749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076720" y="126828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26872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987640" y="4221000"/>
                <a:ext cx="504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708360" y="4292640"/>
                <a:ext cx="504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788000" y="2708280"/>
                <a:ext cx="749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Текст 2"/>
              <p:cNvSpPr txBox="1"/>
              <p:nvPr/>
            </p:nvSpPr>
            <p:spPr>
              <a:xfrm>
                <a:off x="4643280" y="2997360"/>
                <a:ext cx="438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13 -0.00416 L 0.75417 -0.00416 E">
                                      <p:cBhvr>
                                        <p:cTn id="31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4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9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6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множь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/15 на 15/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 на 1/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/23 на 23/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24360" y="3500280"/>
            <a:ext cx="4535280" cy="2376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ЗАИМНО ОБ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ЗАПО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а числа, произвед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торых равно 1, назыв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но обрат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адо найти взаимно обратное число для обыкновенной дроби – переверни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адо найти взаимно обратное число для десятичной дроби, то сначала переведи её в обыкновенную, а потом перевер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адо найти взаимно обратное число для смешанного числа, то сначала переведи его в неправильную дробь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888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. 96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книга"/>
          <p:cNvPicPr/>
          <p:nvPr/>
        </p:nvPicPr>
        <p:blipFill>
          <a:blip r:embed="rId2"/>
          <a:stretch/>
        </p:blipFill>
        <p:spPr>
          <a:xfrm>
            <a:off x="5508720" y="2708280"/>
            <a:ext cx="2565360" cy="3049560"/>
          </a:xfrm>
          <a:prstGeom prst="rect">
            <a:avLst/>
          </a:prstGeom>
          <a:ln w="9360">
            <a:solidFill>
              <a:srgbClr val="4d4d4d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2:43:38Z</dcterms:created>
  <dc:creator>Val</dc:creator>
  <dc:description/>
  <dc:language>en-US</dc:language>
  <cp:lastModifiedBy>Formoza</cp:lastModifiedBy>
  <dcterms:modified xsi:type="dcterms:W3CDTF">2002-12-31T21:33:39Z</dcterms:modified>
  <cp:revision>29</cp:revision>
  <dc:subject/>
  <dc:title>Слайд 1</dc:title>
</cp:coreProperties>
</file>