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20.jpeg" ContentType="image/jpeg"/>
  <Override PartName="/ppt/media/image7.jpeg" ContentType="image/jpeg"/>
  <Override PartName="/ppt/media/image18.png" ContentType="image/png"/>
  <Override PartName="/ppt/media/image19.jpeg" ContentType="image/jpeg"/>
  <Override PartName="/ppt/media/image17.jpeg" ContentType="image/jpeg"/>
  <Override PartName="/ppt/media/image14.png" ContentType="image/png"/>
  <Override PartName="/ppt/media/image16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jpeg" ContentType="image/jpeg"/>
  <Override PartName="/ppt/media/image4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  <p:sldId id="288" r:id="rId40"/>
    <p:sldId id="289" r:id="rId41"/>
    <p:sldId id="290" r:id="rId42"/>
    <p:sldId id="291" r:id="rId43"/>
    <p:sldId id="292" r:id="rId44"/>
    <p:sldId id="293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slide" Target="slides/slide33.xml"/><Relationship Id="rId41" Type="http://schemas.openxmlformats.org/officeDocument/2006/relationships/slide" Target="slides/slide34.xml"/><Relationship Id="rId42" Type="http://schemas.openxmlformats.org/officeDocument/2006/relationships/slide" Target="slides/slide35.xml"/><Relationship Id="rId43" Type="http://schemas.openxmlformats.org/officeDocument/2006/relationships/slide" Target="slides/slide36.xml"/><Relationship Id="rId44" Type="http://schemas.openxmlformats.org/officeDocument/2006/relationships/slide" Target="slides/slide37.xml"/><Relationship Id="rId45" Type="http://schemas.openxmlformats.org/officeDocument/2006/relationships/slide" Target="slides/slide38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517DA-5491-4140-8496-29D790991D6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7665F-893C-47EA-AC0C-88D672B12908}" type="slidenum">
              <a:rPr b="0" lang="ru-RU" sz="1200" spc="-1" strike="noStrike">
                <a:solidFill>
                  <a:srgbClr val="29293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A9ADF-5EC5-4BD3-9E30-3ED4DD2EC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7E08D-6A6D-46F3-A803-F43343224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D3A0B-5104-4C01-99E1-B875FFA40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58B12-7766-4E0C-92E8-96EBD008B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00658-2802-43BA-B1C9-6EF9CDC1E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089CE-56BD-49A2-9C3E-454A3795C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98C02-3F2C-4E2D-96D3-9D76AC2ED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78B07-469C-4EFD-8446-D9ABDF9E8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978E1-6C03-420B-B498-A1850B305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0D195-7B76-4809-9DB0-DDE556F89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8057E-366B-4866-A4AC-E8CB4B613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BB617-38D0-42BC-B963-1DA577C39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DD59E-88E7-4D7D-8212-16960C9FD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7F6E5-0EFF-4433-9B2E-9C6D45F98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FDB42-7E05-42E7-8412-5F3413F4D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7D7CC-1AE0-4C37-BDE7-C345996BC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41FB2-63D1-4385-8521-27DA9034B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3C0240-64EE-4AF1-850E-80006AC95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D4B6E8-4663-4AA9-84E8-65230093A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CE3953-A122-4ED0-AE16-82ECDF40B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5C0197-465C-4227-B27F-B17221125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1ECC3A-C82E-4962-B11D-DE0B2B981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D17FB-C0B6-46FE-B904-F5FFC3104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288791-5447-46E1-B1F5-CAEC629DB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32A1C8-29DD-44E2-AE11-3697DDF1D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544F87-E338-4AB9-895D-46CF5CD1F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0BC664-AF9C-46DA-AACF-613DF120A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060926-7FC6-4538-8522-E5F0F5A3E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5A74CE-EADE-4122-9F20-927181218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1C8BDF-83B1-4D4E-B53B-DE1E5D002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3FFC7E-EF1C-4B44-804E-E38525A33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F7DCF7-A6C3-459F-A221-7556D2B7D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FA9B5E-B0D1-4610-A400-7D57AE35A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ACB26-A8EA-41B9-8BBD-60CB8A656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D82F32-6405-437A-B5A2-0D886B4CF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C4162C-97E0-4A5F-B4C9-9140DA55B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6A12E5-27A0-4CF8-BCB6-1580E9C3B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5EE6E1-A35E-49D8-A058-1E5F7E878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4B5E6D-6448-4185-8CA1-8CB2167A2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05698C-9408-4124-8981-1F5A980CC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A3FEA3-06D9-43FE-B50C-5446B575C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49CE04-E634-4E58-8580-F5ABAEA86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E21F70-5B38-4E1C-9B3D-19ED638E1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29B6CC-9195-4AA9-9846-F19AF840C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CF833-35F7-4D87-A8D9-2AA62EC76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EE34B0-CFAE-4068-8797-C459A145D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1710F2-3D60-4035-8F74-3D3815342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9E73EA-F818-48B6-934B-C884CDFE1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7BF9C8-0DA3-4FC7-9535-DEB90F0B3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D9F062-6275-4DA9-B714-4EAC31F0A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4C4B29-2518-4052-8F2E-5F6CBF0EE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BBF2EA-E7AA-43A1-83BA-AB9D04B18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D2CF42-4A58-4987-9466-051879999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53726D-AACB-4F4D-98C7-67DC20300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2EAC58-E01E-4A0A-B240-5B82FE65E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47831-FEA5-49E6-B4CF-49673BA75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2576DF-957B-4A5F-89BF-F63030800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0B6FE-AD8B-493F-86A9-7A8561ABE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E9988-DF98-4362-BADC-181B329F8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D609C-A729-43ED-AE26-16DBDB491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E1862-1473-4424-ABD0-14E621E7842E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5" name="Straight Connector 7"/>
          <p:cNvSpPr/>
          <p:nvPr/>
        </p:nvSpPr>
        <p:spPr>
          <a:xfrm>
            <a:off x="685800" y="3398760"/>
            <a:ext cx="7848720" cy="1800"/>
          </a:xfrm>
          <a:prstGeom prst="line">
            <a:avLst/>
          </a:prstGeom>
          <a:ln w="19080">
            <a:solidFill>
              <a:srgbClr val="d25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943D0-6B19-4E3C-B377-7F6CFCA1830F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53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9" name="Straight Connector 6"/>
          <p:cNvSpPr/>
          <p:nvPr/>
        </p:nvSpPr>
        <p:spPr>
          <a:xfrm>
            <a:off x="731880" y="4599000"/>
            <a:ext cx="7848720" cy="1440"/>
          </a:xfrm>
          <a:prstGeom prst="line">
            <a:avLst/>
          </a:prstGeom>
          <a:ln w="19080">
            <a:solidFill>
              <a:srgbClr val="f3f2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3f2d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3f2d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58637-94BA-4473-8073-34B18B03289E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2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3" name="Straight Connector 10"/>
          <p:cNvSpPr/>
          <p:nvPr/>
        </p:nvSpPr>
        <p:spPr>
          <a:xfrm flipH="1">
            <a:off x="4572000" y="1692360"/>
            <a:ext cx="1440" cy="4708440"/>
          </a:xfrm>
          <a:prstGeom prst="line">
            <a:avLst/>
          </a:prstGeom>
          <a:ln w="19080">
            <a:solidFill>
              <a:srgbClr val="d25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947A1-153E-435A-AB79-6599EE1CD980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6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7" name="Straight Connector 8"/>
          <p:cNvSpPr/>
          <p:nvPr/>
        </p:nvSpPr>
        <p:spPr>
          <a:xfrm flipH="1">
            <a:off x="2774520" y="792000"/>
            <a:ext cx="1800" cy="5578560"/>
          </a:xfrm>
          <a:prstGeom prst="line">
            <a:avLst/>
          </a:prstGeom>
          <a:ln w="19080">
            <a:solidFill>
              <a:srgbClr val="d25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124BA-57F4-469A-849B-6A4C4EE9AB95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6" name="Заголовок 1"/>
          <p:cNvGrpSpPr/>
          <p:nvPr/>
        </p:nvGrpSpPr>
        <p:grpSpPr>
          <a:xfrm>
            <a:off x="328680" y="450720"/>
            <a:ext cx="8205840" cy="3206880"/>
            <a:chOff x="328680" y="450720"/>
            <a:chExt cx="8205840" cy="3206880"/>
          </a:xfrm>
        </p:grpSpPr>
        <p:pic>
          <p:nvPicPr>
            <p:cNvPr id="227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328680" y="450720"/>
              <a:ext cx="8205840" cy="320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" name=""/>
            <p:cNvSpPr/>
            <p:nvPr/>
          </p:nvSpPr>
          <p:spPr>
            <a:xfrm>
              <a:off x="685800" y="1643040"/>
              <a:ext cx="7772400" cy="157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400" spc="-1" strike="noStrike">
                  <a:solidFill>
                    <a:srgbClr val="ffffff"/>
                  </a:solidFill>
                  <a:latin typeface="Arial"/>
                </a:rPr>
                <a:t>ЖИЗНЬ И ТВОРЧЕСТВО</a:t>
              </a:r>
              <a:br>
                <a:rPr sz="5400"/>
              </a:br>
              <a:r>
                <a:rPr b="1" lang="ru-RU" sz="5400" spc="-1" strike="noStrike">
                  <a:solidFill>
                    <a:srgbClr val="ffffff"/>
                  </a:solidFill>
                  <a:latin typeface="Arial"/>
                </a:rPr>
                <a:t>И.С.ТУРГЕНЕВА</a:t>
              </a:r>
              <a:endParaRPr b="0" lang="en-US" sz="5400" spc="-1" strike="noStrike">
                <a:solidFill>
                  <a:srgbClr val="292934"/>
                </a:solidFill>
                <a:latin typeface="Arial"/>
              </a:endParaRPr>
            </a:p>
          </p:txBody>
        </p:sp>
      </p:grpSp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541080" y="3286080"/>
            <a:ext cx="8173800" cy="35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7576e"/>
                </a:solidFill>
                <a:latin typeface="Arial"/>
              </a:rPr>
              <a:t>ВЫПОЛНЯЛА УЧЕНИЦА 6 «А» КЛАССА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7576e"/>
                </a:solidFill>
                <a:latin typeface="Arial"/>
              </a:rPr>
              <a:t>МОУ СОШ №2 г.Николаевска-на-Амуре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7576e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57576e"/>
                </a:solidFill>
                <a:latin typeface="Arial"/>
              </a:rPr>
              <a:t>ГУКОВА АЛИНА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178560" indent="-17856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78560" indent="-17856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78560" indent="-1785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78560" indent="-1785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78560" indent="-1785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78560" indent="-1785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78560" indent="-1785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34"/>
                </a:solidFill>
                <a:latin typeface="Arial"/>
              </a:rPr>
              <a:t>Родовое имение Тургеневых Спасское-Лутовиново располагалось в березовой роще на пологом  холме. Вокруг  просторного  двухэтажного господского дома с колоннами, к которому примыкали полукруглые галереи, был разбит громадный парк  с липовыми аллеями, фруктовыми садами и цветниками .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253" name="Picture 3" descr=""/>
          <p:cNvPicPr/>
          <p:nvPr/>
        </p:nvPicPr>
        <p:blipFill>
          <a:blip r:embed="rId1"/>
          <a:stretch/>
        </p:blipFill>
        <p:spPr>
          <a:xfrm>
            <a:off x="1403280" y="542880"/>
            <a:ext cx="5472360" cy="36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34"/>
                </a:solidFill>
                <a:latin typeface="Arial"/>
              </a:rPr>
              <a:t>Что вы знаете о парке, который окружал дом?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34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292934"/>
                </a:solidFill>
                <a:latin typeface="Arial"/>
              </a:rPr>
              <a:t>Парк был удивительно красив . Могучие дубы росли в нём рядом со столетними елями, высокими соснами, стройными тополями, каштанами и осинами. У подножия холма, на котором стояла усадьба, были вырыты пруды, служившие естественной границей парка. Здесь  среди изумительной и неповторимой  красоты вырос знаменитый писатель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34"/>
                </a:solidFill>
                <a:latin typeface="Arial"/>
              </a:rPr>
              <a:t>       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2533c"/>
                </a:solidFill>
                <a:latin typeface="Arial"/>
              </a:rPr>
              <a:t>Имение Тургеневых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260" name="Picture 4" descr=""/>
          <p:cNvPicPr/>
          <p:nvPr/>
        </p:nvPicPr>
        <p:blipFill>
          <a:blip r:embed="rId1"/>
          <a:stretch/>
        </p:blipFill>
        <p:spPr>
          <a:xfrm>
            <a:off x="468360" y="1628640"/>
            <a:ext cx="705636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468360" y="1628640"/>
            <a:ext cx="2562120" cy="381024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3635280" y="2160720"/>
            <a:ext cx="5052960" cy="33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267" name="Picture 2" descr=""/>
          <p:cNvPicPr/>
          <p:nvPr/>
        </p:nvPicPr>
        <p:blipFill>
          <a:blip r:embed="rId1"/>
          <a:stretch/>
        </p:blipFill>
        <p:spPr>
          <a:xfrm>
            <a:off x="468360" y="1628640"/>
            <a:ext cx="8297640" cy="482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2533c"/>
                </a:solidFill>
                <a:latin typeface="Arial"/>
              </a:rPr>
              <a:t>Интерьер дома Тургеневых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270" name="Picture 2" descr=""/>
          <p:cNvPicPr/>
          <p:nvPr/>
        </p:nvPicPr>
        <p:blipFill>
          <a:blip r:embed="rId1"/>
          <a:stretch/>
        </p:blipFill>
        <p:spPr>
          <a:xfrm>
            <a:off x="500040" y="1628640"/>
            <a:ext cx="7240680" cy="486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2533c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34"/>
                </a:solidFill>
                <a:latin typeface="Arial"/>
              </a:rPr>
              <a:t>Кто из родителей занимался воспитанием детей?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28760" y="1999800"/>
            <a:ext cx="8229600" cy="43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292934"/>
                </a:solidFill>
                <a:latin typeface="Arial"/>
              </a:rPr>
              <a:t>	</a:t>
            </a:r>
            <a:r>
              <a:rPr b="0" lang="ru-RU" sz="2300" spc="-1" strike="noStrike">
                <a:solidFill>
                  <a:srgbClr val="292934"/>
                </a:solidFill>
                <a:latin typeface="Arial"/>
              </a:rPr>
              <a:t>Воспитанием детей занималась преимущественно Варвара  Петровна. </a:t>
            </a:r>
            <a:endParaRPr b="0" lang="en-US" sz="23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292934"/>
                </a:solidFill>
                <a:latin typeface="Arial"/>
              </a:rPr>
              <a:t>	</a:t>
            </a:r>
            <a:r>
              <a:rPr b="0" lang="ru-RU" sz="2300" spc="-1" strike="noStrike">
                <a:solidFill>
                  <a:srgbClr val="292934"/>
                </a:solidFill>
                <a:latin typeface="Arial"/>
              </a:rPr>
              <a:t>Перенесённые в своё время в доме отчима и дяди страдания не лучшем образом отразились на её характере.</a:t>
            </a:r>
            <a:endParaRPr b="0" lang="en-US" sz="23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292934"/>
                </a:solidFill>
                <a:latin typeface="Arial"/>
              </a:rPr>
              <a:t>	</a:t>
            </a:r>
            <a:r>
              <a:rPr b="0" lang="ru-RU" sz="2300" spc="-1" strike="noStrike">
                <a:solidFill>
                  <a:srgbClr val="292934"/>
                </a:solidFill>
                <a:latin typeface="Arial"/>
              </a:rPr>
              <a:t>К детям она относилась неровно, наказывала за малейшие поступки, а иногда и без причины. </a:t>
            </a:r>
            <a:endParaRPr b="0" lang="en-US" sz="23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300"/>
            </a:br>
            <a:r>
              <a:rPr b="0" lang="ru-RU" sz="2300" spc="-1" strike="noStrike">
                <a:solidFill>
                  <a:srgbClr val="292934"/>
                </a:solidFill>
                <a:latin typeface="Arial"/>
              </a:rPr>
              <a:t>«Мне нечем помянуть своё детство,» - говорил много лет спустя Тургенев.</a:t>
            </a:r>
            <a:br>
              <a:rPr sz="2300"/>
            </a:br>
            <a:br>
              <a:rPr sz="800"/>
            </a:br>
            <a:br>
              <a:rPr sz="800"/>
            </a:br>
            <a:br>
              <a:rPr sz="800"/>
            </a:br>
            <a:endParaRPr b="0" lang="en-US" sz="23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endParaRPr b="0" lang="en-US" sz="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endParaRPr b="0" lang="en-US" sz="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2533c"/>
                </a:solidFill>
                <a:latin typeface="Arial"/>
              </a:rPr>
              <a:t>ОТНОШЕНИЯ С ОТЦОМ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34"/>
                </a:solidFill>
                <a:latin typeface="Arial"/>
              </a:rPr>
              <a:t>С ОТЦОМ У ИВАНА СЕРГЕЕВИЧА ОТНОШЕНИЯ БЫЛИ СЛОЖНЫМИ. ОН САМ РАССКАЗАЛ ЭТО В СВОЕЙ ПОВЕСТИ «ПЕРВАЯ ЛЮБОВЬ</a:t>
            </a:r>
            <a:r>
              <a:rPr b="0" lang="ru-RU" sz="2800" spc="-1" strike="noStrike">
                <a:solidFill>
                  <a:srgbClr val="292934"/>
                </a:solidFill>
                <a:latin typeface="Arial"/>
              </a:rPr>
              <a:t>»: </a:t>
            </a:r>
            <a:r>
              <a:rPr b="0" lang="ru-RU" sz="2400" spc="-1" strike="noStrike">
                <a:solidFill>
                  <a:srgbClr val="292934"/>
                </a:solidFill>
                <a:latin typeface="Arial"/>
              </a:rPr>
              <a:t>СТРАННОЕ ВЛИЯНИЕ ИМЕЛ НА МЕНЯ ОТЕЦ – И  СТРАННЫЕ БЫЛИ НАШИ ОТНОШЕНИЯ. ОН ПОЧТИ НЕ ЗАНИМАЛСЯ МОИМ ВОСПИТАНИЕМ, НО НИКОГДА НЕ ОСКОРБЛЯЛ МЕНЯ; ОН УВАЖАЛ МОЮ СВОБОДУ -  ОН ДАЖЕ БЫЛ ВЕЖЛИВ СО МНОЮ… ТОЛЬКО ОН НЕ ДОПУСКАЛ МЕНЯ ДО СЕБЯ. Я  ЛЮБИЛ ЕГО И ПОЧЕТАЛ,  И ЛЮБОВАЛСЯ ИМ -  ЭТО БЫЛ ПРИМЕР МУЖЧИНЫ. КОГДА Я НА НЕГО СМОТРЕЛ, СЕРДЦЕ ДРОЖАЛО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34"/>
                </a:solidFill>
                <a:latin typeface="Arial"/>
              </a:rPr>
              <a:t>Назовите дату рождения Ивана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34"/>
                </a:solidFill>
                <a:latin typeface="Arial"/>
              </a:rPr>
              <a:t>Сергеевича Тургенева?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232" name="Picture 3" descr=""/>
          <p:cNvPicPr/>
          <p:nvPr/>
        </p:nvPicPr>
        <p:blipFill>
          <a:blip r:embed="rId1"/>
          <a:stretch/>
        </p:blipFill>
        <p:spPr>
          <a:xfrm>
            <a:off x="5435640" y="1700280"/>
            <a:ext cx="30574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2533c"/>
                </a:solidFill>
                <a:latin typeface="Arial"/>
              </a:rPr>
              <a:t>     </a:t>
            </a:r>
            <a:r>
              <a:rPr b="0" lang="ru-RU" sz="4000" spc="-1" strike="noStrike">
                <a:solidFill>
                  <a:srgbClr val="d2533c"/>
                </a:solidFill>
                <a:latin typeface="Arial"/>
              </a:rPr>
              <a:t>КАРТИНЫ НАСИЛИЯ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pic>
        <p:nvPicPr>
          <p:cNvPr id="278" name="Содержимое 2" descr=""/>
          <p:cNvPicPr/>
          <p:nvPr/>
        </p:nvPicPr>
        <p:blipFill>
          <a:blip r:embed="rId1"/>
          <a:stretch/>
        </p:blipFill>
        <p:spPr>
          <a:xfrm>
            <a:off x="360360" y="1536840"/>
            <a:ext cx="9856800" cy="49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71680" y="267840"/>
            <a:ext cx="811512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d2533c"/>
              </a:solidFill>
              <a:latin typeface="Arial"/>
            </a:endParaRPr>
          </a:p>
        </p:txBody>
      </p:sp>
      <p:pic>
        <p:nvPicPr>
          <p:cNvPr id="280" name="Содержимое 2" descr=""/>
          <p:cNvPicPr/>
          <p:nvPr/>
        </p:nvPicPr>
        <p:blipFill>
          <a:blip r:embed="rId1"/>
          <a:stretch/>
        </p:blipFill>
        <p:spPr>
          <a:xfrm>
            <a:off x="500040" y="1719360"/>
            <a:ext cx="8290080" cy="46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2533c"/>
                </a:solidFill>
                <a:latin typeface="Arial"/>
              </a:rPr>
              <a:t>ОБЩЕНИЕ ТУРГЕНЕВА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pic>
        <p:nvPicPr>
          <p:cNvPr id="282" name="Содержимое 2" descr=""/>
          <p:cNvPicPr/>
          <p:nvPr/>
        </p:nvPicPr>
        <p:blipFill>
          <a:blip r:embed="rId1"/>
          <a:stretch/>
        </p:blipFill>
        <p:spPr>
          <a:xfrm>
            <a:off x="360360" y="1792440"/>
            <a:ext cx="8399520" cy="46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34"/>
                </a:solidFill>
                <a:latin typeface="Arial"/>
              </a:rPr>
              <a:t>Вы знаете увлечения И.С.Тургенева?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2533c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34"/>
                </a:solidFill>
                <a:latin typeface="Arial"/>
              </a:rPr>
              <a:t>С БОЛЬШОЙ ОХОТОЙ ОН ПРОВОДИЛ ВРЕМЯ, ГУЛЯЯ В ПАРКЕ, ГДЕ У НЕГО БЫЛИ СВОИ ЛЮБИМЫЕ УГОЛКИ, УДИЛ В ПРУДУ РЫБУ, ЛОВИЛ ПТИЦ. ЕГО ЧАСТО МОЖНО БЫЛО ВИДЕТЬ СРЕДИ ЛЕСНИКОВ И ОХОТНИКОВ СПАССКОГО, КОТОРЫЕ УЧИЛИ ЕГО СТРЕЛЯТЬ ИЗ ОРУЖИЯ, УЗНАВАТЬ ПОВАДКИ ДИКИХ УТОК, ПЕРЕПЁЛОК, КУРОПАТОК И ПЕВЧИХПТИЦ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2533c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34"/>
                </a:solidFill>
                <a:latin typeface="Arial"/>
              </a:rPr>
              <a:t>В ДОМЕ У ТУРГЕНЕВЫХ БЫЛА ДОВОЛЬНО БОЛЬШАЯ БИБЛИОТЕКА. В ОГРОМЫХ ШКАФАХ ХРАНИЛИСЬ ПРОИЗВЕДЕНИЯ АНТИЧНЫХ  ПИСАТЕЛЕЙ И ПОЭТОВ, СОЧИНЕНИЯ ФРАНЦУЗСКИХ ЭНЦИКЛОПЕДИСТОВ: ВОЛЬТЕРА, РУССО И ДРУГИХ. ВСКОРЕ БИБЛИОТЕКА СТАЛА ДЛЯ ТУРГЕНЕВА САМЫМ ЛЮБИМЫМ МЕСТОМ В ДОМЕ, ГДЕ ОН ПОРОЙ ПРОВОДИЛ  ЦЕЛЫЕ ДНИ.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2533c"/>
                </a:solidFill>
                <a:latin typeface="Arial"/>
              </a:rPr>
              <a:t>Библиотека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8229600" cy="487692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2" descr=""/>
          <p:cNvPicPr/>
          <p:nvPr/>
        </p:nvPicPr>
        <p:blipFill>
          <a:blip r:embed="rId2"/>
          <a:stretch/>
        </p:blipFill>
        <p:spPr>
          <a:xfrm>
            <a:off x="1258920" y="1627200"/>
            <a:ext cx="4681440" cy="48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2533c"/>
                </a:solidFill>
                <a:latin typeface="Arial"/>
              </a:rPr>
              <a:t>ПЕРЕЕЗД В МОСКВУ.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34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292934"/>
                </a:solidFill>
                <a:latin typeface="Arial"/>
              </a:rPr>
              <a:t>СЕМЬЯ ТУРГЕНЕВЫХ ПЕРЕЕХАЛИ В МОСКВУ, ПОРА БЫЛО ГОТОВИТЬ ДЕТЕЙ К ПОСТУПЛЕНИЮ В УЧЕБНЫЕ ЗАВЕДЕНИЯ. С НАЧАЛА НИКОЛАЯ И ИВАНА ПОМЕСТИЛИ В ЧАСТНЫЙ ПАНСИОН ВИНТЕРКЕЛЛЕРА, А ЗАТЕМ В ПАНСИОН КРАУЗЕ, НАЗВАННЫЙ  ПОЗДНЕЕ ЛАЗАРЕВСКИМ ИНСТИТУТОМ  ВОСТОЧНЫХ ЯЗЫКОВ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356920"/>
            <a:ext cx="8229600" cy="20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d2533c"/>
                </a:solidFill>
                <a:latin typeface="Arial"/>
              </a:rPr>
              <a:t>ПЕРВЫЕ ЛИТЕРАТУРНЫЕ ОПЫТЫ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34"/>
                </a:solidFill>
                <a:latin typeface="Arial"/>
              </a:rPr>
              <a:t>ПЕРВЫЕ ЛИТЕРАТУРНЫЕ ОПЫТЫ ТУРГЕНЕВА СОЗДАВАЛИСЬ ПОД СИЛЬНЕЙШИМ ВОЗДЕЙСТВИЕМ ГОСПОДСТВОВАВШЕГО ТОГДА В ЛИТЕРАТУРЕ РОМАНТИЗМА, И ПРЕЖДЕ ВСЕГО ПОЭЗИИ БАЙРОНА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2533c"/>
                </a:solidFill>
                <a:latin typeface="Arial"/>
              </a:rPr>
              <a:t>                </a:t>
            </a:r>
            <a:r>
              <a:rPr b="0" lang="ru-RU" sz="4000" spc="-1" strike="noStrike">
                <a:solidFill>
                  <a:srgbClr val="d2533c"/>
                </a:solidFill>
                <a:latin typeface="Arial"/>
              </a:rPr>
              <a:t>детство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57200" y="1673280"/>
            <a:ext cx="4038480" cy="471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105520" y="692280"/>
            <a:ext cx="4038480" cy="55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34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292934"/>
                </a:solidFill>
                <a:latin typeface="Arial"/>
              </a:rPr>
              <a:t>Знаменитый писатель родился 28 октября 1818г в городе Орле.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236" name="Picture 4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4032360" cy="496728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5" descr=""/>
          <p:cNvPicPr/>
          <p:nvPr/>
        </p:nvPicPr>
        <p:blipFill>
          <a:blip r:embed="rId2"/>
          <a:stretch/>
        </p:blipFill>
        <p:spPr>
          <a:xfrm>
            <a:off x="5288040" y="2313000"/>
            <a:ext cx="363060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d2533c"/>
                </a:solidFill>
                <a:latin typeface="Arial"/>
              </a:rPr>
              <a:t>ПЕРВОЕ ПРОИЗВЕДЕНИЕ ТУРГЕНЕВА.</a:t>
            </a:r>
            <a:endParaRPr b="0" lang="en-US" sz="36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34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292934"/>
                </a:solidFill>
                <a:latin typeface="Arial"/>
              </a:rPr>
              <a:t>ПЕРВОЕ ПРОИЗВЕДЕНИЕ ТУРГЕНЕВА ПОЯВИЛОСЬ В ПЕЧАТИ В 1836г., КОГДА ОН ЕЩЁ УЧИЛСЯ В ПЕТЕРБУРГСКОМ УНИВЕРСИТЕТЕ. ЭТО БЫЛА НЕБОЛЬШАЯ РЕЦЕНЗИЯ НА КНИГУ А.Н.МУРАВЬЁВА «ПУТЕШЕСТВИЕ ПО СВЯТЫМ МЕСТАМ РУССКИМ». МНОГО ЛЕТ СПУСТЯ ТУРГЕНЕВ ТАК ОБЪЯСНИЛ ПОЯВЛЕНИЕ ЭТОГО СВОЕГО  ПЕРВОГО ПЕЧАТНОГО ПРОИЗВЕДЕНИЯ:  «МНЕ ТОГДА ТОЛЬКО ЧТО МИНУЛО СЕМНАДЦАТЬ ЛЕТ»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285840" y="1857240"/>
            <a:ext cx="85723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34"/>
                </a:solidFill>
                <a:latin typeface="Arial"/>
              </a:rPr>
              <a:t>ГЛАВНОЕ ВНИМАНИЕ ТУРГЕНЕВ УДЕЛЯЛ  ПОЭЗИИ. ЕГО СТИХОТВОРЕНИЯ НАЧИНАЯ С 1830-х ГОДОВ СТАЛИ ПОЯВЛЯТЬСЯ В ЖУРНАЛАХ «СОВРЕМЕННИК» И «ОТЕЧЕСТВЕННЫЕ ЗАПИСКИ». В НИХ ОТЧЁТЛИВО СЛЫШАЛИСЬ МОТИВЫ ГОСПОДСТВОВАВШЕГО ТОГДА РОМАНТИЧЕСКОГО НАПРАВЛЕНИЯ, ОТЗВУКИ ПОЭЗИИ ЖУКОВСКОГО, КОЗЛОВА. БОЛЬШИНСТВО СТИХОВ – ЭТО ЭЛЕГИЧЕСКИЕ РАЗДУМЬЯ О ЛЮБВИ, О БЕСЦЕЛЬНО ПРОЖИТОЙ МОЛОДОСТИ. ОНИ, КАК ПРАВИЛО, БЫЛИ ПРОНИЗАНЫ МОТИВАМИ ГРУСТИ, ПЕЧАЛИ, ТОСКИ. САМ ТУРГЕНЕВ ПОЗДНЕЕ ВЕСЬМА СКЕПТИЧЕСКИ ОТНОСИЛСЯ К СВОИМ СТИХОТВОРЕНИЯМ  И ПОЭМАМ 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214200" y="1428480"/>
            <a:ext cx="871560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34"/>
                </a:solidFill>
                <a:latin typeface="Arial"/>
              </a:rPr>
              <a:t>ТУРГЕНЕВ БЫЛ  НЕСПРАВЕДЛИВ, СТОЛЬ СУРОВО ОТОЗВАВШИСЬ О СВОИХ ПОЭТИЧЕСКИХ ОПЫТАХ. СРЕДИ НИХ МОЖНО НАЙТИ НЕМАЛО ТАЛАНТИЛИВО НАПИСАННЫХ СТИХОТВОРЕНИЙ И ПОЭМ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d2533c"/>
                </a:solidFill>
                <a:latin typeface="Arial"/>
              </a:rPr>
              <a:t>НАЧАЛО ЛИТЕРАТУРНОЙ ДЕЯТЕЯЛЬНОСТИ</a:t>
            </a:r>
            <a:endParaRPr b="0" lang="en-US" sz="3600" spc="-1" strike="noStrike">
              <a:solidFill>
                <a:srgbClr val="d2533c"/>
              </a:solidFill>
              <a:latin typeface="Arial"/>
            </a:endParaRPr>
          </a:p>
        </p:txBody>
      </p:sp>
      <p:pic>
        <p:nvPicPr>
          <p:cNvPr id="304" name="Содержимое 2" descr=""/>
          <p:cNvPicPr/>
          <p:nvPr/>
        </p:nvPicPr>
        <p:blipFill>
          <a:blip r:embed="rId1"/>
          <a:stretch/>
        </p:blipFill>
        <p:spPr>
          <a:xfrm>
            <a:off x="457200" y="1603440"/>
            <a:ext cx="822960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2533c"/>
                </a:solidFill>
                <a:latin typeface="Arial"/>
              </a:rPr>
              <a:t>БОЛЕЗНЬ И СМЕРТЬ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214200" y="1428480"/>
            <a:ext cx="8715600" cy="50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34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292934"/>
                </a:solidFill>
                <a:latin typeface="Arial"/>
              </a:rPr>
              <a:t>ПОЧТИ ЕЖЕГОДНО ВЕСНОЙ ИЛИ ЛЕТОМ ТУРГЕНЕВ ПРИЕЗЖАЛ В РОССИЮ. КАЖДЫЙ ЕГО ПРИЕЗД СТАНОВИЛСЯ ЦЕЛЫМ СОБЫТИЕМ. ПИСАТЕЛЬ ВСЮДУ БЫЛ ЖЕЛАННЫМ ГОСТЁМ. ЕГО ПРИГЛАШАЛИ ВЫСТУПАТЬ НА  ЛИТЕРАТУРНЫХ И БЛАГОТВОРИТЕЛЬНЫХ ВЕЧЕРАХ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34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292934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292934"/>
                </a:solidFill>
                <a:latin typeface="Arial"/>
              </a:rPr>
              <a:t>В ПОСЛЕДНИЕ ГОДЫ ЖИЗНИ ТУРГЕНЕВЫМ БЫЛО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34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292934"/>
                </a:solidFill>
                <a:latin typeface="Arial"/>
              </a:rPr>
              <a:t>НАПИСАНО НЕСКОЛЬКО НЕБОЛЬШИХ ПРОЗАИЧЕСКИХ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34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292934"/>
                </a:solidFill>
                <a:latin typeface="Arial"/>
              </a:rPr>
              <a:t>ПРОИЗВЕДЕНИЙ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34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292934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292934"/>
                </a:solidFill>
                <a:latin typeface="Arial"/>
              </a:rPr>
              <a:t>ПОСЛЕДНИЙ РАЗ ПИСАТЕЛЬ ПОБЫВАЛ НА РОДИНЕ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34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292934"/>
                </a:solidFill>
                <a:latin typeface="Arial"/>
              </a:rPr>
              <a:t>В 1880 Г.                                                                                                               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2533c"/>
                </a:solidFill>
                <a:latin typeface="Arial"/>
              </a:rPr>
              <a:t>              </a:t>
            </a:r>
            <a:r>
              <a:rPr b="0" lang="ru-RU" sz="4000" spc="-1" strike="noStrike">
                <a:solidFill>
                  <a:srgbClr val="d2533c"/>
                </a:solidFill>
                <a:latin typeface="Arial"/>
              </a:rPr>
              <a:t>БОЛЕЗНЬ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292934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292934"/>
                </a:solidFill>
                <a:latin typeface="Arial"/>
              </a:rPr>
              <a:t>В НАЧАЛЕ 1882г.ТУРГЕНЕВ СИЛЬНО </a:t>
            </a:r>
            <a:endParaRPr b="0" lang="en-US" sz="26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292934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292934"/>
                </a:solidFill>
                <a:latin typeface="Arial"/>
              </a:rPr>
              <a:t>ЗАБОЛЕЛ, И О ПЕРЕЕЗДЕ УЖЕ  НЕ МОГЛО </a:t>
            </a:r>
            <a:endParaRPr b="0" lang="en-US" sz="26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292934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292934"/>
                </a:solidFill>
                <a:latin typeface="Arial"/>
              </a:rPr>
              <a:t>БЫТЬ РЕЧИ. НО ВСЕ ЕГО МЫСЛИ БЫЛИ О </a:t>
            </a:r>
            <a:endParaRPr b="0" lang="en-US" sz="26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292934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292934"/>
                </a:solidFill>
                <a:latin typeface="Arial"/>
              </a:rPr>
              <a:t>РОССИИ, ДУМАЛ О ЕЁ БУДУЩЕМ, О СЛАВЕ РУССКОЙ ЛИТЕРАТУРЫ.</a:t>
            </a:r>
            <a:endParaRPr b="0" lang="en-US" sz="26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292934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292934"/>
                </a:solidFill>
                <a:latin typeface="Arial"/>
              </a:rPr>
              <a:t>ПОСЛЕДНЕЕ ПИСЬМО, НАПИСАННОЕ </a:t>
            </a:r>
            <a:endParaRPr b="0" lang="en-US" sz="26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292934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292934"/>
                </a:solidFill>
                <a:latin typeface="Arial"/>
              </a:rPr>
              <a:t>СОБСТВЕННОРУЧНО УМИРАЮЩИМ </a:t>
            </a:r>
            <a:endParaRPr b="0" lang="en-US" sz="26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292934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292934"/>
                </a:solidFill>
                <a:latin typeface="Arial"/>
              </a:rPr>
              <a:t>ПИСАТЕЛЕМ В ИЮЛЕ 1883Г.,  БЫЛО</a:t>
            </a:r>
            <a:endParaRPr b="0" lang="en-US" sz="26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292934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292934"/>
                </a:solidFill>
                <a:latin typeface="Arial"/>
              </a:rPr>
              <a:t>ОБРАЩЕНО ТОЛСТОМУ С ПРОСЬБОЙ ВЕРНУТЬСЯ В ЛИТЕРАТУРУ.</a:t>
            </a:r>
            <a:endParaRPr b="0" lang="en-US" sz="26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2934"/>
                </a:solidFill>
                <a:latin typeface="Arial"/>
              </a:rPr>
              <a:t>                                                                                         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09" name="Прямоугольник 3"/>
          <p:cNvSpPr/>
          <p:nvPr/>
        </p:nvSpPr>
        <p:spPr>
          <a:xfrm>
            <a:off x="4479840" y="2967120"/>
            <a:ext cx="23508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2533c"/>
                </a:solidFill>
                <a:latin typeface="Arial"/>
              </a:rPr>
              <a:t>                </a:t>
            </a:r>
            <a:r>
              <a:rPr b="0" lang="ru-RU" sz="4000" spc="-1" strike="noStrike">
                <a:solidFill>
                  <a:srgbClr val="d2533c"/>
                </a:solidFill>
                <a:latin typeface="Arial"/>
              </a:rPr>
              <a:t>СМЕРТЬ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34"/>
                </a:solidFill>
                <a:latin typeface="Arial"/>
              </a:rPr>
              <a:t>УМЕР ТУРГЕНЕВ 3 СЕНТЯБРЯ 1883г. ВО ФРАНЦИИ. СМЕРТЬ ТУРГЕНЕВА БЫЛА ВОСПРИНЯТА КАК «ГОРЕ ОБЩЕЕ, ВСЕНАРОДНОЕ». ПРОВОДИТЬ ВЕЛИКОГО ПИСАТЕЛЯ СОБРАЛИСЬ ТЫСЯЧИ ЛЮДЕЙ. НА СМЕРТЬ ТУРГЕНЕВА ОТКЛИКНУЛАСЬ РУССКАЯ И ЗАРУБЕЖНАЯ ПЕЧАТИ. ТУРГЕНЕВ СЧИТАЛСЯ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34"/>
                </a:solidFill>
                <a:latin typeface="Arial"/>
              </a:rPr>
              <a:t>ГОРДОСТЬЮ  И СЛАВОЙ РОССИИ.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2533c"/>
                </a:solidFill>
                <a:latin typeface="Arial"/>
              </a:rPr>
              <a:t>Похороны Тургенева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pic>
        <p:nvPicPr>
          <p:cNvPr id="313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8229600" cy="487692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2" descr=""/>
          <p:cNvPicPr/>
          <p:nvPr/>
        </p:nvPicPr>
        <p:blipFill>
          <a:blip r:embed="rId2"/>
          <a:stretch/>
        </p:blipFill>
        <p:spPr>
          <a:xfrm>
            <a:off x="250920" y="1484280"/>
            <a:ext cx="767556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2533c"/>
                </a:solidFill>
                <a:latin typeface="Arial"/>
              </a:rPr>
              <a:t>Памятник Тургеневу в Орле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pic>
        <p:nvPicPr>
          <p:cNvPr id="316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8229600" cy="487692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2" descr=""/>
          <p:cNvPicPr/>
          <p:nvPr/>
        </p:nvPicPr>
        <p:blipFill>
          <a:blip r:embed="rId2"/>
          <a:stretch/>
        </p:blipFill>
        <p:spPr>
          <a:xfrm>
            <a:off x="468360" y="1600200"/>
            <a:ext cx="2906640" cy="467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34"/>
                </a:solidFill>
                <a:latin typeface="Arial"/>
              </a:rPr>
              <a:t>Как звали маму И.С.Тургенева?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2533c"/>
                </a:solidFill>
                <a:latin typeface="Arial"/>
              </a:rPr>
              <a:t>         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57200" y="1673280"/>
            <a:ext cx="4038480" cy="471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648320" y="1673280"/>
            <a:ext cx="4038480" cy="471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33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34"/>
                </a:solidFill>
                <a:latin typeface="Arial"/>
              </a:rPr>
              <a:t>Варвара Петровна - 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633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34"/>
                </a:solidFill>
                <a:latin typeface="Arial"/>
              </a:rPr>
              <a:t>женщина властная, умная и достаточно образованная.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243" name="Picture 4" descr=""/>
          <p:cNvPicPr/>
          <p:nvPr/>
        </p:nvPicPr>
        <p:blipFill>
          <a:blip r:embed="rId1"/>
          <a:stretch/>
        </p:blipFill>
        <p:spPr>
          <a:xfrm>
            <a:off x="468360" y="1628640"/>
            <a:ext cx="3382920" cy="483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000160"/>
            <a:ext cx="8229600" cy="250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2533c"/>
                </a:solidFill>
                <a:latin typeface="Arial"/>
              </a:rPr>
              <a:t>Опишите маму И.С.Тургенева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0" lang="ru-RU" sz="2200" spc="-1" strike="noStrike">
                <a:solidFill>
                  <a:srgbClr val="d2533c"/>
                </a:solidFill>
                <a:latin typeface="Arial"/>
              </a:rPr>
              <a:t>Варвара Петровна не блистала красотой, была</a:t>
            </a:r>
            <a:br>
              <a:rPr sz="2200"/>
            </a:br>
            <a:r>
              <a:rPr b="0" lang="ru-RU" sz="2200" spc="-1" strike="noStrike">
                <a:solidFill>
                  <a:srgbClr val="d2533c"/>
                </a:solidFill>
                <a:latin typeface="Arial"/>
              </a:rPr>
              <a:t>небольшого роста, приземистой, с широким лицом, попорченным оспой, и лишь глаза были хорошие: большие, темные и блестящие.</a:t>
            </a:r>
            <a:br>
              <a:rPr sz="2200"/>
            </a:br>
            <a:r>
              <a:rPr b="0" lang="ru-RU" sz="3200" spc="-1" strike="noStrike">
                <a:solidFill>
                  <a:srgbClr val="d2533c"/>
                </a:solidFill>
                <a:latin typeface="Arial"/>
              </a:rPr>
              <a:t> 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d2533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0" y="4929120"/>
            <a:ext cx="9144000" cy="164304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r>
              <a:rPr b="1" lang="ru-RU" sz="2500" spc="-1" strike="noStrike">
                <a:solidFill>
                  <a:srgbClr val="d2533c"/>
                </a:solidFill>
                <a:latin typeface="Arial"/>
              </a:rPr>
              <a:t>Отец И.С. Тургенева, Сергей Николаевич,  происходил из дворянского рода. Он был безумно красив, изящен, умен.</a:t>
            </a: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0" lang="ru-RU" sz="3600" spc="-1" strike="noStrike">
                <a:solidFill>
                  <a:srgbClr val="d2533c"/>
                </a:solidFill>
                <a:latin typeface="Arial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d2533c"/>
              </a:solidFill>
              <a:latin typeface="Arial"/>
            </a:endParaRPr>
          </a:p>
        </p:txBody>
      </p:sp>
      <p:pic>
        <p:nvPicPr>
          <p:cNvPr id="247" name="Picture 2" descr=""/>
          <p:cNvPicPr/>
          <p:nvPr/>
        </p:nvPicPr>
        <p:blipFill>
          <a:blip r:embed="rId1"/>
          <a:stretch/>
        </p:blipFill>
        <p:spPr>
          <a:xfrm>
            <a:off x="6227640" y="476280"/>
            <a:ext cx="27622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34"/>
                </a:solidFill>
                <a:latin typeface="Arial"/>
              </a:rPr>
              <a:t>Что вы знаете о имении Тургеневых?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50" name="Прямоугольник 3"/>
          <p:cNvSpPr/>
          <p:nvPr/>
        </p:nvSpPr>
        <p:spPr>
          <a:xfrm>
            <a:off x="4479840" y="2967120"/>
            <a:ext cx="23508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0T12:06:44Z</dcterms:created>
  <dc:creator>DNA7 X86</dc:creator>
  <dc:description/>
  <dc:language>en-US</dc:language>
  <cp:lastModifiedBy>Intel</cp:lastModifiedBy>
  <dcterms:modified xsi:type="dcterms:W3CDTF">2012-01-19T12:13:25Z</dcterms:modified>
  <cp:revision>104</cp:revision>
  <dc:subject/>
  <dc:title>ПРЕЗИНТАЦИ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c42c0000000000010250600207f7000400038000</vt:lpwstr>
  </property>
</Properties>
</file>