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комп" initials="к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2-10-10T10:08:41.950000000" idx="1">
    <p:pos x="-118" y="-255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CF9D-8CCB-43D2-A4B4-A1B6FEF53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545E-AADB-4054-9158-3BF35455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5384-EA64-4986-B85D-60E81D424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9A4B-3B04-4863-BDBD-778551AFF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6174-022A-4892-A14B-91B2481D3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1288-A057-4E63-BC2A-BD42C151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4E0A-1E9A-4B3A-BB5F-ED24655F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D8105-9A50-4436-9208-4FB49A54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007D6-DB85-4770-B7BD-9B36AAE2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18855-D105-4BF6-BBB2-C298769E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924D-54E5-4AF6-BF19-204BAC96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D1FE-C2FE-4B67-B585-9B255627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5B2D-92BF-4ADC-8F03-96627708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8D03-5136-4F1F-A818-CF147419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1115-A7D8-46C7-8826-CF249C84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9FBB-7EC6-46B6-BE0B-66BBA8F49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21FD-F9A2-4504-BC6C-166EF6E61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BEFB-472D-4C18-9F46-F5C6A31AE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DE37-F904-4CB2-9715-632B58F3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1AC0-9BE3-4BF6-AF31-A972A102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C35D-A6EE-4281-9453-AB7B9DD4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F2B0-7A54-465D-B2B0-DD4FBF67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C04A-26B6-4B6E-B05D-AE39AC25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6CFD-68A0-438B-825B-3557ADDC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A837-3E25-4A5A-AA99-3CFCE716CB6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3D51-D5B9-44F6-9BEC-1AE9E2BFDA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comments" Target="../comments/commen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1042920" y="2276640"/>
            <a:ext cx="7416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ЕСТНИКИ    ВЕСНЫ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"/>
          <p:cNvSpPr txBox="1"/>
          <p:nvPr/>
        </p:nvSpPr>
        <p:spPr>
          <a:xfrm rot="21221400">
            <a:off x="1039320" y="3596760"/>
            <a:ext cx="74898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х  нужно  спасти !  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6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-3124080"/>
            <a:ext cx="7772400" cy="25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873680" y="1599840"/>
            <a:ext cx="3813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Латинское  название  рода  происходит от искаженного перси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ского  слова «дульбенд», что означает название головного убора тюрбана. Видовое название связано с именем  русского ботаника 19 века А.Шренка. В народе его называют лазоревым цвет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ноголетнее луковичное  растение, с невысоким  стеблем (15-30 см). Листья продолговатые, по краю волнистые, в числе 3-4. Цветки одиночные, крупные (3-5 см диаметром), разнообразной окраски: красной, желтой, белой, розовой и т.д. Предпочитает глинистые и солонцеватые почвы. Цветет  в конце апре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55640" y="404640"/>
            <a:ext cx="7632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ЮЛЬПАН  ГЕСНЕРА  (TULIPA  GESNERIANA)</a:t>
            </a:r>
            <a:endParaRPr b="0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3792600" cy="4525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-1900080"/>
            <a:ext cx="8229600" cy="12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873680" y="1599840"/>
            <a:ext cx="3813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038480" cy="4537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826920" y="620640"/>
            <a:ext cx="7561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СТРЕЛ  ЛУГОВОЙ  (PULSATILA  PRATENSIS)</a:t>
            </a:r>
            <a:endParaRPr b="0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3640" y="260280"/>
            <a:ext cx="856908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В  Иловлинском  районе  Волгоградской  области  на  территории природного  парка  «Донской»   произрастают  редкие  первоцветы, занесенные  в  «Красную  книгу».  Это  рябчик  русский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(Fritillia  ruthenica wikstr)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, брандушка  разноцветная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 (Bulbocodium  versicolor)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безвременник  яркий,  пион  тонколистный, первоцвет   весенний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(Primula  veris)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,  прострел раскрытый (сон-трава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 (Pulsatila  patens)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, прострел  луговой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 (Pulsatila  pratensis)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, касатик (ирис)  карликовый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 (Iris pumila)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, касатик  тонколистный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 (Iris   tenuifoli)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, тюльпан  Геснера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(Шренка) 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(Tulipa   gesneriana)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, адонис  весенний  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donis vernalis)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ЕРВЫЕ  ЦВЕТЫ, ВЕСТНИКИ  ВЕСНЫ  - ЭТО  РАДОСТЬ  ДЛЯ  ДУШИ  ПОСЛЕ  ДОЛГОЙ  ЗИМЫ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          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Е  СРЫВАЙТЕ  ИХ,  А  ПРОСТО  ЛЮБУЙТЕСЬ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4920" y="-723960"/>
            <a:ext cx="83026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73680" y="1599840"/>
            <a:ext cx="3813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i="1" lang="ru-RU" sz="1600" spc="-1" strike="noStrike">
                <a:solidFill>
                  <a:srgbClr val="ff0000"/>
                </a:solidFill>
                <a:latin typeface="Times New Roman"/>
              </a:rPr>
              <a:t>Название  происходит  от имени финикийского и ассирийского  бога  солнца Адона, по легенде, он ежегодно  умирал  и с каждой  новой весной  воскресал.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ноголетнее  травянистое  растение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 коротким корневищем, от которого отходят наземные  побеги (3-5), с сидячими, расчлененными  на узкие  дольки листьями. Цветки  правильные, крупные, лепестки желтые. Плод – многоорешник. Цветет  в апре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угово-степной  вид.  В  нашей  области  собирался  только  один раз  в Урюпинском  районе.  Растет  по  лесным  опушкам.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023920" y="333360"/>
            <a:ext cx="5096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ДОНИС  ВЕСЕННИЙ  (ADONIS VERNALIS)</a:t>
            </a:r>
            <a:endParaRPr b="0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25560" y="1628640"/>
            <a:ext cx="3811680" cy="4472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-266796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16360" y="1628640"/>
            <a:ext cx="396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Латинское  назавание  рода  происходит  от греческих слов «больбос» - клубень и «кодион» - перепонка, т.е. связано с особ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ностями строения  подземного органа – клубнелуковиц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лубнелуковичное  растение, с лилейными листьями, бесс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ельное. Цветочная  трубка  вых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т прямо  из клубнелуковицы. Цветки одиночные, листочки околоцветника  розовато-лиловые. Брандушка руммкая  является одним из первых наших «подснежников», цветение  наступает сразу  после  таяния снег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55640" y="476280"/>
            <a:ext cx="7632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РАНДУШКА  РАЗНОЦВЕТНАЯ  (BULBOCODIUM  VERSICOLOR)</a:t>
            </a:r>
            <a:endParaRPr b="0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1628640"/>
            <a:ext cx="4114800" cy="4537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-67464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873680" y="1599840"/>
            <a:ext cx="3813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i="1" lang="ru-RU" sz="1400" spc="-1" strike="noStrike">
                <a:solidFill>
                  <a:srgbClr val="ff0000"/>
                </a:solidFill>
                <a:latin typeface="Times New Roman"/>
              </a:rPr>
              <a:t>Латинское  название  рода  происходит  от латинского слова «фритиллус», что означает стакан, кувшин (по форме цветка), русское соответствует окраске цветка (пестрая, ряба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уковичное многолетнее растение 30-50 см высоты. Стебель олиственный, листья лилейно-ланцетные, му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атые, супротивные, реже очередные. Верхние  листочки спирально  закрученные. Цветки крупные, колокольчатые, пазушные, одиночные, реже 2-3, снаружи темно-пурпурные, внутри желтоватые. Коробочка крылатая.Цветет в конце апреля – начале ма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5640" y="476280"/>
            <a:ext cx="7561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ЯБЧИК  РУССКИЙ (FRITILLARIA  RUTHENICA)</a:t>
            </a:r>
            <a:endParaRPr b="0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20760" y="1600200"/>
            <a:ext cx="3443400" cy="4530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00000" y="-3051000"/>
            <a:ext cx="7772400" cy="21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873680" y="1599840"/>
            <a:ext cx="3813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Название  рода  происходит  от латинского слова   «ирис»  - радуга  (по окраске цветк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высокий  (8-15 см)  травянистый  многолетник, с толс тым  укороченным  корневищем. Листья  мечевидные, ситзовато-зеленые. Цветки на коротких  цветоносах, желтые, фиолетовые, кремовые и других оттенков. Цветет в апреле – ма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епной  вид. Спорадически  встречается  по всей  территории природного парка «Донской»  по степным склонам, на водоразделах, саланц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00000" y="333360"/>
            <a:ext cx="734400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САТИК (ИРИС)  КАРЛИКОВЫЙ  (IRIS PUMILA)</a:t>
            </a:r>
            <a:endParaRPr b="0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4041720" cy="4525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71640" y="-155268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Латинское  название рода  происходит от слова «пульсаре» - толкать (по летучкам на плодиках, которые приходят в движение от любого порыва ветра). Русское название сон-трава  происходит от поверья, что животные и люди, пожевав корень впадают в со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высокое (до 25 см)  травянистое  растение  с мощным вертикальным корневищем. Цветоносный стебель прямостоячий, одет густыми мягкими волосками.Цветок в начале поникающий, а потом прямостоячий. Цветки одиночные, крупные, правильные. Плод – многоорешник, орешки с длинными волосистыми столбиками. Цветет в апре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032360" cy="4753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900000" y="404640"/>
            <a:ext cx="7344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СТРЕЛ РАСКРЫТЫЙ (PULSATILA  PRATENSIS)</a:t>
            </a:r>
            <a:endParaRPr b="0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873680" y="1599840"/>
            <a:ext cx="3813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Русское  название  соответствует  времени  цветения   вида (раноцв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тущие), латинское  происходит  от слова «прима» - первая (время цветени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ноголетнее травянистое  растение с прикорневой  розеткой  листьев.  Листья эллиптические, морщинистые, к основанию постепенно суженные  в крылатый  черешок. Цветоносный  побег  превышает листья (до 30 см). Соцветия  однобокие, зонтиковидные. Цветки желтые, отгиб  венчика вогнутый. Плод – коробочка. Цветет в апреле. Местами образует сплошные  зарас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3887640" cy="4465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873680" y="1599840"/>
            <a:ext cx="3813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Растение  названо  в честь древнегр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ческого мифологического героя Пеона, талантливого ученика Эскулапа, бога медици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ноголетнее травянистое  растение, с корнеклубнями  и большим количеством  наземных  побегов (до 30), которые  засыхают в июле. Листья многократно   перисто-раздельные. Цветки  одиночные, крупные (до 10 см в диаметре), ярко-красные. Плод – многолистовка. Цветет в первой  половине ма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стречается спорадически, но часто образует фо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Ядовитое  раст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14400" y="1628640"/>
            <a:ext cx="3813120" cy="4472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7:29:08Z</dcterms:created>
  <dc:creator>комп</dc:creator>
  <dc:description/>
  <dc:language>en-US</dc:language>
  <cp:lastModifiedBy>комп</cp:lastModifiedBy>
  <dcterms:modified xsi:type="dcterms:W3CDTF">2002-10-10T10:57:28Z</dcterms:modified>
  <cp:revision>14</cp:revision>
  <dc:subject/>
  <dc:title>Слайд 1</dc:title>
</cp:coreProperties>
</file>