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jpeg" ContentType="image/jpeg"/>
  <Override PartName="/ppt/media/image17.jpeg" ContentType="image/jpeg"/>
  <Override PartName="/ppt/media/image3.jpeg" ContentType="image/jpeg"/>
  <Override PartName="/ppt/media/image24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13.jpeg" ContentType="image/jpeg"/>
  <Override PartName="/ppt/media/image31.jpeg" ContentType="image/jpeg"/>
  <Override PartName="/ppt/media/image25.jpeg" ContentType="image/jpeg"/>
  <Override PartName="/ppt/media/image33.jpeg" ContentType="image/jpeg"/>
  <Override PartName="/ppt/media/image27.jpeg" ContentType="image/jpeg"/>
  <Override PartName="/ppt/media/image12.jpeg" ContentType="image/jpeg"/>
  <Override PartName="/ppt/media/image34.wmf" ContentType="image/x-wmf"/>
  <Override PartName="/ppt/media/image9.wmf" ContentType="image/x-wmf"/>
  <Override PartName="/ppt/media/image35.png" ContentType="image/png"/>
  <Override PartName="/ppt/media/image39.png" ContentType="image/png"/>
  <Override PartName="/ppt/media/image30.jpeg" ContentType="image/jpeg"/>
  <Override PartName="/ppt/media/image37.wmf" ContentType="image/x-wmf"/>
  <Override PartName="/ppt/media/image7.wmf" ContentType="image/x-wmf"/>
  <Override PartName="/ppt/media/image6.wmf" ContentType="image/x-wmf"/>
  <Override PartName="/ppt/media/image19.jpeg" ContentType="image/jpeg"/>
  <Override PartName="/ppt/media/image4.jpeg" ContentType="image/jpeg"/>
  <Override PartName="/ppt/media/image8.wmf" ContentType="image/x-wmf"/>
  <Override PartName="/ppt/media/image38.wmf" ContentType="image/x-wmf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2A56-AA68-4CAE-BA51-1A449DAAA9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476D-E7DA-4FE2-8123-4EAD0ED2281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9205-B231-439B-BFA9-7E9A23C77E3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F786-B100-438A-AE75-D6EAD8ADC43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C932-1EF5-45DF-A21B-12128E6092D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8AFA-B74C-40E0-93FC-6418B2EC5CB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8CEF-4FCB-41A8-8EB9-E0DBCEFAAB5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4E1F-25BA-4071-B4B4-61F4BAE002C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79F6-8BCD-4811-8A20-7942220F701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BCD6-3EA4-42A5-8233-7445E52B9A6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2067-4BF6-450B-B792-57F5AA20448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5BC4-DBE5-43EE-8B2A-D287D50F1AD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9D86-050E-4C93-80B4-AFC82E1791E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DBCE-0EED-4B96-827C-86698737A4D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BADE-2004-44EE-896C-2B300BBDE0C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6313-C8BC-446C-A351-047341BA84C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17BD-5F0D-4B3F-BC01-D791931D187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A8F9-7FCD-4096-A560-97B2F31D02C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A885-84E0-46F5-BF8C-ADEBF746F9F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8979-2F3D-44E5-B7FA-E7433BD6EAE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7F49-BFCA-40B9-AD8E-7C567CBBF30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7904-C974-4544-9A28-6B8792849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7851-267F-483F-9B0B-4A2E254F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6FC0-6893-4565-956E-DBA463037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38BC-2A0E-4765-ADF0-402C29B95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7AF6-10B7-4CB9-8B73-AE708C28C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D741-0127-4E65-B3CA-0ED5E9C8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7F4D-6219-4AA0-80FE-98EB88D6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C506-B93D-4B28-AF7B-98AFAF2C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D345-01E5-4061-BB4A-7CE19DE3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6D5D-9787-4D49-B493-C8B09F98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F122-13F8-41F7-A1F9-3F66E84B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EE31-2FF5-422B-A4BF-835D2B6A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6C09-917B-47B5-B492-4FEE7239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07A4-3E85-4D55-9BA3-8E866F00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E613-37D6-419E-A155-05E0E824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2E2B-BC7C-4592-9A3A-27FAAC9AB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5EE3-A320-468F-AA32-B4A1EDE02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249F-9979-4298-BAFF-8BCBF58F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98FE-ACA5-4D82-A03F-6FFBD71C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2E06-822B-4644-B884-F5B11E54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CEBE-F8A9-4AFA-85F5-730171A8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0949-BDF3-4D8A-B29C-0350347F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94DD-080D-4FE3-A5C6-BFD521FD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4F31-FDB7-4FB0-BAED-04BE83E9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00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8FB0-AF9D-4DCA-B7B0-D4FDA509338F}" type="slidenum">
              <a:rPr b="1" lang="ru-RU" sz="2600" spc="-1" strike="noStrike">
                <a:solidFill>
                  <a:srgbClr val="00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6000" y="6165360"/>
            <a:ext cx="2897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9" descr="П_52"/>
          <p:cNvPicPr/>
          <p:nvPr/>
        </p:nvPicPr>
        <p:blipFill>
          <a:blip r:embed="rId1"/>
          <a:stretch/>
        </p:blipFill>
        <p:spPr>
          <a:xfrm>
            <a:off x="250920" y="3141720"/>
            <a:ext cx="3960720" cy="3527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Водные ресурсы. Охрана вод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43280" y="5300640"/>
            <a:ext cx="401328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полнила учитель географии МОУ СОШ№18 Бабакина Л. 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6" descr="j0286034"/>
          <p:cNvPicPr/>
          <p:nvPr/>
        </p:nvPicPr>
        <p:blipFill>
          <a:blip r:embed="rId1"/>
          <a:stretch/>
        </p:blipFill>
        <p:spPr>
          <a:xfrm>
            <a:off x="6443640" y="4254480"/>
            <a:ext cx="2700360" cy="2603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755280" y="2276280"/>
            <a:ext cx="8064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ые запасы пресных вод сосредоточены в озёрах, водохранилищах, ледниках и подземных водах. Поскольку возобновление этих вод идёт очень медленно (в ледниках вода задерживается на несколько веков), то их называют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вековыми запас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Крупнейшие озер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WordArt 7"/>
          <p:cNvSpPr txBox="1"/>
          <p:nvPr/>
        </p:nvSpPr>
        <p:spPr>
          <a:xfrm>
            <a:off x="2195640" y="189000"/>
            <a:ext cx="6624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Крупнейшии озёра Росси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</p:spTree>
  </p:cSld>
  <p:transition>
    <p:comb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0" descr="Эльбру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55" name="WordArt 24"/>
          <p:cNvSpPr txBox="1"/>
          <p:nvPr/>
        </p:nvSpPr>
        <p:spPr>
          <a:xfrm>
            <a:off x="4211640" y="692280"/>
            <a:ext cx="4433760" cy="83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льбру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6" name="Picture 22" descr="Ледник - хранилище пресной воды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1" descr="Сарезское озеро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WordArt 23"/>
          <p:cNvSpPr txBox="1"/>
          <p:nvPr/>
        </p:nvSpPr>
        <p:spPr>
          <a:xfrm>
            <a:off x="179280" y="549360"/>
            <a:ext cx="5861160" cy="83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арезкое озеро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9" name="Picture 6" descr="Чудско - Псковское озеро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WordArt 18"/>
          <p:cNvSpPr txBox="1"/>
          <p:nvPr/>
        </p:nvSpPr>
        <p:spPr>
          <a:xfrm>
            <a:off x="0" y="1197000"/>
            <a:ext cx="8964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удско-Псковское озеро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1" name="Picture 8" descr="Онежское озеро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WordArt 17"/>
          <p:cNvSpPr txBox="1"/>
          <p:nvPr/>
        </p:nvSpPr>
        <p:spPr>
          <a:xfrm>
            <a:off x="4643280" y="189000"/>
            <a:ext cx="425952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нежское озер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3" name="Picture 10" descr="Рыбинское водохранилище"/>
          <p:cNvPicPr/>
          <p:nvPr/>
        </p:nvPicPr>
        <p:blipFill>
          <a:blip r:embed="rId6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Озеро Байкал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WordArt 14"/>
          <p:cNvSpPr txBox="1"/>
          <p:nvPr/>
        </p:nvSpPr>
        <p:spPr>
          <a:xfrm>
            <a:off x="5724360" y="1773360"/>
            <a:ext cx="31244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зеро Байка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6" name="Picture 7" descr="Озеро Таймыр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WordArt 16"/>
          <p:cNvSpPr txBox="1"/>
          <p:nvPr/>
        </p:nvSpPr>
        <p:spPr>
          <a:xfrm>
            <a:off x="3132000" y="5300640"/>
            <a:ext cx="3267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зеро Таймыр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comb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strips(upRight)" transition="out">
                                      <p:cBhvr additive="repl">
                                        <p:cTn id="6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5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15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5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117440" y="2917800"/>
            <a:ext cx="7191360" cy="30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Основным источником удовлетворения потребности человека в пресной воде является речной сток. Это ежегодно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возобновляемые водные ресурсы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7" descr="j0251301"/>
          <p:cNvPicPr/>
          <p:nvPr/>
        </p:nvPicPr>
        <p:blipFill>
          <a:blip r:embed="rId1"/>
          <a:stretch/>
        </p:blipFill>
        <p:spPr>
          <a:xfrm>
            <a:off x="0" y="0"/>
            <a:ext cx="2627280" cy="2216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Крупнейшие ре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WordArt 5"/>
          <p:cNvSpPr txBox="1"/>
          <p:nvPr/>
        </p:nvSpPr>
        <p:spPr>
          <a:xfrm>
            <a:off x="179280" y="189000"/>
            <a:ext cx="87138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Крупнейшие реки Росси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</p:spTree>
  </p:cSld>
  <p:transition>
    <p:comb dir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95280" y="2361960"/>
            <a:ext cx="856944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оценки водных ресурсов создан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водный кадастр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свод сведений о водных ресурсах России. Он обобщает материалы гидрологических наблюдений и исследований. В кадастре указано и распределение вод на территории нашей страны, и сезонное распределение многоводных р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4" descr="j0149481"/>
          <p:cNvPicPr/>
          <p:nvPr/>
        </p:nvPicPr>
        <p:blipFill>
          <a:blip r:embed="rId1"/>
          <a:stretch/>
        </p:blipFill>
        <p:spPr>
          <a:xfrm>
            <a:off x="5870520" y="0"/>
            <a:ext cx="3019320" cy="3068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958320" y="1038960"/>
            <a:ext cx="7670160" cy="80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дные ресурсы размещаются не равномерно по территории России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Азиатская часть 3300 км3 в год 20% населения 100000 м3 чел/го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Европейская часть 1000км3 в год 80% населения 8500 м3 чел/го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Режим ре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7"/>
          <p:cNvSpPr/>
          <p:nvPr/>
        </p:nvSpPr>
        <p:spPr>
          <a:xfrm>
            <a:off x="-1116000" y="5670720"/>
            <a:ext cx="53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3000" indent="-228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ечной сток распределяется не равномерно во време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03" descr="j0216516"/>
          <p:cNvPicPr/>
          <p:nvPr/>
        </p:nvPicPr>
        <p:blipFill>
          <a:blip r:embed="rId1"/>
          <a:stretch/>
        </p:blipFill>
        <p:spPr>
          <a:xfrm>
            <a:off x="0" y="4255920"/>
            <a:ext cx="3132000" cy="26020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99"/>
          <p:cNvSpPr/>
          <p:nvPr/>
        </p:nvSpPr>
        <p:spPr>
          <a:xfrm>
            <a:off x="826920" y="2349360"/>
            <a:ext cx="7490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3000" indent="-2286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Для перераспределения стока во времени и пространстве строят водохранилища и канал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08" descr="j0199549"/>
          <p:cNvPicPr/>
          <p:nvPr/>
        </p:nvPicPr>
        <p:blipFill>
          <a:blip r:embed="rId1"/>
          <a:stretch/>
        </p:blipFill>
        <p:spPr>
          <a:xfrm>
            <a:off x="0" y="0"/>
            <a:ext cx="1670040" cy="17938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621720" y="81720"/>
            <a:ext cx="7900560" cy="113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одопользование и        водопотребление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900000" y="1268280"/>
          <a:ext cx="7693200" cy="3681720"/>
        </p:xfrm>
        <a:graphic>
          <a:graphicData uri="http://schemas.openxmlformats.org/drawingml/2006/table">
            <a:tbl>
              <a:tblPr/>
              <a:tblGrid>
                <a:gridCol w="3846600"/>
                <a:gridCol w="3846600"/>
              </a:tblGrid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допользова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допотребление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изъятие воды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ыбное хозяйство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мышленность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идроэнергетика (ГЭС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ельское хозяйство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упание в рек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ммунальное хозяйство (вода в квартире), полив улиц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ыбалка на берегу с удочкой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826920" y="4941720"/>
          <a:ext cx="3888000" cy="1656000"/>
        </p:xfrm>
        <a:graphic>
          <a:graphicData uri="http://schemas.openxmlformats.org/drawingml/2006/table">
            <a:tbl>
              <a:tblPr/>
              <a:tblGrid>
                <a:gridCol w="3888000"/>
              </a:tblGrid>
              <a:tr h="165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Водопользователи загрязняют воду, ухудшают её качество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4716360" y="4941720"/>
          <a:ext cx="4032360" cy="211320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16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уменьшается количество, и меняется качество воды из-за стоко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Круговорот вод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WordArt 5"/>
          <p:cNvSpPr txBox="1"/>
          <p:nvPr/>
        </p:nvSpPr>
        <p:spPr>
          <a:xfrm>
            <a:off x="179280" y="6021360"/>
            <a:ext cx="604836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333333"/>
                    </a:gs>
                  </a:gsLst>
                  <a:lin ang="5400000"/>
                </a:gradFill>
                <a:latin typeface="Arial"/>
              </a:rPr>
              <a:t>Круговорот воды в природ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3333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охранить воду может каждый!!!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ты сделал бы для сохранения качества воды в своём городе, если бы был главой город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ты будешь делать для сохранения качества воды в своём городе, когда вырастиш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ты сей час делаешь для сохранения качества воды в своём город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есная вода существует на Земле только благодаря круговороту воды между сушей и океано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6" descr="0071"/>
          <p:cNvPicPr/>
          <p:nvPr/>
        </p:nvPicPr>
        <p:blipFill>
          <a:blip r:embed="rId1"/>
          <a:stretch/>
        </p:blipFill>
        <p:spPr>
          <a:xfrm>
            <a:off x="755640" y="260280"/>
            <a:ext cx="2449440" cy="1836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0074"/>
          <p:cNvPicPr/>
          <p:nvPr/>
        </p:nvPicPr>
        <p:blipFill>
          <a:blip r:embed="rId2"/>
          <a:stretch/>
        </p:blipFill>
        <p:spPr>
          <a:xfrm>
            <a:off x="5435640" y="4078440"/>
            <a:ext cx="3708360" cy="277956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9"/>
          <p:cNvSpPr/>
          <p:nvPr/>
        </p:nvSpPr>
        <p:spPr>
          <a:xfrm>
            <a:off x="6804000" y="260280"/>
            <a:ext cx="1873440" cy="1440000"/>
          </a:xfrm>
          <a:prstGeom prst="sun">
            <a:avLst>
              <a:gd name="adj" fmla="val 25000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403280" y="2204640"/>
            <a:ext cx="7416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Водные ресурсы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 – это воды (поверхностные и подземные), которые человек использует в быту, в промышленности, в сельском хозяйстве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j0335112"/>
          <p:cNvPicPr/>
          <p:nvPr/>
        </p:nvPicPr>
        <p:blipFill>
          <a:blip r:embed="rId1"/>
          <a:stretch/>
        </p:blipFill>
        <p:spPr>
          <a:xfrm>
            <a:off x="0" y="0"/>
            <a:ext cx="2392200" cy="2392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7" descr="j0293828"/>
          <p:cNvPicPr/>
          <p:nvPr/>
        </p:nvPicPr>
        <p:blipFill>
          <a:blip r:embed="rId1"/>
          <a:stretch/>
        </p:blipFill>
        <p:spPr>
          <a:xfrm>
            <a:off x="7050240" y="0"/>
            <a:ext cx="2093760" cy="2205000"/>
          </a:xfrm>
          <a:prstGeom prst="rect">
            <a:avLst/>
          </a:prstGeom>
          <a:ln w="0">
            <a:noFill/>
          </a:ln>
        </p:spPr>
      </p:pic>
      <p:grpSp>
        <p:nvGrpSpPr>
          <p:cNvPr id="114" name="Organization Chart 10"/>
          <p:cNvGrpSpPr/>
          <p:nvPr/>
        </p:nvGrpSpPr>
        <p:grpSpPr>
          <a:xfrm>
            <a:off x="755640" y="2349360"/>
            <a:ext cx="8208720" cy="4318200"/>
            <a:chOff x="755640" y="2349360"/>
            <a:chExt cx="8208720" cy="4318200"/>
          </a:xfrm>
        </p:grpSpPr>
        <p:cxnSp>
          <p:nvCxnSpPr>
            <p:cNvPr id="115" name="_s1028"/>
            <p:cNvCxnSpPr>
              <a:stCxn id="116" idx="0"/>
              <a:endCxn id="117" idx="2"/>
            </p:cNvCxnSpPr>
            <p:nvPr/>
          </p:nvCxnSpPr>
          <p:spPr>
            <a:xfrm flipV="1" rot="16200000">
              <a:off x="6023880" y="2911680"/>
              <a:ext cx="864360" cy="3192840"/>
            </a:xfrm>
            <a:prstGeom prst="bentConnector3">
              <a:avLst>
                <a:gd name="adj1" fmla="val 1554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8" name="_s1029"/>
            <p:cNvCxnSpPr>
              <a:stCxn id="119" idx="0"/>
              <a:endCxn id="117" idx="2"/>
            </p:cNvCxnSpPr>
            <p:nvPr/>
          </p:nvCxnSpPr>
          <p:spPr>
            <a:xfrm flipV="1" rot="16200000">
              <a:off x="4959720" y="3975840"/>
              <a:ext cx="864360" cy="1064520"/>
            </a:xfrm>
            <a:prstGeom prst="bentConnector3">
              <a:avLst>
                <a:gd name="adj1" fmla="val 1554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0" name="_s1030"/>
            <p:cNvCxnSpPr>
              <a:stCxn id="121" idx="0"/>
              <a:endCxn id="117" idx="2"/>
            </p:cNvCxnSpPr>
            <p:nvPr/>
          </p:nvCxnSpPr>
          <p:spPr>
            <a:xfrm flipH="1" flipV="1" rot="5400000">
              <a:off x="3895920" y="3975840"/>
              <a:ext cx="864360" cy="1064880"/>
            </a:xfrm>
            <a:prstGeom prst="bentConnector3">
              <a:avLst>
                <a:gd name="adj1" fmla="val 1554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2" name="_s1031"/>
            <p:cNvCxnSpPr>
              <a:stCxn id="123" idx="0"/>
              <a:endCxn id="117" idx="2"/>
            </p:cNvCxnSpPr>
            <p:nvPr/>
          </p:nvCxnSpPr>
          <p:spPr>
            <a:xfrm flipH="1" flipV="1" rot="5400000">
              <a:off x="2831760" y="2911680"/>
              <a:ext cx="864360" cy="3193200"/>
            </a:xfrm>
            <a:prstGeom prst="bentConnector3">
              <a:avLst>
                <a:gd name="adj1" fmla="val 1554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7" name="_s1032"/>
            <p:cNvSpPr/>
            <p:nvPr/>
          </p:nvSpPr>
          <p:spPr>
            <a:xfrm>
              <a:off x="3948120" y="2349360"/>
              <a:ext cx="1824120" cy="172728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1143000" indent="-228600" algn="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Comic Sans MS"/>
                </a:rPr>
                <a:t>Водные  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marL="1143000" indent="-228600" algn="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1" lang="en-US" sz="2100" spc="-1" strike="noStrike">
                  <a:solidFill>
                    <a:srgbClr val="ffffff"/>
                  </a:solidFill>
                  <a:latin typeface="Comic Sans MS"/>
                </a:rPr>
                <a:t>ресурсы 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_s1033"/>
            <p:cNvSpPr/>
            <p:nvPr/>
          </p:nvSpPr>
          <p:spPr>
            <a:xfrm>
              <a:off x="755640" y="4940280"/>
              <a:ext cx="1824120" cy="172728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1143000" indent="-228600" algn="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Comic Sans MS"/>
                </a:rPr>
                <a:t>Питьё и  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marL="1143000" indent="-228600" algn="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Comic Sans MS"/>
                </a:rPr>
                <a:t>бытовые  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marL="1143000" indent="-228600" algn="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Comic Sans MS"/>
                </a:rPr>
                <a:t>продукты 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_s1034"/>
            <p:cNvSpPr/>
            <p:nvPr/>
          </p:nvSpPr>
          <p:spPr>
            <a:xfrm>
              <a:off x="2883600" y="4940280"/>
              <a:ext cx="1824120" cy="172728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1143000" indent="-228600" algn="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mic Sans MS"/>
                </a:rPr>
                <a:t>Водные пут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_s1035"/>
            <p:cNvSpPr/>
            <p:nvPr/>
          </p:nvSpPr>
          <p:spPr>
            <a:xfrm>
              <a:off x="5011920" y="4940280"/>
              <a:ext cx="1824120" cy="172728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1143000" indent="-228600" algn="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mic Sans MS"/>
                </a:rPr>
                <a:t>Энергия рек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1143000" indent="-228600" algn="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mic Sans MS"/>
                </a:rPr>
                <a:t>приливов 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1143000" indent="-228600" algn="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mic Sans MS"/>
                </a:rPr>
                <a:t>(ГЭС, ПЭС)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036"/>
            <p:cNvSpPr/>
            <p:nvPr/>
          </p:nvSpPr>
          <p:spPr>
            <a:xfrm>
              <a:off x="7140240" y="4940280"/>
              <a:ext cx="1824120" cy="172728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1143000" indent="-228600" algn="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Промышленност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1143000" indent="-228600" algn="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mic Sans MS"/>
                </a:rPr>
                <a:t>и сельское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1143000" indent="-228600" algn="r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mic Sans MS"/>
                </a:rPr>
                <a:t>хозяйство</a:t>
              </a:r>
              <a:r>
                <a:rPr b="1" lang="en-US" sz="17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4" name=""/>
          <p:cNvSpPr txBox="1"/>
          <p:nvPr/>
        </p:nvSpPr>
        <p:spPr>
          <a:xfrm>
            <a:off x="683640" y="834120"/>
            <a:ext cx="7930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Использование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водных ресурсов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-468720" y="765000"/>
            <a:ext cx="9612360" cy="575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а ежедневные нужды человек    потребляет 300-400л воды, а в год около 110-150 м</a:t>
            </a:r>
            <a:r>
              <a:rPr b="1" lang="ru-RU" sz="3200" spc="-1" strike="noStrike" baseline="30000">
                <a:solidFill>
                  <a:srgbClr val="ffffff"/>
                </a:solidFill>
                <a:latin typeface="Comic Sans MS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 вод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j0195812"/>
          <p:cNvPicPr/>
          <p:nvPr/>
        </p:nvPicPr>
        <p:blipFill>
          <a:blip r:embed="rId1"/>
          <a:stretch/>
        </p:blipFill>
        <p:spPr>
          <a:xfrm>
            <a:off x="0" y="0"/>
            <a:ext cx="2212920" cy="2276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j0216588"/>
          <p:cNvPicPr/>
          <p:nvPr/>
        </p:nvPicPr>
        <p:blipFill>
          <a:blip r:embed="rId2"/>
          <a:stretch/>
        </p:blipFill>
        <p:spPr>
          <a:xfrm>
            <a:off x="6772320" y="0"/>
            <a:ext cx="2371680" cy="2664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j0285444"/>
          <p:cNvPicPr/>
          <p:nvPr/>
        </p:nvPicPr>
        <p:blipFill>
          <a:blip r:embed="rId3"/>
          <a:stretch/>
        </p:blipFill>
        <p:spPr>
          <a:xfrm>
            <a:off x="755640" y="4395960"/>
            <a:ext cx="4824360" cy="2462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95280" y="2204640"/>
            <a:ext cx="8748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Большое количество воды используется на производственные нужды. Например Для производства 1т сахара расходуется 100 м</a:t>
            </a:r>
            <a:r>
              <a:rPr b="1" lang="ru-RU" sz="2800" spc="-1" strike="noStrike" baseline="30000">
                <a:solidFill>
                  <a:srgbClr val="ffffff"/>
                </a:solidFill>
                <a:latin typeface="Comic Sans MS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 воды, 1т бумаги-900 м</a:t>
            </a:r>
            <a:r>
              <a:rPr b="1" lang="ru-RU" sz="2800" spc="-1" strike="noStrike" baseline="30000">
                <a:solidFill>
                  <a:srgbClr val="ffffff"/>
                </a:solidFill>
                <a:latin typeface="Comic Sans MS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, 1т резины-1500 м</a:t>
            </a:r>
            <a:r>
              <a:rPr b="1" lang="ru-RU" sz="2800" spc="-1" strike="noStrike" baseline="30000">
                <a:solidFill>
                  <a:srgbClr val="ffffff"/>
                </a:solidFill>
                <a:latin typeface="Comic Sans MS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.Крупный металлургический комбинат потребляет в сутки около 1 млн.м</a:t>
            </a:r>
            <a:r>
              <a:rPr b="1" lang="ru-RU" sz="2800" spc="-1" strike="noStrike" baseline="30000">
                <a:solidFill>
                  <a:srgbClr val="ffffff"/>
                </a:solidFill>
                <a:latin typeface="Comic Sans MS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 в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Промышленные предприятия"/>
          <p:cNvPicPr/>
          <p:nvPr/>
        </p:nvPicPr>
        <p:blipFill>
          <a:blip r:embed="rId1"/>
          <a:stretch/>
        </p:blipFill>
        <p:spPr>
          <a:xfrm>
            <a:off x="0" y="4797360"/>
            <a:ext cx="3348000" cy="2060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Научно-исследовательское судно"/>
          <p:cNvPicPr/>
          <p:nvPr/>
        </p:nvPicPr>
        <p:blipFill>
          <a:blip r:embed="rId2"/>
          <a:stretch/>
        </p:blipFill>
        <p:spPr>
          <a:xfrm>
            <a:off x="6227640" y="5229360"/>
            <a:ext cx="2916360" cy="1628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Добыча нефти в океане"/>
          <p:cNvPicPr/>
          <p:nvPr/>
        </p:nvPicPr>
        <p:blipFill>
          <a:blip r:embed="rId3"/>
          <a:stretch/>
        </p:blipFill>
        <p:spPr>
          <a:xfrm>
            <a:off x="3132000" y="0"/>
            <a:ext cx="3384720" cy="1989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Братская ГЭС"/>
          <p:cNvPicPr/>
          <p:nvPr/>
        </p:nvPicPr>
        <p:blipFill>
          <a:blip r:embed="rId4"/>
          <a:stretch/>
        </p:blipFill>
        <p:spPr>
          <a:xfrm>
            <a:off x="2987640" y="4581360"/>
            <a:ext cx="3419640" cy="2276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ГЭС"/>
          <p:cNvPicPr/>
          <p:nvPr/>
        </p:nvPicPr>
        <p:blipFill>
          <a:blip r:embed="rId5"/>
          <a:stretch/>
        </p:blipFill>
        <p:spPr>
          <a:xfrm>
            <a:off x="6459480" y="0"/>
            <a:ext cx="2684520" cy="1989000"/>
          </a:xfrm>
          <a:prstGeom prst="rect">
            <a:avLst/>
          </a:prstGeom>
          <a:ln w="0">
            <a:noFill/>
          </a:ln>
        </p:spPr>
      </p:pic>
      <p:sp>
        <p:nvSpPr>
          <p:cNvPr id="135" name="Oval 11"/>
          <p:cNvSpPr/>
          <p:nvPr/>
        </p:nvSpPr>
        <p:spPr>
          <a:xfrm>
            <a:off x="1042920" y="2492280"/>
            <a:ext cx="7705800" cy="1441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12"/>
          <p:cNvSpPr/>
          <p:nvPr/>
        </p:nvSpPr>
        <p:spPr>
          <a:xfrm flipH="1">
            <a:off x="2050920" y="4005360"/>
            <a:ext cx="865440" cy="576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Судоходство"/>
          <p:cNvPicPr/>
          <p:nvPr/>
        </p:nvPicPr>
        <p:blipFill>
          <a:blip r:embed="rId6"/>
          <a:stretch/>
        </p:blipFill>
        <p:spPr>
          <a:xfrm>
            <a:off x="0" y="0"/>
            <a:ext cx="3240000" cy="1989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7" descr="Урожай пшеницы"/>
          <p:cNvPicPr/>
          <p:nvPr/>
        </p:nvPicPr>
        <p:blipFill>
          <a:blip r:embed="rId1"/>
          <a:stretch/>
        </p:blipFill>
        <p:spPr>
          <a:xfrm>
            <a:off x="0" y="4365720"/>
            <a:ext cx="6156360" cy="2492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9" descr="Кумо–Манычская впадина"/>
          <p:cNvPicPr/>
          <p:nvPr/>
        </p:nvPicPr>
        <p:blipFill>
          <a:blip r:embed="rId2"/>
          <a:stretch/>
        </p:blipFill>
        <p:spPr>
          <a:xfrm>
            <a:off x="2700360" y="0"/>
            <a:ext cx="6443640" cy="1989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0" descr="Курская область"/>
          <p:cNvPicPr/>
          <p:nvPr/>
        </p:nvPicPr>
        <p:blipFill>
          <a:blip r:embed="rId3"/>
          <a:stretch/>
        </p:blipFill>
        <p:spPr>
          <a:xfrm>
            <a:off x="6156360" y="1989000"/>
            <a:ext cx="2987640" cy="4869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1" descr="Лесостепь"/>
          <p:cNvPicPr/>
          <p:nvPr/>
        </p:nvPicPr>
        <p:blipFill>
          <a:blip r:embed="rId4"/>
          <a:stretch/>
        </p:blipFill>
        <p:spPr>
          <a:xfrm>
            <a:off x="0" y="0"/>
            <a:ext cx="2700360" cy="1989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45"/>
          <p:cNvSpPr/>
          <p:nvPr/>
        </p:nvSpPr>
        <p:spPr>
          <a:xfrm>
            <a:off x="0" y="2275560"/>
            <a:ext cx="637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Большая часть пресных вод расходуется в сельском хозяйстве на орош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6" descr="BD14844_"/>
          <p:cNvPicPr/>
          <p:nvPr/>
        </p:nvPicPr>
        <p:blipFill>
          <a:blip r:embed="rId5"/>
          <a:stretch/>
        </p:blipFill>
        <p:spPr>
          <a:xfrm>
            <a:off x="0" y="1916280"/>
            <a:ext cx="5715000" cy="144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7" descr="BD14844_"/>
          <p:cNvPicPr/>
          <p:nvPr/>
        </p:nvPicPr>
        <p:blipFill>
          <a:blip r:embed="rId6"/>
          <a:stretch/>
        </p:blipFill>
        <p:spPr>
          <a:xfrm>
            <a:off x="3429000" y="1916280"/>
            <a:ext cx="5715000" cy="14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8" descr="BD14844_"/>
          <p:cNvPicPr/>
          <p:nvPr/>
        </p:nvPicPr>
        <p:blipFill>
          <a:blip r:embed="rId7"/>
          <a:stretch/>
        </p:blipFill>
        <p:spPr>
          <a:xfrm>
            <a:off x="0" y="4292640"/>
            <a:ext cx="6156360" cy="17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9" descr="BD14844_"/>
          <p:cNvPicPr/>
          <p:nvPr/>
        </p:nvPicPr>
        <p:blipFill>
          <a:blip r:embed="rId8"/>
          <a:stretch/>
        </p:blipFill>
        <p:spPr>
          <a:xfrm>
            <a:off x="0" y="6777000"/>
            <a:ext cx="6443640" cy="160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2" descr="BD14844_"/>
          <p:cNvPicPr/>
          <p:nvPr/>
        </p:nvPicPr>
        <p:blipFill>
          <a:blip r:embed="rId9"/>
          <a:stretch/>
        </p:blipFill>
        <p:spPr>
          <a:xfrm>
            <a:off x="2700360" y="6777000"/>
            <a:ext cx="6443640" cy="160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5" descr="waterfall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47"/>
          <p:cNvSpPr/>
          <p:nvPr/>
        </p:nvSpPr>
        <p:spPr>
          <a:xfrm>
            <a:off x="0" y="1700280"/>
            <a:ext cx="9144000" cy="240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30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Comic Sans MS"/>
              </a:rPr>
              <a:t>Россия обладает огромными водными ресурсам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Comic Sans MS"/>
              </a:rPr>
              <a:t>Годовой сток равен 4300 км</a:t>
            </a:r>
            <a:r>
              <a:rPr b="0" lang="ru-RU" sz="3600" spc="-1" strike="noStrike" baseline="32000">
                <a:solidFill>
                  <a:srgbClr val="0033cc"/>
                </a:solidFill>
                <a:latin typeface="Comic Sans MS"/>
              </a:rPr>
              <a:t>3</a:t>
            </a:r>
            <a:r>
              <a:rPr b="0" lang="ru-RU" sz="3600" spc="-1" strike="noStrike">
                <a:solidFill>
                  <a:srgbClr val="0033cc"/>
                </a:solidFill>
                <a:latin typeface="Comic Sans MS"/>
              </a:rPr>
              <a:t> в год 22400 м</a:t>
            </a:r>
            <a:r>
              <a:rPr b="0" lang="ru-RU" sz="3600" spc="-1" strike="noStrike" baseline="38000">
                <a:solidFill>
                  <a:srgbClr val="0033cc"/>
                </a:solidFill>
                <a:latin typeface="Comic Sans MS"/>
              </a:rPr>
              <a:t>3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33cc"/>
                </a:solidFill>
                <a:latin typeface="Comic Sans MS"/>
              </a:rPr>
              <a:t>чел/го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08:03:07Z</dcterms:created>
  <dc:creator>Zet</dc:creator>
  <dc:description/>
  <dc:language>en-US</dc:language>
  <cp:lastModifiedBy>Admin</cp:lastModifiedBy>
  <dcterms:modified xsi:type="dcterms:W3CDTF">2012-01-16T15:52:33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