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CC0-F40F-4248-958B-0609D39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D64-3464-46E9-9678-E88D64D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43C-08FF-483D-B131-552CE58C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8F0-D119-440C-B8E6-4D3AAD05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DB1-59F1-4433-BAF0-8DDE1084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E2CE-C156-4CAC-BA59-AC45BA2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ACD-71C4-42BD-92CF-F501229F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E522-0D6D-493C-9F7F-E396774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A50-E802-466B-920F-E5CCC31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1D7-7C2F-4FF4-B8BA-1FE2EAA2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D292-1811-45FD-AD06-8CC1040D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AB5-166D-41E3-AC34-C399E07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9150-3CFF-4778-AD2C-43AE1C7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41F-282B-4340-A4F7-21D540E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ABA-4A71-48CC-A1DA-407C504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9132-94DD-44EA-A6B1-025B5CB6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8EFB-D3BA-478B-9434-72F415E1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AD8-01FC-4A7C-BFB4-9EA5035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34D-1F83-4DE6-BB05-1F7E45C3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F2D-AC52-4CF3-99FE-A2534CF7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E97-6856-42AB-9072-6C97B9B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FA0-2CA0-4D29-B1E5-8795AA9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2F5-4E0D-471F-B3C9-CB206B8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614-B8C4-4FFF-A90A-22D08F4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F6F1-79E6-4EB6-A0D1-30ED07A946F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609-1C6E-440B-843C-99EE640B68A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33520" y="3645000"/>
            <a:ext cx="8431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класс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ил 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КОУ Никулинская НОШ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знецова А. 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05264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ы </a:t>
            </a:r>
            <a:endParaRPr b="0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ровых религиозных культур</a:t>
            </a:r>
            <a:endParaRPr b="0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Times New Roman"/>
              </a:rPr>
              <a:t>Понравился урок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Times New Roman"/>
              </a:rPr>
              <a:t>Не понравился урок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Times New Roman"/>
              </a:rPr>
              <a:t>Мне было скучно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Рисунок 34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0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7" descr=""/>
          <p:cNvPicPr/>
          <p:nvPr/>
        </p:nvPicPr>
        <p:blipFill>
          <a:blip r:embed="rId4"/>
          <a:stretch/>
        </p:blipFill>
        <p:spPr>
          <a:xfrm>
            <a:off x="4716360" y="4581360"/>
            <a:ext cx="12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тог урока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омашнее задание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643120"/>
            <a:ext cx="8353440" cy="2586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С какими новыми понятиями работали сегодня?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Что вы сможете рассказать родителям о добре и зле?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очитайте притчу о блудном сыне 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о ней мы поговорим на следующем занятии).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2160"/>
            <a:ext cx="83584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19280" y="907920"/>
            <a:ext cx="597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993300"/>
                  </a:solidFill>
                  <a:miter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бро  и зло.</a:t>
            </a:r>
            <a:endParaRPr b="0" lang="en-US" sz="1800" spc="1" strike="noStrike">
              <a:ln w="6480">
                <a:solidFill>
                  <a:srgbClr val="993300"/>
                </a:solidFill>
                <a:miter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2492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нятие греха,</a:t>
            </a:r>
            <a:endParaRPr b="0" lang="en-US" sz="1800" spc="1" strike="noStrike">
              <a:ln w="648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4653000"/>
            <a:ext cx="849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каяния и воздания.</a:t>
            </a:r>
            <a:endParaRPr b="0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0661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0000"/>
                </a:solidFill>
                <a:latin typeface="Arial"/>
              </a:rPr>
              <a:t>Тип урока: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урок - бесед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знакомить с новыми понятиями, проследить различия трактовки возникновения добра и зла в разных религия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Задачи урок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оспитывать чувство сопереживания, стремление к покаянию, умение анализировать и оценивать свои поступки и сло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Оборудование и наглядность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989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Мультимедийные материал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абочие тетрад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Учебн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епродукции картин художников (в электронном вариант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000" y="1844640"/>
            <a:ext cx="7127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ехопад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кая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оздая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обр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765000"/>
            <a:ext cx="81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3000"/>
                  </a:srgbClr>
                </a:solidFill>
                <a:latin typeface="Arial"/>
              </a:rPr>
              <a:t>Основные термины и понят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оверка домашнего зад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звучивание темы ур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Беседа с учащимися по вопрос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ассказ учителя о трактовке происхождения добра и зла в разных религ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абота с поняти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абота с учебник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тог урока. Домашнее зада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49800" indent="-51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24000" y="260280"/>
            <a:ext cx="410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Ход  урока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1343160"/>
            <a:ext cx="91440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такое добро и зло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айте определение этим понятия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шите в тетрадях определ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404640"/>
            <a:ext cx="6624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а с понятиям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, зло, грех.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169992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Самостоятельное чтение стать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адание: выписать из текста 2-3 предложения, которые вы считаете наиболее важными для этого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2. Выборочный пересказ текса по заданиям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Что было первым добро или зл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Какая жизнь была в раю по замыслу Творц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очему прервалась связь между Богом и человек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333360"/>
            <a:ext cx="6769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бота с учебни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Добро</a:t>
            </a:r>
            <a:r>
              <a:rPr b="0" lang="en-US" sz="2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K:\другое\звёздочки.jpg"/>
          <p:cNvPicPr/>
          <p:nvPr/>
        </p:nvPicPr>
        <p:blipFill>
          <a:blip r:embed="rId2"/>
          <a:stretch/>
        </p:blipFill>
        <p:spPr>
          <a:xfrm>
            <a:off x="0" y="2060640"/>
            <a:ext cx="45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K:\другое\в реке.jpg"/>
          <p:cNvPicPr/>
          <p:nvPr/>
        </p:nvPicPr>
        <p:blipFill>
          <a:blip r:embed="rId3"/>
          <a:stretch/>
        </p:blipFill>
        <p:spPr>
          <a:xfrm>
            <a:off x="0" y="2060640"/>
            <a:ext cx="4608360" cy="427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K:\другое\помоь.jpg"/>
          <p:cNvPicPr/>
          <p:nvPr/>
        </p:nvPicPr>
        <p:blipFill>
          <a:blip r:embed="rId4"/>
          <a:stretch/>
        </p:blipFill>
        <p:spPr>
          <a:xfrm>
            <a:off x="0" y="1989000"/>
            <a:ext cx="4500720" cy="465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Admin\Рабочий стол\images.jpg"/>
          <p:cNvPicPr/>
          <p:nvPr/>
        </p:nvPicPr>
        <p:blipFill>
          <a:blip r:embed="rId5"/>
          <a:stretch/>
        </p:blipFill>
        <p:spPr>
          <a:xfrm>
            <a:off x="4751280" y="3284640"/>
            <a:ext cx="4392720" cy="357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Admin\Рабочий стол\1.jpg"/>
          <p:cNvPicPr/>
          <p:nvPr/>
        </p:nvPicPr>
        <p:blipFill>
          <a:blip r:embed="rId6"/>
          <a:stretch/>
        </p:blipFill>
        <p:spPr>
          <a:xfrm>
            <a:off x="4572000" y="206064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Admin\Рабочий стол\78.jpg"/>
          <p:cNvPicPr/>
          <p:nvPr/>
        </p:nvPicPr>
        <p:blipFill>
          <a:blip r:embed="rId7"/>
          <a:stretch/>
        </p:blipFill>
        <p:spPr>
          <a:xfrm>
            <a:off x="0" y="2205000"/>
            <a:ext cx="4500720" cy="424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Documents and Settings\Admin\Рабочий стол\imagesCA55MTBX.jpg"/>
          <p:cNvPicPr/>
          <p:nvPr/>
        </p:nvPicPr>
        <p:blipFill>
          <a:blip r:embed="rId8"/>
          <a:stretch/>
        </p:blipFill>
        <p:spPr>
          <a:xfrm>
            <a:off x="4572000" y="2060640"/>
            <a:ext cx="45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Admin\Рабочий стол\imagesCADN71XC.jpg"/>
          <p:cNvPicPr/>
          <p:nvPr/>
        </p:nvPicPr>
        <p:blipFill>
          <a:blip r:embed="rId9"/>
          <a:stretch/>
        </p:blipFill>
        <p:spPr>
          <a:xfrm>
            <a:off x="4859280" y="2060640"/>
            <a:ext cx="3745080" cy="479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Admin\Рабочий стол\iCALV4YFD.jpg"/>
          <p:cNvPicPr/>
          <p:nvPr/>
        </p:nvPicPr>
        <p:blipFill>
          <a:blip r:embed="rId10"/>
          <a:stretch/>
        </p:blipFill>
        <p:spPr>
          <a:xfrm>
            <a:off x="0" y="2276640"/>
            <a:ext cx="4643280" cy="41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Documents and Settings\Admin\Рабочий стол\imagesCAOT7I15.jpg"/>
          <p:cNvPicPr/>
          <p:nvPr/>
        </p:nvPicPr>
        <p:blipFill>
          <a:blip r:embed="rId11"/>
          <a:stretch/>
        </p:blipFill>
        <p:spPr>
          <a:xfrm>
            <a:off x="4643280" y="2133720"/>
            <a:ext cx="450072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Admin\Рабочий стол\imagesCAHEFZ64.jpg"/>
          <p:cNvPicPr/>
          <p:nvPr/>
        </p:nvPicPr>
        <p:blipFill>
          <a:blip r:embed="rId12"/>
          <a:stretch/>
        </p:blipFill>
        <p:spPr>
          <a:xfrm>
            <a:off x="4716360" y="2133720"/>
            <a:ext cx="4427640" cy="472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C:\Documents and Settings\Admin\Рабочий стол\i.jpg"/>
          <p:cNvPicPr/>
          <p:nvPr/>
        </p:nvPicPr>
        <p:blipFill>
          <a:blip r:embed="rId13"/>
          <a:stretch/>
        </p:blipFill>
        <p:spPr>
          <a:xfrm>
            <a:off x="0" y="2060640"/>
            <a:ext cx="4643280" cy="46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C:\Documents and Settings\Admin\Рабочий стол\x_1d353398.jpg"/>
          <p:cNvPicPr/>
          <p:nvPr/>
        </p:nvPicPr>
        <p:blipFill>
          <a:blip r:embed="rId14"/>
          <a:stretch/>
        </p:blipFill>
        <p:spPr>
          <a:xfrm>
            <a:off x="0" y="206064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Documents and Settings\Admin\Рабочий стол\зло.jpg"/>
          <p:cNvPicPr/>
          <p:nvPr/>
        </p:nvPicPr>
        <p:blipFill>
          <a:blip r:embed="rId15"/>
          <a:stretch/>
        </p:blipFill>
        <p:spPr>
          <a:xfrm>
            <a:off x="471636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16:57Z</dcterms:created>
  <dc:creator>Admin</dc:creator>
  <dc:description/>
  <dc:language>en-US</dc:language>
  <cp:lastModifiedBy>Классик</cp:lastModifiedBy>
  <dcterms:modified xsi:type="dcterms:W3CDTF">2012-01-17T19:08:58Z</dcterms:modified>
  <cp:revision>29</cp:revision>
  <dc:subject/>
  <dc:title>Основы светской этики</dc:title>
</cp:coreProperties>
</file>