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67E-1F1E-45AD-B206-0382074B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42B-A7E9-4F1F-9A6F-7D2CBE7A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995-022B-48E4-ADA0-4D167B62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7BE-B9DE-46C2-808C-652DA617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3406-EEBF-4D36-96E6-F079E623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AE37-75BC-4A03-A85C-82182E93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F8C7-AB02-49B7-B5BC-E27FEDC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2FCA-A247-46A5-A8E2-6EC81A01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933F-8CC9-4E61-945F-7E418C0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3224-D6D2-448A-AB0A-7F3ECB3B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913D-B1E9-44A9-AD6B-93A9DE5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334-027C-413A-9625-505EDFC0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8A0E-19B1-427D-B184-DDBC6AC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2A2A-3DB0-4907-A5B9-A5451FB4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D6E5-B7CF-4261-92CA-FBF3EF96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687F-C0F8-490D-B94C-7532DAC4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6EA6-85D3-4F98-9B4B-FB5E2400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BC8-91BD-4E61-85FE-4A09AC81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543-CB8B-4501-8C72-8612A944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6F4-9D19-40F9-AC10-68D7300E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2B3-5141-4769-B644-55C53323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55C-B726-425F-9E43-355BEADE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8CC-E265-4B56-B490-59864F87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234-83FA-48D2-B06E-B01D9393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04D3-E0AF-4417-8DFD-48EF858189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014B-370E-4E6D-B93B-BE1D9EC2DB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готовьте ответ на вопрос: в чем сходство и различие закона Кулона и Закона всемирного тягот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ля выполнения задания сравнит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) форму записи законов (математическое выражение закона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зависимость сил от расстояния между телами (зарядами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) условия применимости закон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) точка приложения и направления си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) природу си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4:28:33Z</dcterms:created>
  <dc:creator>Zver</dc:creator>
  <dc:description/>
  <dc:language>en-US</dc:language>
  <cp:lastModifiedBy>Zver</cp:lastModifiedBy>
  <dcterms:modified xsi:type="dcterms:W3CDTF">2009-05-26T14:32:47Z</dcterms:modified>
  <cp:revision>1</cp:revision>
  <dc:subject/>
  <dc:title>Домашнее задание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