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.jpeg" ContentType="image/jpeg"/>
  <Override PartName="/ppt/media/image23.jpeg" ContentType="image/jpeg"/>
  <Override PartName="/ppt/media/image22.wmf" ContentType="image/x-wmf"/>
  <Override PartName="/ppt/media/image21.gif" ContentType="image/gif"/>
  <Override PartName="/ppt/media/image19.wmf" ContentType="image/x-wmf"/>
  <Override PartName="/ppt/media/image14.jpeg" ContentType="image/jpe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AC5-BE5C-44E0-BD24-2C67B5A5E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9BF3-4044-4E34-85C8-670F383F39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E7F8-B705-449D-9C18-2FCC7AD8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FCE6-8F35-4B82-9BA6-78A8AAEE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6270-08C9-4088-A94A-6016F3F1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8C63-2E1C-4B40-8A76-5E2F40A0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DFCF-1EA0-46A7-A94A-614261E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6CE2-89E7-4FCB-B7EB-51E3F461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6271-A925-41DA-A4AD-DBEFA82C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8005-A6F9-40F1-A66D-38F86487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245C-4FDD-4344-B79E-03CD8E34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CFAD-846B-4B50-B7BD-2B356DC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CBDD-0B4C-49F2-8996-4C39A93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2867-93AE-42EC-A432-A826A0F7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C281-D55C-4166-A221-A555399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B8B6-ED40-43BB-8F6B-10ED7C8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5945-1DED-42F5-A948-9DF7A9C4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A0C8-3CB3-4D3B-8BAF-299C72DF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A147-A9AA-43BC-988B-B07B67CD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D2F4-85C2-42DE-AF2A-9132E280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8D6F-61F4-4E16-AD98-B9183F1A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643A-61A9-458E-B74E-77C035ED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7BE0-2E85-465E-922D-FA3500D9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1D0D-4220-4941-B63D-0FB1456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DFC1-8A83-49CA-AC14-BE82B08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F837-1016-428C-9A0E-85F2D231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A485-D8BA-4042-9B62-A7104C8F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AC7D-7E0B-49F0-B73C-AB505C8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FE88-6737-4A7F-89E7-75412FB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EE70-7370-404B-A5D9-9646100F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2BB4-45E4-4E57-A6FC-F097A511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A0CA-B07E-4CB8-A861-F15B1381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5362-F401-4065-843F-DBC423F0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58CA-74A4-483F-BC89-AA213CED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F5BB-3853-4372-9862-D9FA0F5F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B7FB-D11E-4E58-910D-3854D5B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6C50-EA62-40E3-A64C-5298A4EE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EEA8-0466-4503-8CD0-3E7A4F93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7222-7F97-46F7-A137-EA9986DC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41DB4-397C-415E-A5FC-8E01A03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7A55-EB06-40DC-8879-30E95245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1E51-2706-445A-A2D6-238A0FC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13B6-AF76-453D-A508-76872B20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4C67-A479-423F-A87B-6B7B0D99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4ADD6-B68F-4BD7-B39A-140C4E02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2D312-2864-4BD4-A4EB-E73B1C99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4499-2284-4D05-A931-FFA48B18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F44B-639C-43F2-AC0E-3AA6B56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6B2F-046F-4770-8F04-CAD411D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731A-3C9E-422A-A180-0BF6E741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3FD7-EBB7-4DDE-B343-5BAD7F69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72C07-2250-4A95-B043-60017ADC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C405-6424-4E2D-A371-5FFF85D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0C08-A6CD-472F-87D9-7C516E9E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62E24-A0F3-4ABA-95E8-DD73FBA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20748-2EFF-4894-90FD-82ED2F7C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6B68-9517-45C4-B404-52623A63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41BE-7162-48DA-999C-43E326C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7685-F0F0-4AF6-A290-D3D9CE24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D058-3958-4674-8D37-B2498847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D8970-4F14-4BD7-8C1A-A2BA7E1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35C2-0531-4C5D-9E9F-2B5334A8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C8DA7-8868-4CB2-9C53-174A3F0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504AB-323A-412F-AA60-957FE9A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9723-0952-4412-AA9B-93DEC17F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4F16A-BF48-4F0B-A3D1-6DF47A9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661F-2335-4E07-BBBA-8065BAA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1C4DB-E326-4B9C-9F87-E596DAF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92B6-1F94-406A-BEB8-EE9E94D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DC9C6-06F9-47E3-AFD4-4DD4A8C3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28C1-6BCF-47E7-8B60-874531BF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236C-E95C-4128-9F09-C9B44513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987D5-6702-426E-A1F8-AE6D0618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81843-0106-4E38-A363-BD200E87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79A7-7D6F-4ED7-B760-D6957CB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BA412-9B4E-4A49-AB1E-C3490B9A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F75CA-0AAA-441D-A128-8372E4FE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2FC3-86A9-414F-BFD6-CF9D5372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BE8F-5F9D-4751-8408-99C4F304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5CAC-D7BB-4E9F-96A9-99A419E8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09C4-31BF-4F6B-B920-E85FB92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99B6-571B-41F8-A836-C1F58D70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17C51-955E-4B1B-B9DD-B072D3E5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3E5E-11CC-44B0-86A7-EC02EE75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B3994-7941-4C0A-9D9F-875DFC8B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7695-FD1B-4C80-8C0A-36DC188D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65B8-6349-4F33-B5E4-8570BB81B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2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A09-F4A5-4736-90B5-E0BA469F6A2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60E-D586-477B-AEF2-31B795F73C6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04CB-8297-415B-9E86-E2AC09E078B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923B-72D1-4157-9BA3-2A6A7BE7D7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18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5B4B-D32D-46AC-A6EE-77735672CB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63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AFAB-386A-455E-A05B-7747B10241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Papierosa_1_ubt_0069.jpe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ромова Ольга Ильинич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4535640" cy="45543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читель химии МОУ «Лямбирская средняя общеобразовательная школа №1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едстаж 29 л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шая квалификационная категор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росовский учите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чётный работник общего образования РФ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бедитель конкурса лучших учителей РФ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686560" y="2017800"/>
            <a:ext cx="272556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00000" y="1827000"/>
            <a:ext cx="8244000" cy="48416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 (например, юношам стать летчиками, космонавтами, спортсменами, девушкам - балеринами, певицами и др. 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Курение и школьник несовместим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Школьные годы - это годы роста как физ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0" y="142884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Жизнь курящего, уж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авно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не секрет, сокращается в среднем на десять лет, не говоря уже о том, что этот вредный порок приводит к снижению трудоспособности, ранней инвалидности и преждевременной сме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токсических компонентов табака проникает в кровь и разносится буквально по всем клеткам организма, избирательно накапливаясь в жизненно важных органах: мозге, легких, печени, эндокринных (щитовидная железа) и половых железах. Наиболее выраженное действие он оказывает на сердечнососудистую систему и ЦНС, парализуя нервные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 является одним из факторов риска в развитии таких заболеваний как, хронический бронхит, рак, эмфизема легких, бронхиальная астма и д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2840" y="636480"/>
            <a:ext cx="69073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оследствия курения таба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28028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урить - здоровью вредить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Вероятность приобрести инфаркт миокарда у курильщиков в 10-12 раз выше, чем у некурящих, а смертность в 5 раз выше. Уже сегодня курение убивает каждого десятого человека в мир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Учитывая динамику прироста курильщиков, эксперты прогнозируют, что к 2020 году жертвами табака будут становиться около 10 миллионов человек в год. Вдумайтесь в эту цифру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03"/>
          <p:cNvPicPr/>
          <p:nvPr/>
        </p:nvPicPr>
        <p:blipFill>
          <a:blip r:embed="rId1"/>
          <a:stretch/>
        </p:blipFill>
        <p:spPr>
          <a:xfrm>
            <a:off x="5257800" y="304920"/>
            <a:ext cx="3651120" cy="6248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285840" y="-360"/>
            <a:ext cx="464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абакокурение одна из причин врожденных уродств у детей. Установлено, что табачные токсины уже через 5 сек. обнаруживаются в крови плода, выход их замедле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 курящих женщин частота рождения плода с массой тела менее 2500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значительно выше, мертворождение в 4 раза чаще, чем у некурящи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676520" y="6094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Bookman Old Style"/>
              </a:rPr>
              <a:t>Табак – это ЯД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600200" y="2286000"/>
            <a:ext cx="3352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600200" y="2743200"/>
            <a:ext cx="2819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5" descr="200px-Papierosa_1_ubt_00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2357280"/>
            <a:ext cx="3875040" cy="29070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ff3399"/>
                </a:solidFill>
                <a:latin typeface="Arial"/>
              </a:rPr>
              <a:t>Сквозь полную бутылку мир выглядит </a:t>
            </a:r>
            <a:br>
              <a:rPr sz="1400"/>
            </a:br>
            <a:r>
              <a:rPr b="0" i="1" lang="ru-RU" sz="1400" spc="-1" strike="noStrike">
                <a:solidFill>
                  <a:srgbClr val="ff3399"/>
                </a:solidFill>
                <a:latin typeface="Arial"/>
              </a:rPr>
              <a:t>совершенно иначе, чем сквозь пустую.</a:t>
            </a:r>
            <a:br>
              <a:rPr sz="1400"/>
            </a:br>
            <a:r>
              <a:rPr b="0" i="1" lang="ru-RU" sz="3600" spc="-1" strike="noStrike">
                <a:solidFill>
                  <a:srgbClr val="ff3399"/>
                </a:solidFill>
                <a:latin typeface="Arial"/>
              </a:rPr>
              <a:t>                         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Тадеуш Долэнга-Мостович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240" y="32004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5f5f5f"/>
                </a:solidFill>
                <a:latin typeface="Verdana"/>
              </a:rPr>
              <a:t>Как свидетельствует статистика, в последнее время пьянство все заметнее вторгается в наш быт. Антиалкогольная пропаганда заглохла. И не говорить о том, что пьянство не только «раздевает» человека, но и отнимает у него здоровье, ум, силу, творческие способности, значит еще более усугублять эту проблем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WordArt 16"/>
          <p:cNvSpPr txBox="1"/>
          <p:nvPr/>
        </p:nvSpPr>
        <p:spPr>
          <a:xfrm>
            <a:off x="324000" y="0"/>
            <a:ext cx="8501040" cy="14842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ред  алкогол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523880" y="3808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00ff"/>
                </a:solidFill>
                <a:latin typeface="Arial"/>
              </a:rPr>
              <a:t>История употребление спиртных напит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676520" y="22860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1905120" y="2057400"/>
            <a:ext cx="6400800" cy="411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си употребление алкогольных напитков, завезенных из Европы, началось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ке – значительно позже, чем в других государствах, и вначале – исключительно в качестве лечебного средства.  Но уже при Иване Грозном появились «царевы кабаки», что способствовало активному процессу распространения пьянства, которое с тех пор шествует по России, нанося неисчислимый вред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3"/>
          <p:cNvSpPr txBox="1"/>
          <p:nvPr/>
        </p:nvSpPr>
        <p:spPr>
          <a:xfrm>
            <a:off x="684360" y="187200"/>
            <a:ext cx="798984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фы об алкогол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371320" y="1944360"/>
            <a:ext cx="627084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f2f2"/>
                </a:solidFill>
                <a:latin typeface="Verdana"/>
              </a:rPr>
              <a:t>Алкоголь снимает страх, нервознос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f2f2"/>
                </a:solidFill>
                <a:latin typeface="Verdana"/>
              </a:rPr>
              <a:t>Пиво не алкогол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f2f2"/>
                </a:solidFill>
                <a:latin typeface="Verdana"/>
              </a:rPr>
              <a:t>Алкоголь согревае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f2f2"/>
                </a:solidFill>
                <a:latin typeface="Verdana"/>
              </a:rPr>
              <a:t>Употребление алкоголя – личное дело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f2f2"/>
                </a:solidFill>
                <a:latin typeface="Verdana"/>
              </a:rPr>
              <a:t>Алкоголь помогает строить отношения со сверстниками</a:t>
            </a: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523880" y="12193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Lucida Sans Unicode"/>
              </a:rPr>
              <a:t>Алкоголь снимает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095880" y="380880"/>
            <a:ext cx="19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Monotype Corsiva"/>
              </a:rPr>
              <a:t>Миф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143000" y="2971800"/>
            <a:ext cx="7315200" cy="301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Это кратковременный эффект. Лица, употребляющие алкоголь для снятия страха, нервозности, постепенно становятся нервными, всегда неуверенными в себе, испытывают трево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76520" y="1523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Lucida Sans Unicode"/>
              </a:rPr>
              <a:t>Пиво не алкого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6095880" y="380880"/>
            <a:ext cx="19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Monotype Corsiva"/>
              </a:rPr>
              <a:t>Миф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52480" y="2971800"/>
            <a:ext cx="6705720" cy="204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Пиво содержит спирт, и в больших количествах оно оказывает такое же действие, как и вино, и во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55280" y="549360"/>
            <a:ext cx="7854840" cy="54734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Verdana"/>
              </a:rPr>
              <a:t>Формирование навыков здорового образа жизни на уроках биологии и хим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676520" y="12952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Lucida Sans Unicode"/>
              </a:rPr>
              <a:t>Алкоголь согрева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6095880" y="380880"/>
            <a:ext cx="19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Monotype Corsiva"/>
              </a:rPr>
              <a:t>Миф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752480" y="2590920"/>
            <a:ext cx="6705720" cy="3506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Алкоголь имеет весьма кратковременный согревающий эффект и может применяться как медицинское средство лишь в некоторых случаях. Чаще всего гибнут от замерзания именно пьяные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676520" y="99072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Lucida Sans Unicode"/>
              </a:rPr>
              <a:t>Употребление алкоголя – личное дел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5880" y="228600"/>
            <a:ext cx="19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Monotype Corsiva"/>
              </a:rPr>
              <a:t>Миф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714680" y="2333520"/>
            <a:ext cx="6933960" cy="4480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Это не так, поскольку употребление спиртного сказывается на отношениях в семье, на работе, в обществе. Значительное число преступлений, в том числе и убийств, совершается в состоянии алкогольного опья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676520" y="99072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Lucida Sans Unicode"/>
              </a:rPr>
              <a:t>Алкоголь помогает строить отношения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6095880" y="228600"/>
            <a:ext cx="19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Monotype Corsiva"/>
              </a:rPr>
              <a:t>Миф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752480" y="3200400"/>
            <a:ext cx="6934320" cy="301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«Снятие тормозов» приводит к резкому ухудшению взаимоотношений, поскольку в алкогольном общении нередко возникают ссоры, взаимные подозрения, др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676520" y="6094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Bookman Old Style"/>
              </a:rPr>
              <a:t>Алкоголь – это ЯД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600200" y="2286000"/>
            <a:ext cx="3352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600200" y="2743200"/>
            <a:ext cx="2819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X:\контрольное задание001\VAZVODKA.jpg"/>
          <p:cNvPicPr/>
          <p:nvPr/>
        </p:nvPicPr>
        <p:blipFill>
          <a:blip r:embed="rId1"/>
          <a:stretch/>
        </p:blipFill>
        <p:spPr>
          <a:xfrm>
            <a:off x="2928960" y="1714680"/>
            <a:ext cx="3352680" cy="4748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m_fon"/>
          <p:cNvPicPr/>
          <p:nvPr/>
        </p:nvPicPr>
        <p:blipFill>
          <a:blip r:embed="rId1"/>
          <a:stretch/>
        </p:blipFill>
        <p:spPr>
          <a:xfrm>
            <a:off x="0" y="0"/>
            <a:ext cx="209556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_fon"/>
          <p:cNvPicPr/>
          <p:nvPr/>
        </p:nvPicPr>
        <p:blipFill>
          <a:blip r:embed="rId2"/>
          <a:stretch/>
        </p:blipFill>
        <p:spPr>
          <a:xfrm>
            <a:off x="7048440" y="0"/>
            <a:ext cx="209556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header"/>
          <p:cNvPicPr/>
          <p:nvPr/>
        </p:nvPicPr>
        <p:blipFill>
          <a:blip r:embed="rId3"/>
          <a:stretch/>
        </p:blipFill>
        <p:spPr>
          <a:xfrm>
            <a:off x="395280" y="115920"/>
            <a:ext cx="8229600" cy="15285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(от греч. narkotikos —     приводящий в оцепенение),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природные и синтетические вещества, вызывающие наркоманию.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WordArt 10"/>
          <p:cNvSpPr txBox="1"/>
          <p:nvPr/>
        </p:nvSpPr>
        <p:spPr>
          <a:xfrm>
            <a:off x="324000" y="1268280"/>
            <a:ext cx="2608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КОТИК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4" name="Picture 11" descr="BD21321_"/>
          <p:cNvPicPr/>
          <p:nvPr/>
        </p:nvPicPr>
        <p:blipFill>
          <a:blip r:embed="rId4"/>
          <a:stretch/>
        </p:blipFill>
        <p:spPr>
          <a:xfrm>
            <a:off x="108000" y="4313160"/>
            <a:ext cx="8856720" cy="1573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2"/>
          <p:cNvSpPr/>
          <p:nvPr/>
        </p:nvSpPr>
        <p:spPr>
          <a:xfrm>
            <a:off x="395280" y="4565520"/>
            <a:ext cx="828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333300"/>
                </a:solidFill>
                <a:latin typeface="Georgia"/>
              </a:rPr>
              <a:t>(от греч. nark – оцепенение, mania – безумие, страс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800080"/>
                </a:solidFill>
                <a:latin typeface="Script MT Bold"/>
              </a:rPr>
              <a:t>– заболевание, выражающееся в физической и/или психической зависимости потребителя от наркотиков, постепенно приводящей к разрушению его организм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13"/>
          <p:cNvSpPr txBox="1"/>
          <p:nvPr/>
        </p:nvSpPr>
        <p:spPr>
          <a:xfrm>
            <a:off x="324000" y="4292640"/>
            <a:ext cx="23335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МАН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Статистика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68360" y="1341360"/>
          <a:ext cx="8275680" cy="5129280"/>
        </p:xfrm>
        <a:graphic>
          <a:graphicData uri="http://schemas.openxmlformats.org/drawingml/2006/table">
            <a:tbl>
              <a:tblPr/>
              <a:tblGrid>
                <a:gridCol w="1234080"/>
                <a:gridCol w="1023120"/>
                <a:gridCol w="1210320"/>
                <a:gridCol w="1127520"/>
                <a:gridCol w="1156320"/>
                <a:gridCol w="1154520"/>
                <a:gridCol w="1154520"/>
                <a:gridCol w="216000"/>
              </a:tblGrid>
              <a:tr h="4737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 КОЛИЧЕСТВА ЗЛОУПОТРЕБЛЯЮЩИХ НАРКОТИКАМИ ПО РЕГИОНАМ ПЛАНЕТЫ, КОНЕЦ 1990-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Реги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ичество наркоманов, млн чел., (потребител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оля наркоманов в населении старше 14 лет, %, (потребител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а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а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аз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а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а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аз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Евро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Амер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8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Глобаль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масшта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36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75880" y="331920"/>
            <a:ext cx="5821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О вреде наркотико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2819520" y="3276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133720" y="2362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Физическая завис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838080" y="47242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Психологическая завис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447920" y="5791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витие постоянной, иногда непреодолимой психологической потребности в нарко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523880" y="9144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0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42670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2"/>
          <p:cNvSpPr/>
          <p:nvPr/>
        </p:nvSpPr>
        <p:spPr>
          <a:xfrm flipV="1">
            <a:off x="4267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3"/>
          <p:cNvSpPr/>
          <p:nvPr/>
        </p:nvSpPr>
        <p:spPr>
          <a:xfrm>
            <a:off x="42670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00280" y="301680"/>
            <a:ext cx="628632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потребление конопл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00" name="Picture 4" descr="C:\Documents and Settings\NikulinaII\Application Data\Microsoft\Media Catalog\Downloaded Clips\cl0\HM00250_.wmf"/>
          <p:cNvPicPr/>
          <p:nvPr/>
        </p:nvPicPr>
        <p:blipFill>
          <a:blip r:embed="rId1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1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2209680" y="35053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4572000" y="2971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8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405" name="Line 7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0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4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7"/>
          <p:cNvSpPr/>
          <p:nvPr/>
        </p:nvSpPr>
        <p:spPr>
          <a:xfrm>
            <a:off x="7086600" y="2819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0" descr="C:\Documents and Settings\NikulinaII\Application Data\Microsoft\Media Catalog\Downloaded Clips\cl5d\j0234673.gif"/>
          <p:cNvPicPr/>
          <p:nvPr/>
        </p:nvPicPr>
        <p:blipFill>
          <a:blip r:embed="rId2"/>
          <a:stretch/>
        </p:blipFill>
        <p:spPr>
          <a:xfrm>
            <a:off x="4952880" y="3962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:\Documents and Settings\NikulinaII\Application Data\Microsoft\Media Catalog\Downloaded Clips\cl5d\j0234734.gif"/>
          <p:cNvPicPr/>
          <p:nvPr/>
        </p:nvPicPr>
        <p:blipFill>
          <a:blip r:embed="rId3"/>
          <a:stretch/>
        </p:blipFill>
        <p:spPr>
          <a:xfrm>
            <a:off x="358128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6760" y="407880"/>
            <a:ext cx="657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отребление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пиатных наркотик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15" name="Group 17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416" name="Line 3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4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7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8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9"/>
          <p:cNvSpPr/>
          <p:nvPr/>
        </p:nvSpPr>
        <p:spPr>
          <a:xfrm>
            <a:off x="228600" y="37339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6781680" y="3581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350532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1752480" y="3048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4" descr="C:\Documents and Settings\NikulinaII\Application Data\Microsoft\Media Catalog\Downloaded Clips\cl0\HM00302_.wmf"/>
          <p:cNvPicPr/>
          <p:nvPr/>
        </p:nvPicPr>
        <p:blipFill>
          <a:blip r:embed="rId1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H:\Разное\легкие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6" descr="H:\Разное\скелет3.jpg"/>
          <p:cNvPicPr/>
          <p:nvPr/>
        </p:nvPicPr>
        <p:blipFill>
          <a:blip r:embed="rId3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8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69960" y="301680"/>
            <a:ext cx="6678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Употребление психостимуляторов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32" name="Group 13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433" name="Line 3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4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6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685800" y="5791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alibri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5334120" y="28954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1905120" y="11430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Нарушения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4" descr="H:\Разное\сердце.jpg"/>
          <p:cNvPicPr/>
          <p:nvPr/>
        </p:nvPicPr>
        <p:blipFill>
          <a:blip r:embed="rId1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444" name="Line 15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6934320" y="4191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773840" cy="4841640"/>
          </a:xfrm>
          <a:prstGeom prst="rect">
            <a:avLst/>
          </a:prstGeom>
          <a:solidFill>
            <a:srgbClr val="99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влечь внимание школьников, к проблеме курения, алкоголизма, наркомании и повысить стремление учащихся к психическому  и физическому совершенств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ить жить без вредных привыче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03360" y="433440"/>
            <a:ext cx="6678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потребление галлюциногено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49" name="Group 12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450" name="Line 3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4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5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6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990720" y="4648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6" descr="H:\Разное\голмозг.jpg"/>
          <p:cNvPicPr/>
          <p:nvPr/>
        </p:nvPicPr>
        <p:blipFill>
          <a:blip r:embed="rId1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7" descr="H:\Разное\печень.jpg"/>
          <p:cNvPicPr/>
          <p:nvPr/>
        </p:nvPicPr>
        <p:blipFill>
          <a:blip r:embed="rId2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потребление ЛНД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65" name="Group 16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466" name="Line 3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7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70102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4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8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0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1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2" descr="H:\Разное\пневмония.jpg"/>
          <p:cNvPicPr/>
          <p:nvPr/>
        </p:nvPicPr>
        <p:blipFill>
          <a:blip r:embed="rId1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3" descr="H:\Разное\голмозг.jpg"/>
          <p:cNvPicPr/>
          <p:nvPr/>
        </p:nvPicPr>
        <p:blipFill>
          <a:blip r:embed="rId2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4" descr="H:\Разное\печень.jpg"/>
          <p:cNvPicPr/>
          <p:nvPr/>
        </p:nvPicPr>
        <p:blipFill>
          <a:blip r:embed="rId3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1143000" y="609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Bookman Old Style"/>
              </a:rPr>
              <a:t>Наркотики – это ЯД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1600200" y="2286000"/>
            <a:ext cx="3352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600200" y="2743200"/>
            <a:ext cx="2819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1" descr="narkotiki"/>
          <p:cNvPicPr/>
          <p:nvPr/>
        </p:nvPicPr>
        <p:blipFill>
          <a:blip r:embed="rId1"/>
          <a:stretch/>
        </p:blipFill>
        <p:spPr>
          <a:xfrm>
            <a:off x="2357280" y="2214720"/>
            <a:ext cx="4799160" cy="35985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>
    <p:wedg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1.Пробовали ли вы курить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Да я пробовал, Б) Я курю, В) Не пробова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2. Где вы пробовали алкоголь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В семье, Б) В кругу друзей, В) Не пробова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3. Как часто употребляете алкоголь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Часто, Б) Редко, В)Никогд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4. Что побуждает употреблять алкоголь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Снять стресс, Б) Друзья, В) Интерес, Г) Не знаю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5. Пробовали ли вы наркотики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Да, Б) Нет, В) Никогда не буду употреблять!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2920" y="301680"/>
            <a:ext cx="7280280" cy="8236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58920" y="1196640"/>
            <a:ext cx="7424640" cy="53276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Привлечь возможно большее внимание школьников к проблеме вредных привы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Помочь формированию у учащихся эмоционального неприятия вредных привычек в качестве положительного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Формирование у учащихся собственной жизненной позиции , позволяющей расширить круг интересов, не прибегая к «суррогатам» в виде сигарет, спиртных напитков и наркот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Стимулировать стремление прекращения курения среди курящих школьник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828528-001"/>
          <p:cNvPicPr/>
          <p:nvPr/>
        </p:nvPicPr>
        <p:blipFill>
          <a:blip r:embed="rId1"/>
          <a:stretch/>
        </p:blipFill>
        <p:spPr>
          <a:xfrm>
            <a:off x="0" y="0"/>
            <a:ext cx="3460680" cy="52862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539640" y="189000"/>
            <a:ext cx="8209080" cy="71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ловек часто сам себе злейший вра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иц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Курильщик впускает в свои уста вра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торый похищает моз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глийская послов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Все пороки от бездел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икотин – это я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Табак приносит вред телу, разрушает разум, отупляет целые наци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. Де Бальз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т курения тупеешь , оно не совместимо с работ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. Гёт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2895840" cy="20782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"/>
          <p:cNvSpPr/>
          <p:nvPr/>
        </p:nvSpPr>
        <p:spPr>
          <a:xfrm>
            <a:off x="-1311120" y="-33984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3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3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3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3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0" y="128592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 курении стало известно европейцам после открытия Христофором Колумбом Америки. Когда мореплаватели пристали к одному из островов Нового Света, они увидели, что на берегу туземцы держат во рту тоненькие свертки из сухих листьев (сигары) и выпускают д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33520" y="380880"/>
            <a:ext cx="426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28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00"/>
                </a:solidFill>
                <a:uFillTx/>
                <a:latin typeface="Calibri"/>
              </a:rPr>
              <a:t>Из истор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C:\Documents and Settings\Ксения\Мои документы\рисуночки)))\tabak12.jpg"/>
          <p:cNvPicPr/>
          <p:nvPr/>
        </p:nvPicPr>
        <p:blipFill>
          <a:blip r:embed="rId1"/>
          <a:stretch/>
        </p:blipFill>
        <p:spPr>
          <a:xfrm>
            <a:off x="5643720" y="3429000"/>
            <a:ext cx="2786040" cy="3143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31" name="Picture 7" descr="C:\Documents and Settings\Ксения\Мои документы\рисуночки)))\sig2.jpg"/>
          <p:cNvPicPr/>
          <p:nvPr/>
        </p:nvPicPr>
        <p:blipFill>
          <a:blip r:embed="rId2"/>
          <a:stretch/>
        </p:blipFill>
        <p:spPr>
          <a:xfrm>
            <a:off x="642960" y="3643200"/>
            <a:ext cx="3875040" cy="2898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Появление табака в Европ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4240" y="10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читается, что табак получил свое название от провинции Тобаго (Куба), откуда его семена были завезены в Европу. В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XV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столетии табак получил распространение во Франции, где ему приписывали целебные действия при различных заболеваниях. Французский посол в Португалии Жанн Нико в 1560г. привез листья табака из Лиссабона Екатерине Медичи. Королева нюхала его думая, что это помогает при мигрен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От фамилии этого дипломат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икотин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” обрел свое всемирноизвестное имя, став ботаническим термино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начале модно было нюхать табак, позднее начали его курить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3" descr="C:\Documents and Settings\Ксения\Мои документы\рисуночки)))\sigi.jpg"/>
          <p:cNvPicPr/>
          <p:nvPr/>
        </p:nvPicPr>
        <p:blipFill>
          <a:blip r:embed="rId1"/>
          <a:stretch/>
        </p:blipFill>
        <p:spPr>
          <a:xfrm>
            <a:off x="3139920" y="4425840"/>
            <a:ext cx="2975040" cy="216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C:\Documents and Settings\Ксения\Мои документы\рисуночки)))\tabak2.jpg"/>
          <p:cNvPicPr/>
          <p:nvPr/>
        </p:nvPicPr>
        <p:blipFill>
          <a:blip r:embed="rId1"/>
          <a:stretch/>
        </p:blipFill>
        <p:spPr>
          <a:xfrm>
            <a:off x="0" y="0"/>
            <a:ext cx="3071880" cy="7143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65080" y="428400"/>
            <a:ext cx="491508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оявление табака в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857320" y="1981080"/>
            <a:ext cx="60721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Россию табак был завезен английскими купцами в начале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XVII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ека и получил название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ртово зелье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”. П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ё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тр I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пристрастившись к нему во время пребывания в Голландии, поощрял курение и разрешил продажу табака, наложив пошлину в пользу государства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Опасность  никоти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28400" y="142848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Никотин - один из самых опасных ядов растительного происхожд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тицы (воробьи, голуби) погибают, если к их клюву всего лишь поднести стеклянную палочку, смоченную никотин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олик погибает от 1/4 капли никот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бака – от ½ кап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человека смертельная доза никотина составляет от 50 до 100 мг, или 2-3 кап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1:01:25Z</dcterms:created>
  <dc:creator>Ксения</dc:creator>
  <dc:description/>
  <dc:language>en-US</dc:language>
  <cp:lastModifiedBy>User</cp:lastModifiedBy>
  <dcterms:modified xsi:type="dcterms:W3CDTF">2012-01-21T14:11:46Z</dcterms:modified>
  <cp:revision>26</cp:revision>
  <dc:subject/>
  <dc:title>Слайд 1</dc:title>
</cp:coreProperties>
</file>