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076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064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076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064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255600"/>
            <a:ext cx="86058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rot="10800000">
            <a:off x="-1800" y="720"/>
            <a:ext cx="1008036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>
              <a:gd name="textAreaLeft" fmla="*/ 0 w 5707080"/>
              <a:gd name="textAreaRight" fmla="*/ 5707440 w 5707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>
              <a:gd name="textAreaLeft" fmla="*/ 0 w 5762520"/>
              <a:gd name="textAreaRight" fmla="*/ 5762880 w 5762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>
              <a:gd name="textAreaLeft" fmla="*/ 0 w 2260800"/>
              <a:gd name="textAreaRight" fmla="*/ 2261160 w 22608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6678720"/>
            <a:ext cx="5894280" cy="717480"/>
          </a:xfrm>
          <a:custGeom>
            <a:avLst/>
            <a:gdLst>
              <a:gd name="textAreaLeft" fmla="*/ 0 w 5894280"/>
              <a:gd name="textAreaRight" fmla="*/ 5894640 w 589428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5280" indent="-324000"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287280">
              <a:spcAft>
                <a:spcPts val="1426"/>
              </a:spcAft>
              <a:buSzPct val="111603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2400" y="995040"/>
            <a:ext cx="860760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Окружающий мир. 3 класс</a:t>
            </a: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3333cc"/>
                </a:solidFill>
                <a:latin typeface="Times New Roman"/>
              </a:rPr>
              <a:t>Полезные ископаемые</a:t>
            </a:r>
            <a:br>
              <a:rPr sz="6000"/>
            </a:br>
            <a:br>
              <a:rPr sz="8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4680000"/>
            <a:ext cx="860760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Сергеева Елена Викто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СОШ № 4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ушкин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360" y="684000"/>
            <a:ext cx="3240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Известня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960720" y="1116000"/>
            <a:ext cx="5399280" cy="60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звестняки залегают в земле громадными слоями. К известнякам относятся мел, обыкновенный известняк и мрам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л — самый мягкий известняк. Им пишут на доске. Толчёным мелом белят стены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быкновенный известняк — плотный камень  белого, серого или желтоватого цвета. Используется при строительстве домов, мощении дорог, приготовлении извёст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2124000"/>
            <a:ext cx="374508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280" y="684000"/>
            <a:ext cx="365148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Известня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3280" y="1979640"/>
            <a:ext cx="3894120" cy="3456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4608360" y="2266920"/>
            <a:ext cx="503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рамор — твёрдый плотный камень разнообразной окраски, хорошо полируетс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спользуется для украшения зданий, из него делают колонны, статуи, лест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4753080" y="5003640"/>
            <a:ext cx="50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287964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Неф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600360" y="542880"/>
            <a:ext cx="6120000" cy="65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ефть — это жидкое полезное ископаемое тёмного цвета. Её называют чёрным золотом. Происхождение нефти полностью не изучено. До сих пор учёные разных стран спорят о том, как же она появилась. Скорее всего,  она образовалась из каких-то живых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амый обычный способ поиска и добычи нефти — бурение скважин. Бурить начинают в том месте, где, по мнению геологов, должна быть нефть. И бурят до тех пор, пока из скважины не вырвется чёрный фонта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з нефти производят керосин, бензин, смазочные масла, вазелин, лекарства, мыло, технический спирт, тка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2195640"/>
            <a:ext cx="3384720" cy="34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6360" y="900000"/>
            <a:ext cx="364968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Каменная со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330800" y="1797120"/>
            <a:ext cx="502920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ньше соль очень дорого ценилась, и за один килограмм соли платили серебром. Слово «солдат» произошло от сочетания «соль давать», так назывались вооруженные люди, охранявшие караваны с сол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79280" y="216072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971280"/>
            <a:ext cx="3097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Железная ру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00000" y="1258920"/>
            <a:ext cx="62643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лово «железо» возникло от санскритского слова «джальза» (металл, руда). На поверхности Земли находили железные метеориты и делали из них украшения, орудия труда, охо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ервым орудием труда древнего человека был  камень, привязанный к палке. Как-то раз в костёр попали куски окисленной руды, с виду обыкновенного камня,  и расплавились.  Так было положено начало металлург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Железная руда чёрного цвета, твёрдая и плотная, притягивает металлические предметы. Из неё делают машины, вагоны, рельсы, ножн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2411280"/>
            <a:ext cx="341964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640" y="539640"/>
            <a:ext cx="4608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Каменный уго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00000" y="1763640"/>
            <a:ext cx="648036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оль образовывается из остатков растений в течении многих миллионов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огда остатки растений перегнивают практически без кислорода, образуется торф. Торф используется как топливо, а также как подстилку для домашних животн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3760" y="2482920"/>
            <a:ext cx="336096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6000" y="466560"/>
            <a:ext cx="42987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Каменный уго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4032360" y="1692360"/>
            <a:ext cx="5545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тем торф превращается в бурый уголь, потом — в каменный уголь и затем в антрацит — уголь самого высокого ка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менный уголь чёрного цвета, твёрдый, но хрупкий, горю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н используется для отопления жилых помещений, изготовления кокс-краски, лекарств, пластмассы, ду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14480" y="2340000"/>
            <a:ext cx="3790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18920" y="1763640"/>
            <a:ext cx="8607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пишем определение полезных ископаемых в рабочей тетради на странице 2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омощь в учебнике на странице 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ыполним практическую работу в рабочей тетрад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а странице 26 № 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вариант - нефть, известня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 вариант - гранит, гл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 вариант - железная руда, пес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 вариант - каменный уголь, природный га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47640" y="466560"/>
            <a:ext cx="8607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8920" y="-360"/>
            <a:ext cx="86072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Задан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9280" y="6082920"/>
            <a:ext cx="86407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читай статьи в учебнике «Для чего их добывают» и «Как их добывают» на странице 49-50, рассмотри фотографии в учебни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ыполни задание № 5 в рабочей тетра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 старой шахте отыщите дорогу к кладу. № 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верь у сосе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ыполни задание №3 в рабочей тетради.  Самостоятельно впиши в клеточки названия полезных ископаемых. Проверь у сосе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полни таблицу № 4. Поставь + в соответствующую графу. Самостоятель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2000" y="394920"/>
            <a:ext cx="86076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47640" y="1258920"/>
            <a:ext cx="8607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 Учебник, 48-50, вопро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 Рабочая тетрадь, № 7-8, стр.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1680" y="1439640"/>
            <a:ext cx="896796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Назови три кита экономи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асскажи о значении природных богатств для экономи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Что такое капитал? Приведи пример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ля чего необходим труд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От чего зависит успех труда людей в экономик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чему природные богатства, капитал и труд называют тремя китами экономи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Ресурсы Интерне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31640" y="1258560"/>
            <a:ext cx="90554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сок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nika-media.ru/news/3535/date2009-09-28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ллекция «Полезные ископаемы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tp://files.school-collection.edu.ru/dlrstore/5ca811f4-7aea-42ca-b5da-534dfd445e6c/PoleznyeIskopaemye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files.school-collection.edu.ru/dlrstore/606f3f11-e0fe-11db-8314-0800200c9a66/02_02_06_01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2400" y="1279440"/>
            <a:ext cx="8607600" cy="857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Какие материалы люди используют для строительства? Где их беру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Какие виды топлива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Как получают металлы? Где их использую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Люди каких профессий заняты при добыче полезных ископаемы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720360" y="450072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740720" y="7559640"/>
            <a:ext cx="9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979640" y="575928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900000" y="5400720"/>
            <a:ext cx="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2400" y="1618920"/>
            <a:ext cx="8607600" cy="20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br>
              <a:rPr sz="4400"/>
            </a:br>
            <a:br>
              <a:rPr sz="44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«Полезные ископаемы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92000" y="4140000"/>
            <a:ext cx="860760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Подумай,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такое полезные ископаемы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0720" y="1260000"/>
            <a:ext cx="860760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Полезные ископаемые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— это горные породы и минералы, которые человек использует в хозяйств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Одни используются в строительстве, другие служат топливом, из третьих получают металл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лезные ископаемые — огромное бесценное богатство Земл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-60480" y="0"/>
            <a:ext cx="1014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37800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Пес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9640" y="684000"/>
            <a:ext cx="4668840" cy="65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есок - это рыхлая, сыпучая порода, состоящая из минеральных частиц разного цвета, размером от 0,05-2 м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есок — это продукт разрушения твёрдых пород под действием солнца, тепла, ветра. Чаще всего песок образуется из кварц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спользуется в стекольном производстве; в литейном деле, при плавлении металла; в строитель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16000" y="1979640"/>
            <a:ext cx="380664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610920"/>
            <a:ext cx="28796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032360" y="1332000"/>
            <a:ext cx="558000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Глина — это осадочная порода. Она образуется в результате выветривания различных горных пород, но переотлагается на дне морей и озё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Глина очень мелкая, бурого, жёлтого, белого, голубого цве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Широко применяемый строительный материал. Кирпич делают из глины. Также изготовляют посуду,игрушки, фарфор, фаянс, огнеупорные материалы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16000" y="2340000"/>
            <a:ext cx="37083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299880"/>
            <a:ext cx="331344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Гран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103640" y="755280"/>
            <a:ext cx="5616720" cy="62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озникает из глинистых сланцев и песчаников. Зернистый, твёрдый и прочный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азвание гранит произошло от греческого «гранум», что означает зерно. Гранит состоит из зерен трех минералов – полевого шпата (красного цвета), кварца (светло-серого цвета) и слюды (черного цвет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спользуется при строительстве и сооружении памятников. Гранитом облицованы набережные в Санкт-Петербурге, отделаны стены домов и станций метр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87280" y="2195640"/>
            <a:ext cx="3529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1T15:52:46Z</dcterms:modified>
  <cp:revision>10</cp:revision>
  <dc:subject/>
  <dc:title>Окружающий мир. 3 класс.  Полезные ископаемые.  </dc:title>
</cp:coreProperties>
</file>