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84C-29C1-415D-9704-93BCE83A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8A8-D87B-4833-B251-66DBBC46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740-7D79-4327-ACD2-58C636D3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1D3-F7BE-4666-B36F-5F351EFB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164-6772-41B2-941D-10DAF204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FBAE-BB06-4DDC-BF60-EE7EB7CA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419E-DBE9-41EC-BBCC-057480D3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9568-4CA7-4D43-AEF1-A958A5FD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B9ED-F94E-4D17-9F52-47E01641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E682-626C-47AF-BFB3-3093C71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1B0A-D837-42DD-979E-C00BABFB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7C2-9AB5-4138-B56A-38B7D5D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2A3-9BD2-479E-AB5F-00A5CF3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CCEC-87CB-4C80-B016-0A1AAA9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1410-BCED-4294-AC50-ECC02E0A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44F6-B1FF-43D7-9A4B-5FD46824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544F-2BF2-4943-BD08-5E1B5A16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F38-3AEE-465C-A300-8E2388F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A75-E355-43A5-8739-BC144F7A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330-6116-4721-BE43-2B8ED6F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CA3-A2CA-4722-8B26-D14D4782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298-FD87-4DB0-AF79-4886B18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8F9-5687-4345-BE98-D28D1E9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2C8-9F20-470C-A2B7-B876CBD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DFBF-BB4A-4F25-93B8-F48437CE37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B16-4333-49FA-8E30-31AE569136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Решение задач по теме :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«Закон сохранения электрического заряда. Закон Кулона»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έ — диэлектрическая проницаемость среды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ля вакуума έ =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58972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11222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  <a:path fill="darken" w="29441" h="21600">
                <a:moveTo>
                  <a:pt x="7714" y="3794"/>
                </a:moveTo>
                <a:lnTo>
                  <a:pt x="9377" y="3794"/>
                </a:lnTo>
                <a:lnTo>
                  <a:pt x="9377" y="17806"/>
                </a:lnTo>
                <a:lnTo>
                  <a:pt x="771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= 9 • 10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 • м/К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370760" y="17791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36640" y="198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5445000"/>
            <a:ext cx="934920" cy="7207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16" h="21600">
                <a:moveTo>
                  <a:pt x="0" y="0"/>
                </a:moveTo>
                <a:lnTo>
                  <a:pt x="28016" y="0"/>
                </a:lnTo>
                <a:lnTo>
                  <a:pt x="28016" y="21600"/>
                </a:lnTo>
                <a:lnTo>
                  <a:pt x="0" y="21600"/>
                </a:lnTo>
                <a:close/>
              </a:path>
              <a:path fill="lightenLess" w="28016" h="21600">
                <a:moveTo>
                  <a:pt x="0" y="0"/>
                </a:moveTo>
                <a:lnTo>
                  <a:pt x="28016" y="0"/>
                </a:lnTo>
                <a:lnTo>
                  <a:pt x="26616" y="1400"/>
                </a:lnTo>
                <a:lnTo>
                  <a:pt x="1400" y="1400"/>
                </a:lnTo>
                <a:close/>
              </a:path>
              <a:path fill="darken" w="28016" h="21600">
                <a:moveTo>
                  <a:pt x="28016" y="0"/>
                </a:moveTo>
                <a:lnTo>
                  <a:pt x="28016" y="21600"/>
                </a:lnTo>
                <a:lnTo>
                  <a:pt x="26616" y="20200"/>
                </a:lnTo>
                <a:lnTo>
                  <a:pt x="26616" y="1400"/>
                </a:lnTo>
                <a:close/>
              </a:path>
              <a:path fill="darkenLess" w="28016" h="21600">
                <a:moveTo>
                  <a:pt x="28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16" y="20200"/>
                </a:lnTo>
                <a:close/>
              </a:path>
              <a:path fill="lighten" w="28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16" h="21600">
                <a:moveTo>
                  <a:pt x="10509" y="10800"/>
                </a:moveTo>
                <a:lnTo>
                  <a:pt x="21015" y="3794"/>
                </a:lnTo>
                <a:lnTo>
                  <a:pt x="21015" y="17806"/>
                </a:lnTo>
                <a:close/>
              </a:path>
              <a:path fill="darken" w="28016" h="21600">
                <a:moveTo>
                  <a:pt x="7002" y="3794"/>
                </a:moveTo>
                <a:lnTo>
                  <a:pt x="8664" y="3794"/>
                </a:lnTo>
                <a:lnTo>
                  <a:pt x="8664" y="17806"/>
                </a:lnTo>
                <a:lnTo>
                  <a:pt x="700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134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έ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= 8,85 • 1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л/Н • м2 — электрическая постоян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514400" y="1844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5445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9268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7423" y="3794"/>
                </a:lnTo>
                <a:lnTo>
                  <a:pt x="7423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|е| = 1,6 • 10 Кл — модуль заряда электрона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6142680" y="17017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7080" y="5445000"/>
            <a:ext cx="934920" cy="7207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16" h="21600">
                <a:moveTo>
                  <a:pt x="0" y="0"/>
                </a:moveTo>
                <a:lnTo>
                  <a:pt x="28016" y="0"/>
                </a:lnTo>
                <a:lnTo>
                  <a:pt x="28016" y="21600"/>
                </a:lnTo>
                <a:lnTo>
                  <a:pt x="0" y="21600"/>
                </a:lnTo>
                <a:close/>
              </a:path>
              <a:path fill="lightenLess" w="28016" h="21600">
                <a:moveTo>
                  <a:pt x="0" y="0"/>
                </a:moveTo>
                <a:lnTo>
                  <a:pt x="28016" y="0"/>
                </a:lnTo>
                <a:lnTo>
                  <a:pt x="26616" y="1400"/>
                </a:lnTo>
                <a:lnTo>
                  <a:pt x="1400" y="1400"/>
                </a:lnTo>
                <a:close/>
              </a:path>
              <a:path fill="darken" w="28016" h="21600">
                <a:moveTo>
                  <a:pt x="28016" y="0"/>
                </a:moveTo>
                <a:lnTo>
                  <a:pt x="28016" y="21600"/>
                </a:lnTo>
                <a:lnTo>
                  <a:pt x="26616" y="20200"/>
                </a:lnTo>
                <a:lnTo>
                  <a:pt x="26616" y="1400"/>
                </a:lnTo>
                <a:close/>
              </a:path>
              <a:path fill="darkenLess" w="28016" h="21600">
                <a:moveTo>
                  <a:pt x="28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16" y="20200"/>
                </a:lnTo>
                <a:close/>
              </a:path>
              <a:path fill="lighten" w="28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16" h="21600">
                <a:moveTo>
                  <a:pt x="10509" y="10800"/>
                </a:moveTo>
                <a:lnTo>
                  <a:pt x="21015" y="3794"/>
                </a:lnTo>
                <a:lnTo>
                  <a:pt x="21015" y="17806"/>
                </a:lnTo>
                <a:close/>
              </a:path>
              <a:path fill="darken" w="28016" h="21600">
                <a:moveTo>
                  <a:pt x="7002" y="3794"/>
                </a:moveTo>
                <a:lnTo>
                  <a:pt x="8664" y="3794"/>
                </a:lnTo>
                <a:lnTo>
                  <a:pt x="8664" y="17806"/>
                </a:lnTo>
                <a:lnTo>
                  <a:pt x="700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Тип урока: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систематизация и обобщение зна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Цели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ыделить основные структурные элементы знаний по теме: " Закон сохранения электрического заряда. Закон Кулона "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родолжить формирование приемов мыслительной деятельности – анализа, синтеза, сравнения, систематизации, навыков работы в групп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Закрепить ранее изученный материал, умение составлять и решать задач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b8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65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50160" indent="-650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вторение и систематизация знаний о физических величинах и способах их определения (Устный опрос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50160" indent="-650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бобщение знаний о понятиях и законах, изученных по данной теме. (Заполнение таблиц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50160" indent="-650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задач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50160" indent="-650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990099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Ответить на вопро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Что называют электрическим зарядом?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ак взаимодействуют одноименные и разноименные электрические заряды?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формулируйте и запишите закон сохранения электрического заряда.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В каких случаях выполняется закон сохранения электрического заряда?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ак формулируют и записывают закон Кулона для взаимодействия зарядов в вакууме?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акая величина характеризует влияние среды на силу взаимодействия между зарядами?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Чему равен коэффициент пропорциональности в законе Кулона?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Чему равна электрическая постоянная?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аково значение заряда электрона?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(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ЛЕКТРИЧЕСКИЙ заряд - величина, определяющая интенсивность электромагнитного взаимодействия заряженных частиц; источник электромагнитного по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6659640" y="5373720"/>
            <a:ext cx="936720" cy="71928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126" h="21600">
                <a:moveTo>
                  <a:pt x="0" y="0"/>
                </a:moveTo>
                <a:lnTo>
                  <a:pt x="28126" y="0"/>
                </a:lnTo>
                <a:lnTo>
                  <a:pt x="28126" y="21600"/>
                </a:lnTo>
                <a:lnTo>
                  <a:pt x="0" y="21600"/>
                </a:lnTo>
                <a:close/>
              </a:path>
              <a:path fill="lightenLess" w="28126" h="21600">
                <a:moveTo>
                  <a:pt x="0" y="0"/>
                </a:moveTo>
                <a:lnTo>
                  <a:pt x="28126" y="0"/>
                </a:lnTo>
                <a:lnTo>
                  <a:pt x="26726" y="1400"/>
                </a:lnTo>
                <a:lnTo>
                  <a:pt x="1400" y="1400"/>
                </a:lnTo>
                <a:close/>
              </a:path>
              <a:path fill="darken" w="28126" h="21600">
                <a:moveTo>
                  <a:pt x="28126" y="0"/>
                </a:moveTo>
                <a:lnTo>
                  <a:pt x="28126" y="21600"/>
                </a:lnTo>
                <a:lnTo>
                  <a:pt x="26726" y="20200"/>
                </a:lnTo>
                <a:lnTo>
                  <a:pt x="26726" y="1400"/>
                </a:lnTo>
                <a:close/>
              </a:path>
              <a:path fill="darkenLess" w="28126" h="21600">
                <a:moveTo>
                  <a:pt x="28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6" y="20200"/>
                </a:lnTo>
                <a:close/>
              </a:path>
              <a:path fill="lighten" w="28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6" h="21600">
                <a:moveTo>
                  <a:pt x="7057" y="10800"/>
                </a:moveTo>
                <a:lnTo>
                  <a:pt x="21070" y="3794"/>
                </a:lnTo>
                <a:lnTo>
                  <a:pt x="2107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дноимённые заряды отталкиваются, а разноимённые- притягиваютс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6804000" y="508464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8123" y="10800"/>
                </a:moveTo>
                <a:lnTo>
                  <a:pt x="18628" y="3794"/>
                </a:lnTo>
                <a:lnTo>
                  <a:pt x="18628" y="17806"/>
                </a:lnTo>
                <a:close/>
              </a:path>
              <a:path fill="darken" w="23243" h="21600">
                <a:moveTo>
                  <a:pt x="4615" y="3794"/>
                </a:moveTo>
                <a:lnTo>
                  <a:pt x="6277" y="3794"/>
                </a:lnTo>
                <a:lnTo>
                  <a:pt x="6277" y="17806"/>
                </a:lnTo>
                <a:lnTo>
                  <a:pt x="461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замкнутой системе алгебраическая сумма зарядов остаётся неизменной при любых взаимодействиях внутри данной систем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+q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+q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+ q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……+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6877080" y="551664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кон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сохранения электрического заряд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полняется только в замкнутых систем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445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8965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7120" y="3794"/>
                </a:lnTo>
                <a:lnTo>
                  <a:pt x="7120" y="17806"/>
                </a:lnTo>
                <a:lnTo>
                  <a:pt x="545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7696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ла взаимодействия двух точечных неподвижных заряженных тел в вакууме прямо пропорциональна произведению модулей заряда и обратно пропорциональна квадрату расстояния между ни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908000" y="4292640"/>
            <a:ext cx="20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=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486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4005360"/>
            <a:ext cx="544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580000" y="4005360"/>
            <a:ext cx="50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076720" y="429264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43640" y="4292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83200" y="4941720"/>
            <a:ext cx="3175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219640" y="5084640"/>
            <a:ext cx="513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5734080"/>
            <a:ext cx="934920" cy="7905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42" h="21600">
                <a:moveTo>
                  <a:pt x="0" y="0"/>
                </a:moveTo>
                <a:lnTo>
                  <a:pt x="25542" y="0"/>
                </a:lnTo>
                <a:lnTo>
                  <a:pt x="25542" y="21600"/>
                </a:lnTo>
                <a:lnTo>
                  <a:pt x="0" y="21600"/>
                </a:lnTo>
                <a:close/>
              </a:path>
              <a:path fill="lightenLess" w="25542" h="21600">
                <a:moveTo>
                  <a:pt x="0" y="0"/>
                </a:moveTo>
                <a:lnTo>
                  <a:pt x="25542" y="0"/>
                </a:lnTo>
                <a:lnTo>
                  <a:pt x="24142" y="1400"/>
                </a:lnTo>
                <a:lnTo>
                  <a:pt x="1400" y="1400"/>
                </a:lnTo>
                <a:close/>
              </a:path>
              <a:path fill="darken" w="25542" h="21600">
                <a:moveTo>
                  <a:pt x="25542" y="0"/>
                </a:moveTo>
                <a:lnTo>
                  <a:pt x="25542" y="21600"/>
                </a:lnTo>
                <a:lnTo>
                  <a:pt x="24142" y="20200"/>
                </a:lnTo>
                <a:lnTo>
                  <a:pt x="24142" y="1400"/>
                </a:lnTo>
                <a:close/>
              </a:path>
              <a:path fill="darkenLess" w="25542" h="21600">
                <a:moveTo>
                  <a:pt x="25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2" y="20200"/>
                </a:lnTo>
                <a:close/>
              </a:path>
              <a:path fill="lighten" w="25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2" h="21600">
                <a:moveTo>
                  <a:pt x="9272" y="10800"/>
                </a:moveTo>
                <a:lnTo>
                  <a:pt x="19778" y="3794"/>
                </a:lnTo>
                <a:lnTo>
                  <a:pt x="19778" y="17806"/>
                </a:lnTo>
                <a:close/>
              </a:path>
              <a:path fill="darken" w="25542" h="21600">
                <a:moveTo>
                  <a:pt x="5765" y="3794"/>
                </a:moveTo>
                <a:lnTo>
                  <a:pt x="7427" y="3794"/>
                </a:lnTo>
                <a:lnTo>
                  <a:pt x="7427" y="17806"/>
                </a:lnTo>
                <a:lnTo>
                  <a:pt x="576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19:54Z</dcterms:created>
  <dc:creator>Zver</dc:creator>
  <dc:description/>
  <dc:language>en-US</dc:language>
  <cp:lastModifiedBy>Zver</cp:lastModifiedBy>
  <dcterms:modified xsi:type="dcterms:W3CDTF">2009-05-26T14:23:0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