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81680" cy="9925200"/>
          </a:xfrm>
          <a:custGeom>
            <a:avLst/>
            <a:gdLst>
              <a:gd name="textAreaLeft" fmla="*/ 360 w 6781680"/>
              <a:gd name="textAreaRight" fmla="*/ 6781320 w 67816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612">
                <a:moveTo>
                  <a:pt x="5" y="0"/>
                </a:moveTo>
                <a:arcTo wR="5" hR="5" stAng="16200000" swAng="-5400000"/>
                <a:lnTo>
                  <a:pt x="0" y="31607"/>
                </a:lnTo>
                <a:arcTo wR="5" hR="5" stAng="10800000" swAng="-5400000"/>
                <a:lnTo>
                  <a:pt x="21595" y="3161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384192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909360" y="744120"/>
            <a:ext cx="4962600" cy="37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77880" y="4714920"/>
            <a:ext cx="542448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42660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41920" y="9426600"/>
            <a:ext cx="29368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0ACB08E-3B62-4B9E-B563-1C36528E44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41920" y="9426600"/>
            <a:ext cx="29368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70B0F93-4E85-4F41-AF7D-56652AEC2B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1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0DCAC05-E767-48C6-B57D-61286F09E8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41920" y="9426600"/>
            <a:ext cx="29368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09EB7F6-C82A-4847-BD9D-C68660AEA1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40DDBCF-3E7A-4E4A-9D5E-58894C0A8C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41920" y="9426600"/>
            <a:ext cx="29368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6738ABE-7A4E-48F3-9740-5D091F5929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B38C7F1-14D0-4173-B95D-6A963B0323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41920" y="9426600"/>
            <a:ext cx="29368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724FCAE-FBAD-4390-805B-08F42F607A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41920" y="9426600"/>
            <a:ext cx="29368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8F7F985-6C34-401F-8526-4AD6A8C271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1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88BE8B1-8197-478F-97D5-A29851676B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28600"/>
                <a:tab algn="l" pos="1143000"/>
                <a:tab algn="l" pos="2057400"/>
                <a:tab algn="l" pos="2971800"/>
                <a:tab algn="l" pos="3886200"/>
                <a:tab algn="l" pos="4800600"/>
                <a:tab algn="l" pos="5715000"/>
                <a:tab algn="l" pos="6629400"/>
                <a:tab algn="l" pos="7543800"/>
                <a:tab algn="l" pos="8458200"/>
                <a:tab algn="l" pos="9372600"/>
                <a:tab algn="l" pos="102870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41920" y="9426600"/>
            <a:ext cx="29368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542052D-709A-4D2F-9B5B-870F5A4B9A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41920" y="9426600"/>
            <a:ext cx="29368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0FE9158-6A03-446A-B6D0-37C8B9F0F5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130F2E7-4841-4428-8434-16586AAA85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41920" y="9426600"/>
            <a:ext cx="29368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A5215D5-73F9-4234-8C09-07ED8415D6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1C2E74D-5883-47A3-A430-62E0A889F7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41920" y="9426600"/>
            <a:ext cx="29368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35F9873-F55B-4F5C-B27E-B7C01B5BBF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1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3F2FBDC-28A4-47AE-BFE0-A3BBE79C75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41920" y="9426600"/>
            <a:ext cx="29368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6526B3D-D7FB-4B1F-ACBA-1022249C65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1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12307BD-44DD-4A78-BAFF-ADFB9534FF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41920" y="9426600"/>
            <a:ext cx="29368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2676472-ADE2-4300-B02C-EA516406F7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1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B159AE7-C2A0-4558-8F85-54029C18E5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9C056-0CDC-4C0D-8111-34C6EC94E2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3DE40-42EB-41FD-8E97-C819C0EE78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0493B-3FB8-4217-B909-FE7B17B838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F257D-E64C-4347-BE1E-C556CE9120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08AA9-1970-456D-9FCA-5AF328D245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F337C-CF5E-462F-BBE4-60078E4C93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503AF-6FF6-4EBE-A3FE-7420C9FF14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D8C4E-7A51-4F46-AEF8-503CA4A28D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E1E09-C391-4E26-9A63-82C9EC5773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48AB6-F38A-40BD-9C9C-96A86AB2F9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9B245-0AD2-40CA-A17E-17825BCF49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D276E-EF7A-45BA-A8A1-8569D35F0C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56478CA-4774-4C1D-94DE-3AE1B2D646B3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971640" y="2266920"/>
            <a:ext cx="777240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Ключевые приоритеты модернизации общего образова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1547640" y="4941720"/>
            <a:ext cx="640080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Апрель,  2011 г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0" y="115920"/>
            <a:ext cx="3132000" cy="223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0" y="0"/>
            <a:ext cx="8001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62699"/>
                </a:solidFill>
                <a:latin typeface="Arial"/>
              </a:rPr>
              <a:t>Совершенствование инфраструктур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142920" y="500040"/>
            <a:ext cx="8569440" cy="48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Поддержка организации внеурочной деятельности через создание ресурсных центров, в том числе, для научно-технического творчест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Развитие образовательной сети на основе дистанционных образовательных технологий, включая создание филиалов базовых шко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Организация сетевого взаимодействия учреждений различных типов и видов для обеспечения максимального учета  индивидуальных особенностей и потребностей школьник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324000" y="907920"/>
            <a:ext cx="8208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0" y="0"/>
            <a:ext cx="8001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700" spc="-1" strike="noStrike">
                <a:solidFill>
                  <a:srgbClr val="262699"/>
                </a:solidFill>
                <a:latin typeface="Arial"/>
              </a:rPr>
              <a:t>Новые финансово-экономическое механизмы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285840" y="785880"/>
            <a:ext cx="856908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Реализация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трехкомпонентной модели бюджетного финансирования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(нормативное, программное, стимулирующе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Развитие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новой системы оплаты труда, ориентированной на ФГОС НО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Разработка и апробация регуляторов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экономических механизмов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системы поиска и содействия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развитию одаренных детей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Совершенствование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авового положения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государственных (муниципальных)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учреждени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324000" y="907920"/>
            <a:ext cx="8208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72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62699"/>
                </a:solidFill>
                <a:latin typeface="Arial"/>
              </a:rPr>
              <a:t>Приоритеты образовательной поли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Зафиксированы 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Национальной  образовательной инициативе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«Наша новая школа» (ННШ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Концепции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долгосрочного социально-экономического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развития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до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2020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года, раздел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III 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«Образование» (одобрена Правительством РФ 1 октября 2008 года, протокол №3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Основных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направлениях деятельности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авительства РФ</a:t>
            </a:r>
            <a:r>
              <a:rPr b="1" i="1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(утверждены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распоряжением Правительства Российской Федерации 17 ноября 2008 г. № 1663-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иоритетном национальном проекте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«Образование» на 2011-2013 г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Федеральной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целевой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программе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развития образования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на 2011 – 2015 г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0" y="142920"/>
            <a:ext cx="8001000" cy="13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62699"/>
                </a:solidFill>
                <a:latin typeface="Arial"/>
              </a:rPr>
              <a:t>Предпосылки, инструменты и механизмы реализации национальной образовательной инициативы «Наша новая школ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Блок-схема: альтернативный процесс 9"/>
          <p:cNvSpPr/>
          <p:nvPr/>
        </p:nvSpPr>
        <p:spPr>
          <a:xfrm>
            <a:off x="500040" y="3857760"/>
            <a:ext cx="2928960" cy="164304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262699"/>
                </a:solidFill>
                <a:latin typeface="Arial"/>
              </a:rPr>
              <a:t>Комплексные проекты модернизации образования в рамках ПНП «Образование» (2007-2009 годы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Блок-схема: альтернативный процесс 10"/>
          <p:cNvSpPr/>
          <p:nvPr/>
        </p:nvSpPr>
        <p:spPr>
          <a:xfrm>
            <a:off x="2714760" y="1785960"/>
            <a:ext cx="3714480" cy="128592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Национальная образовательная инициатива «Наша новая школ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(2010-2011 годы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Блок-схема: альтернативный процесс 11"/>
          <p:cNvSpPr/>
          <p:nvPr/>
        </p:nvSpPr>
        <p:spPr>
          <a:xfrm>
            <a:off x="5857920" y="3857760"/>
            <a:ext cx="2928960" cy="164304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262699"/>
                </a:solidFill>
                <a:latin typeface="Arial"/>
              </a:rPr>
              <a:t>ПНП «Образование» (2011-2013 годы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262699"/>
                </a:solidFill>
                <a:latin typeface="Arial"/>
              </a:rPr>
              <a:t>ФЦПРО на 2011-2015 го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"/>
          <p:cNvSpPr/>
          <p:nvPr/>
        </p:nvSpPr>
        <p:spPr>
          <a:xfrm>
            <a:off x="0" y="0"/>
            <a:ext cx="807228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62699"/>
                </a:solidFill>
                <a:latin typeface="Arial"/>
              </a:rPr>
              <a:t>Национальная образовательная инициатив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62699"/>
                </a:solidFill>
                <a:latin typeface="Arial"/>
              </a:rPr>
              <a:t>«Наша новая школ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2"/>
          <p:cNvSpPr/>
          <p:nvPr/>
        </p:nvSpPr>
        <p:spPr>
          <a:xfrm>
            <a:off x="285840" y="1214280"/>
            <a:ext cx="82803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Новый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стратегический ориентир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модернизации образ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Стратегическая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цель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– создание механизмов раскрытия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способностей 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каждого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ученика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, воспитания порядочного и патриотичного человека, личности, готовой к жизни в высокотехнологичном, конкурентном мир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ФЕДЕРАЛЬНЫЙ ГОСУДАРСТВЕННЫЙ ОБРАЗОВАТЕЛЬНЫЙ СТАНДАРТ (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ФГОС)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общего образования –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системообразующее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направление НН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0" y="0"/>
            <a:ext cx="757224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62699"/>
                </a:solidFill>
                <a:latin typeface="Arial"/>
              </a:rPr>
              <a:t>Достижение стратегических ориентир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324000" y="1162080"/>
            <a:ext cx="8642160" cy="57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Arial"/>
              </a:rPr>
              <a:t>ЦЕЛЬ.</a:t>
            </a:r>
            <a:r>
              <a:rPr b="1" lang="ru-RU" sz="2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003399"/>
                </a:solidFill>
                <a:latin typeface="Arial"/>
              </a:rPr>
              <a:t>Обеспечение</a:t>
            </a:r>
            <a:r>
              <a:rPr b="1" lang="ru-RU" sz="2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современного </a:t>
            </a:r>
            <a:r>
              <a:rPr b="1" lang="ru-RU" sz="2600" spc="-1" strike="noStrike">
                <a:solidFill>
                  <a:srgbClr val="cc0000"/>
                </a:solidFill>
                <a:latin typeface="Arial"/>
              </a:rPr>
              <a:t>качества общего образования</a:t>
            </a: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 через введение </a:t>
            </a:r>
            <a:r>
              <a:rPr b="1" lang="ru-RU" sz="2600" spc="-1" strike="noStrike">
                <a:solidFill>
                  <a:srgbClr val="cc0000"/>
                </a:solidFill>
                <a:latin typeface="Arial"/>
              </a:rPr>
              <a:t>ФГОС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Arial"/>
              </a:rPr>
              <a:t>ЗАДАЧИ :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Материально-техническо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обеспечен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введения ФГО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Учебно-методическое и информационное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обеспечение ФГО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Кадровое обеспечение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введения ФГО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здание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ресурсных центр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Финансово-экономическое обеспечение 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введения ФГО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324000" y="907920"/>
            <a:ext cx="82087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0" y="0"/>
            <a:ext cx="785808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62699"/>
                </a:solidFill>
                <a:latin typeface="Arial"/>
              </a:rPr>
              <a:t>Принципы реализации проек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324000" y="1557360"/>
            <a:ext cx="85690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Ключевые приоритеты модернизации являются условиями успешного перехода на ФГОС (материально-технические условия, кадровые условия, финансово-экономические условия, информационная среда и др.)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Нужны федеральна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координация и поддержк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по ряду «ключевых направлений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Деньги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в обмен на обязательства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и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требован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достижения системных эффектов  (положительной динамики) в контексте ННШ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62699"/>
                </a:solidFill>
                <a:latin typeface="Arial"/>
              </a:rPr>
              <a:t>КЛЮЧЕВЫЕ НАПРАВЛ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324000" y="1557360"/>
            <a:ext cx="8569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       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214200" y="785880"/>
            <a:ext cx="87138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Материально-техническая оснащенность школ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(школьна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нфраструктура, оборудование, 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информационная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бразовательная среда 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Учебно-методические и информационные ресурсы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(различные типы интерактивных мультимедийных электронных школьных учебников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Кадровый потенциал системы общего образования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(ведущая роль профсоюзов при повышении квалификации и аттестации учителей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Современная инфраструктура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 (дистанционное обучение, профильное обучение, научно-техническое творчество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Новые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финансово-экономическое механизмы 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введения ФГОС (НПФ, НСОТ, заработная плата работников образования)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0" y="0"/>
            <a:ext cx="785808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62699"/>
                </a:solidFill>
                <a:latin typeface="Arial"/>
              </a:rPr>
              <a:t>Материально-техническая оснащенность шко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285840" y="642960"/>
            <a:ext cx="8569080" cy="51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buClr>
                <a:srgbClr val="003399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buClr>
                <a:srgbClr val="003399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buClr>
                <a:srgbClr val="003399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buClr>
                <a:srgbClr val="003399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ru-RU" sz="2000" spc="-1" strike="noStrike">
                <a:solidFill>
                  <a:srgbClr val="262699"/>
                </a:solidFill>
                <a:latin typeface="Arial"/>
              </a:rPr>
              <a:t>Оснащение   образовательных учреждений  современным оборудованием, необходимым для выполнения требований нового стандарта, в том числе к условиям образовательной деятель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buClr>
                <a:srgbClr val="cc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buClr>
                <a:srgbClr val="cc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buClr>
                <a:srgbClr val="cc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Создание современной информационной образовательной сре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buClr>
                <a:srgbClr val="cc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buClr>
                <a:srgbClr val="cc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buClr>
                <a:srgbClr val="cc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ru-RU" sz="2000" spc="-1" strike="noStrike">
                <a:solidFill>
                  <a:srgbClr val="262699"/>
                </a:solidFill>
                <a:latin typeface="Arial"/>
              </a:rPr>
              <a:t>Использование различных типов интерактивных мультимедийных электронных школьных учебник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-285840" y="0"/>
            <a:ext cx="814392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262699"/>
                </a:solidFill>
                <a:latin typeface="Arial"/>
              </a:rPr>
              <a:t>Кадровый потенциал системы общего образ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214200" y="857160"/>
            <a:ext cx="8569440" cy="51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недрение новых моделей аттестации педагогических работников, обеспечивающих персонифицированный подхо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Привлечение представителей профсоюзных организаций, общественных экспертов к проведению процедуры аттестации учите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262699"/>
                </a:solidFill>
                <a:latin typeface="Arial"/>
              </a:rPr>
              <a:t>Создание федерально-региональной системы повышения квалификации, обеспечивающей подготовку (переподготовку) учителей</a:t>
            </a:r>
            <a:r>
              <a:rPr b="1" lang="en-US" sz="2000" spc="-1" strike="noStrike">
                <a:solidFill>
                  <a:srgbClr val="2626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262699"/>
                </a:solidFill>
                <a:latin typeface="Arial"/>
              </a:rPr>
              <a:t>и руководителей школ к реализации ФГОС НОО и к работе в рамках 83-ФЗ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324000" y="907920"/>
            <a:ext cx="8208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12:50:06Z</dcterms:created>
  <dc:creator>Шмелькова Л.В.</dc:creator>
  <dc:description/>
  <dc:language>en-US</dc:language>
  <cp:lastModifiedBy>l.leontieva</cp:lastModifiedBy>
  <dcterms:modified xsi:type="dcterms:W3CDTF">2011-04-15T10:44:12Z</dcterms:modified>
  <cp:revision>86</cp:revision>
  <dc:subject/>
  <dc:title>Приоритеты общего образования</dc:title>
</cp:coreProperties>
</file>