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A85-EE0B-4C94-9C65-25AD8DA2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843-07BD-4732-9C6E-19EF048D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CB3-9C49-4D32-8B65-4ED0C1B7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461-04D5-4D54-BC89-9EE42781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6BD-2819-4BAE-966C-2062195D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5A6-3C0D-47DA-A813-B0815379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959-8558-4634-BB52-98DF2831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CF2-4A49-4AB3-86FE-C0966955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3C1-59BE-48DA-A8A0-7824B6BB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190-3412-4BE8-8C79-3FC7859C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E34-DD11-46AE-BDCD-8B8186F6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969-6BFA-47DB-B614-E315FF0D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AA0C-A727-4AD5-A937-F5460F04F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Таблица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1197000"/>
          <a:ext cx="8229600" cy="5326200"/>
        </p:xfrm>
        <a:graphic>
          <a:graphicData uri="http://schemas.openxmlformats.org/drawingml/2006/table">
            <a:tbl>
              <a:tblPr/>
              <a:tblGrid>
                <a:gridCol w="3935520"/>
                <a:gridCol w="2106360"/>
                <a:gridCol w="2187720"/>
              </a:tblGrid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диница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Электрический заря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Диэлектрическая проницаем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Напряже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Рабо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Потенци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Разность потенциал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Электроемк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Энергия электрического по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308720" y="333360"/>
            <a:ext cx="1008360" cy="574560"/>
          </a:xfrm>
          <a:custGeom>
            <a:avLst/>
            <a:gdLst>
              <a:gd name="textAreaLeft" fmla="*/ 37080 w 1008360"/>
              <a:gd name="textAreaRight" fmla="*/ 971280 w 1008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98" h="21600">
                <a:moveTo>
                  <a:pt x="0" y="0"/>
                </a:moveTo>
                <a:lnTo>
                  <a:pt x="37898" y="0"/>
                </a:lnTo>
                <a:lnTo>
                  <a:pt x="37898" y="21600"/>
                </a:lnTo>
                <a:lnTo>
                  <a:pt x="0" y="21600"/>
                </a:lnTo>
                <a:close/>
              </a:path>
              <a:path fill="lightenLess" w="37898" h="21600">
                <a:moveTo>
                  <a:pt x="0" y="0"/>
                </a:moveTo>
                <a:lnTo>
                  <a:pt x="37898" y="0"/>
                </a:lnTo>
                <a:lnTo>
                  <a:pt x="36498" y="1400"/>
                </a:lnTo>
                <a:lnTo>
                  <a:pt x="1400" y="1400"/>
                </a:lnTo>
                <a:close/>
              </a:path>
              <a:path fill="darken" w="37898" h="21600">
                <a:moveTo>
                  <a:pt x="37898" y="0"/>
                </a:moveTo>
                <a:lnTo>
                  <a:pt x="37898" y="21600"/>
                </a:lnTo>
                <a:lnTo>
                  <a:pt x="36498" y="20200"/>
                </a:lnTo>
                <a:lnTo>
                  <a:pt x="36498" y="1400"/>
                </a:lnTo>
                <a:close/>
              </a:path>
              <a:path fill="darkenLess" w="37898" h="21600">
                <a:moveTo>
                  <a:pt x="37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98" y="20200"/>
                </a:lnTo>
                <a:close/>
              </a:path>
              <a:path fill="lighten" w="37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98" h="21600">
                <a:moveTo>
                  <a:pt x="11943" y="3794"/>
                </a:moveTo>
                <a:lnTo>
                  <a:pt x="25956" y="10800"/>
                </a:lnTo>
                <a:lnTo>
                  <a:pt x="11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78520" y="206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2637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8520" y="321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49440" y="3213000"/>
            <a:ext cx="9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/К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 rot="10800000">
            <a:off x="5076720" y="38541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93080" y="38606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90160" y="429084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37440" y="479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429264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5800" y="4795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05800" y="5227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5950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5950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a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Таблица №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692280"/>
          <a:ext cx="8424720" cy="5519520"/>
        </p:xfrm>
        <a:graphic>
          <a:graphicData uri="http://schemas.openxmlformats.org/drawingml/2006/table">
            <a:tbl>
              <a:tblPr/>
              <a:tblGrid>
                <a:gridCol w="2170080"/>
                <a:gridCol w="2870280"/>
                <a:gridCol w="33843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закона, форму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ы, выражающие связь между величинам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овка закон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Закон сохранения электрического заря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Закон Кул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апряженность электрического пол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бота по перемещению заряда в электрическом пол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отенциал электростатического пол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Разность потенциал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843280" y="134136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q1+q2+…+q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con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1197000"/>
            <a:ext cx="324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лгебраическая сумма зарядов электрически изолированной системы постоян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2565360"/>
            <a:ext cx="215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=k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2298600"/>
            <a:ext cx="3457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ла взаимодействия между двумя неподвижными точечными зарядами прям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порциональна произведению модулей зарядов, обратно пропорциональна квадрату расстояния между ними и направлена по прямой, соединяющей заря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9440" y="3908520"/>
            <a:ext cx="8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=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17680" y="4437000"/>
            <a:ext cx="1722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7280" y="5039280"/>
            <a:ext cx="13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59520" y="5698080"/>
            <a:ext cx="1388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5:15:36Z</dcterms:created>
  <dc:creator>Zver</dc:creator>
  <dc:description/>
  <dc:language>en-US</dc:language>
  <cp:lastModifiedBy>Zver</cp:lastModifiedBy>
  <dcterms:modified xsi:type="dcterms:W3CDTF">2009-05-26T14:24:43Z</dcterms:modified>
  <cp:revision>4</cp:revision>
  <dc:subject/>
  <dc:title>Таблица № 1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