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1B0-68E8-472B-89CA-F58C59DD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FCE-AAC5-4898-A895-F23C35C7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5B0-93F6-492A-866F-2E9F418A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2AD-B1BA-40B6-838D-3B8C51BD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001-0F96-4EF5-8C75-F85405A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302-1CC0-4443-899A-D55F995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F3E-DA75-48C3-9AEF-92F18F30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324-4DD5-44CC-AE67-3038246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F32-53DB-4F01-BFAA-385B8F6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461-7C4B-4411-94A0-085EE2C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80D-9612-486B-84D7-C05E9C7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4F8-9AD7-4B39-845A-1B66C33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EF6-8EC4-4050-A7A2-7C11C268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40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Решение 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080" y="11253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44640"/>
            <a:ext cx="8281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 какой силой взаимодействуют два заряда по 1 Кл каждый на расстоянии 1 км друг от друга в вакууме?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решение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06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500280"/>
            <a:ext cx="8136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ва одинаковых маленьких шарика, обладающих зарядом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q1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 6 мкКл и зарядом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q2 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12 мкКл, находятся на расстоянии 60 см друг от друга. Определите силу взаимодействия между ними. Чему будет разен заряд каждого шарика, если их привести в соприкосновение и затем разъединить?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решение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64000" y="33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640" y="8110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9000" y="1316160"/>
            <a:ext cx="148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1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040" y="1747800"/>
            <a:ext cx="18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=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м=10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0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9*1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20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*м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90840" y="22050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 Кл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08280"/>
            <a:ext cx="33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836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2205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133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2133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40000" y="2205000"/>
            <a:ext cx="93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2050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41000" y="23479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57000" y="23479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557360"/>
            <a:ext cx="71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76280" y="1484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55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148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6640" y="3246480"/>
            <a:ext cx="4460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у взаимодействия  двух заря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им по закону Кул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58136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724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5280" y="4292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000" y="6237360"/>
            <a:ext cx="23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=9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157720"/>
            <a:ext cx="7704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яды отталкиваются, так как одноименные заряды отталкиваются, сила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 —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т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сила, с которой заряд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ет на заряд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по модулю и  противоположна по направлению силе, с которой заряд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ет на заря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172360" y="260280"/>
            <a:ext cx="540000" cy="647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47640"/>
              <a:gd name="textAreaBottom" fmla="*/ 612720 h 64764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12951"/>
                </a:moveTo>
                <a:lnTo>
                  <a:pt x="17806" y="5945"/>
                </a:lnTo>
                <a:lnTo>
                  <a:pt x="17806" y="1995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дача №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40384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Дано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2000" spc="-1" strike="noStrike" baseline="-30000">
                <a:solidFill>
                  <a:srgbClr val="ffffff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 мкКл = 6 • 1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 baseline="-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 -12 мкКл = -1,2 • 1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-5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 60 см =0,6 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 9*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9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Кл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-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1280" y="692280"/>
            <a:ext cx="5113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мем, что заряженные шарики взаимодействуют в вакууме, тогда согласно закону Кулона сила взаимо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49360"/>
            <a:ext cx="0" cy="30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068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0360" y="2349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5160" y="2205000"/>
            <a:ext cx="93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4840" y="26370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860640"/>
            <a:ext cx="144360" cy="1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860640"/>
            <a:ext cx="144720" cy="1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933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3933720"/>
            <a:ext cx="72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933720"/>
            <a:ext cx="72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7800" y="33321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29080" y="3357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3357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3357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1800" y="39798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9440" y="40053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365720"/>
            <a:ext cx="8209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ноименные заряды притяг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езультате соприкосновения шариков происходит перераспределение зарядов, после чего заряд каждого из шариков рав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'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6021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9560" y="551664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числив силу взаимодействия, получим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=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 заря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=- 3*1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-6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244000" y="18900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7301" y="11961"/>
                </a:moveTo>
                <a:lnTo>
                  <a:pt x="17806" y="4955"/>
                </a:lnTo>
                <a:lnTo>
                  <a:pt x="17806" y="18968"/>
                </a:lnTo>
                <a:close/>
              </a:path>
              <a:path fill="darken" w="21600" h="23923">
                <a:moveTo>
                  <a:pt x="3794" y="4955"/>
                </a:moveTo>
                <a:lnTo>
                  <a:pt x="5456" y="4955"/>
                </a:lnTo>
                <a:lnTo>
                  <a:pt x="5456" y="18968"/>
                </a:lnTo>
                <a:lnTo>
                  <a:pt x="3794" y="189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25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65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8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Два заряда +1.66×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Кл и +3,33×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Кл находятся на расстоянии 20 см друг от друга. Где надо поместить третий заряд, чтобы он оказался в равновесии?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(реш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ешени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= 1.66×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Кл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= 3,33×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Кл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= 0,42 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 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6920" y="765000"/>
            <a:ext cx="46148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чка, где надо поместить третий заряд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положительный или отрицательный) лежит на линии, соединяющей эти заряды. Допустим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ложительный заряд. На него действуют кулоновские силы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о стороны зарядов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Заряд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ходится в равновесии, значит . Значит в проекциях на ось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X: F1 – F2 = 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1 = F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читывая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491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31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765000"/>
            <a:ext cx="1800" cy="403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476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549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2000" y="461160"/>
            <a:ext cx="5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4039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1440" y="18828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48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20640"/>
            <a:ext cx="34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4720" y="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692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55736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042920" y="155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5493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76500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3080" y="1340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7440" y="1915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042920" y="213372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1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4920" y="620640"/>
            <a:ext cx="115236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620640"/>
            <a:ext cx="11509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549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3800" y="188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18828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360" y="620640"/>
            <a:ext cx="6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5760" y="333360"/>
            <a:ext cx="85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836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59520" y="836640"/>
            <a:ext cx="44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5080" y="1700280"/>
            <a:ext cx="6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9760" y="1413000"/>
            <a:ext cx="85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 q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19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5720" y="2060640"/>
            <a:ext cx="79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9040" y="3284640"/>
            <a:ext cx="85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9720" y="3789360"/>
            <a:ext cx="44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33400" y="3284640"/>
            <a:ext cx="85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 q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36280" y="3789360"/>
            <a:ext cx="79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2000" y="357264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6120" y="4437000"/>
            <a:ext cx="70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86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4080" y="4941720"/>
            <a:ext cx="44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9080" y="465228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4480" y="4437000"/>
            <a:ext cx="63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q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486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7360" y="4941720"/>
            <a:ext cx="79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72428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2016000" cy="992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8480" y="5877000"/>
            <a:ext cx="84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ставив  численные значения в формулу, получаем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=0.08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6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5:53:39Z</dcterms:created>
  <dc:creator>Zver</dc:creator>
  <dc:description/>
  <dc:language>en-US</dc:language>
  <cp:lastModifiedBy>Zver</cp:lastModifiedBy>
  <dcterms:modified xsi:type="dcterms:W3CDTF">2009-05-26T14:28:13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