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96FA-116C-44A7-AB84-CE41F1B0A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F1BD-A84A-459B-A0D8-B107155F0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261F-AF34-46C0-9EDF-1969E9AFF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73C4-FB29-4EFE-80CC-88E5363C4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90ECB4-CC60-49C7-A6D4-72FB3F1FE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8A8A65-3705-4FA6-B128-E37FB4131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0E9488-0AAF-4A46-88C6-699656868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D25320-1FC1-4CBA-86D1-F5EA4EDA3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3C593A-9362-4539-B290-C28D34EBD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7EF5E3-28D6-496A-B688-1509E127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50BCFF-BFF3-4317-911B-69EAEEE9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0FD1-DC4C-4772-8F12-7BB6C2400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990B33-AE69-4ED6-BDB5-BDF450DA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65C821-E9CB-409E-B39A-A618AD41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BBC121-D07C-46AC-ABDA-78E4042C3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C3703E-BE4B-45A6-BACA-7E6B27A6B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74E6D9-9705-45E6-9434-18A899B6D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10CC5-C2AA-4692-B79C-F4D10D3EC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4A2F6-3596-4C7A-B484-3EA06A149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1D123-25B1-4B4A-AFC3-ADF37ADC1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BDC79-BC73-4FF5-A9E9-8675516B1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6B471-EBFF-4530-99E2-FFCFEC56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B656-8479-44AE-B228-616E1BD68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B5B23-D41D-4C36-9454-70980CC6B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FDFDC-B49A-4F25-AEBF-381F5415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8A687-169A-4188-8585-6533DCC1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DFCA7-9869-432F-8141-763533DE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257C6-B1D9-47B6-AA16-3D731BF2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6E0E1-3C0C-4F3D-BD0C-B9B15C431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030FD-81B2-485D-9E99-0E45805CC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8DB0D-1EF2-4719-9FFA-2846C1C87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94D7F-3D99-45AE-B15D-ABACF2B71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17BE6-2899-409B-89D8-2DE666353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9191-726B-4F3F-B01A-212F62E12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EBF16-1FC6-4F24-94F3-79D79D9F1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D1629-04C0-4BBC-80F8-EC6875CF5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5B052-563B-4A00-889F-F6F694A49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1A461-AE7B-4CAF-A4FC-7A7D4029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96CAC-CCD9-471F-AA53-45E4D3E5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DB0CB-CCBE-42E0-A37E-EFB8CA7B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ADC9E-8DAC-4BC9-92A7-DD3D2631F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982E7-7B11-4C3C-9EF9-32E945E77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6E587-FA9F-457A-824B-190670B06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F02D6-F027-4E9D-A09E-B88107A74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9A96-E1BB-423D-8889-69A552575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46C2D-FADA-4DC7-8AB8-E338E9FC1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B05D6-8E0C-43F9-B980-5DD1BD76B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B1660-4615-478A-8107-02ED2EF99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8241B-E41B-45E0-89AD-71346BAB5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B9219-9C9D-473C-8E12-970302894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293B1-BC6E-4161-812F-2F772320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86B00-54DE-46F1-8B14-B8210AB9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C7644-86BC-4E5E-8380-AD8B6503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E62A7-A9CC-4BC6-A2F3-765CFF10B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7BA96-1DA6-46FF-8889-C0EA2A05A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A922-FB63-4B88-90C6-D2459671F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B471A-36C6-41F3-A150-7A63CFC45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DEADF-8532-4A4A-A4FC-D914F4320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7977B-2397-4B34-9EA9-4A17960C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0B76B-CA65-4EE3-AE9A-C089DC4EB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6EF966-3E65-4896-BF7A-B9D21702A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45B81-AE0B-495B-8374-3FA205C0B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1EA0E-0652-47E0-8297-81ADCF1B4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1E013-ED41-475B-9DF7-7CEFB4EB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985C6-8AEA-4A1D-8679-3027878C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A5B09-DBF6-49F8-A6B0-AEC3F446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E8B0-D072-4DD8-BDBC-6C9AD4E8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F3E42-5DEE-4991-998B-D96EF14D5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57F33-C3E2-4334-848D-90035A1FB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B16EB8-419A-446A-8E63-995991076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D47E6-64D2-461C-830F-356E7FD56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DAE6EF-4711-43F7-8390-4DBBF5E41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1AD9EC-75F3-434F-A30D-F1E1AE335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C0F06-450E-4B70-AAE3-583123226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48BD60-15F0-474F-B7CE-147DC67D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4D3DBC-A0C7-461A-827A-E9163D71B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2E43F-FFFE-4E93-A366-051FD2AA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87B9-AFF2-4B4D-B5F4-1FB52BB9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0046C-FE04-4E90-ACB4-5982F2D1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C79D3-9DEA-4CC3-99D2-C70B30C2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7F79F-EF56-44C6-B6C4-1792D05D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9C3912-C03B-44F3-B4F8-D61C0FACB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32E27E-FC79-4ED7-BDEF-0C0417F59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4EEE21-AE83-4E80-899B-6A4B2A5F6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DD62D6-0E61-4046-BCD9-F20CE7C09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4FD0E8-E837-4CAF-8BFB-1120871FE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6B0D4C-A70A-4375-A7BB-6846EA089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451BAB-19D0-478B-8FC3-8211D580F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ED3C-7FA1-4AAB-9EAD-3B11229A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201612-0824-48F5-9024-891E2093F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4F2D35-32DC-4E9B-A64E-D38235D6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8545A5-0707-4338-A5FC-BA58ACA6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44BCF9-0F72-451F-B7A0-F2AA94E3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ECA609-24F8-40BC-A442-851E99D2C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291812-BB3B-4A36-B044-7BCAFE63A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A0260B-5375-4D09-9163-BBECDB6D6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2492-0774-4F55-A15D-1ED2A8E125AD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6D1F9-6432-4C55-B179-A7E700F04AF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7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8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3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9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96512-A3BC-4D70-8E59-1D41A83C77D9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4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A91EF-FBB0-4D4D-8643-740F2F5E9A61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84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1EA9D-A1A9-4DEF-AA2E-A3E6C16EDAAE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62AA4-1474-4E30-9C4C-DA4AD141F41B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7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C41A9-2DEE-41EB-B113-100D68514793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15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16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7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8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9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0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21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22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3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5666A-C380-4C48-AEBB-6969CA5A378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Заголовок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540400" cy="287820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d488c5"/>
                </a:solidFill>
                <a:latin typeface="Trebuchet MS"/>
              </a:rPr>
              <a:t>The project of the 6th grade.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d488c5"/>
                </a:solidFill>
                <a:latin typeface="Trebuchet MS"/>
              </a:rPr>
              <a:t>Opalikhovskaya gymnasium.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d488c5"/>
                </a:solidFill>
                <a:latin typeface="Trebuchet MS"/>
              </a:rPr>
              <a:t>Teachers: Krasavina E.V., 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d488c5"/>
                </a:solidFill>
                <a:latin typeface="Trebuchet MS"/>
              </a:rPr>
              <a:t>Dvurechenskaya E.A. 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Too many cooks spoil the broth -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У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семи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нянек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дитя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без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глазу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384" name="Picture 4" descr=""/>
          <p:cNvPicPr/>
          <p:nvPr/>
        </p:nvPicPr>
        <p:blipFill>
          <a:blip r:embed="rId1"/>
          <a:stretch/>
        </p:blipFill>
        <p:spPr>
          <a:xfrm>
            <a:off x="2886120" y="2001960"/>
            <a:ext cx="3371760" cy="3724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ver look a gift horse in the mouth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Дареному коню в зубы не смотрят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386" name="Picture 4" descr=""/>
          <p:cNvPicPr/>
          <p:nvPr/>
        </p:nvPicPr>
        <p:blipFill>
          <a:blip r:embed="rId1"/>
          <a:stretch/>
        </p:blipFill>
        <p:spPr>
          <a:xfrm>
            <a:off x="1523880" y="1744560"/>
            <a:ext cx="6096240" cy="4238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All cats are grey at night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–Ночью все кошки серы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ast or West, home is best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– В гостях хорошо, а дома лучше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390" name="Picture 4" descr=""/>
          <p:cNvPicPr/>
          <p:nvPr/>
        </p:nvPicPr>
        <p:blipFill>
          <a:blip r:embed="rId1"/>
          <a:stretch/>
        </p:blipFill>
        <p:spPr>
          <a:xfrm>
            <a:off x="2286000" y="1576440"/>
            <a:ext cx="4638600" cy="4638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428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What proverbs approach to these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ictures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392" name="Picture 4" descr=""/>
          <p:cNvPicPr/>
          <p:nvPr/>
        </p:nvPicPr>
        <p:blipFill>
          <a:blip r:embed="rId1"/>
          <a:stretch/>
        </p:blipFill>
        <p:spPr>
          <a:xfrm>
            <a:off x="4211640" y="0"/>
            <a:ext cx="493236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Необычные пословицы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и поговорки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Unusual proverbs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nd sayings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Сравнения в английском, немецком и русском языках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omparisons in the English, German and Russian languages.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Идиомы и фразеологизмы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Idioms and phraseologisms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Неологизмы и фразеологизмы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Neologisms and phraseologisms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Англицизмы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e English words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Заимствованная префиксация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Borrowed prefixes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Заголовок 3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394240" cy="287820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marL="514440" indent="-5144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Пословицы и поговорки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Proverbs and sayings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4360" y="1052640"/>
            <a:ext cx="7772400" cy="20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Garamond"/>
              </a:rPr>
              <a:t>Proverbs </a:t>
            </a:r>
            <a:r>
              <a:rPr b="0" lang="en-US" sz="96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ru-RU" sz="9600" spc="-1" strike="noStrike">
                <a:solidFill>
                  <a:srgbClr val="ffffff"/>
                </a:solidFill>
                <a:latin typeface="Garamond"/>
              </a:rPr>
              <a:t>and</a:t>
            </a:r>
            <a:r>
              <a:rPr b="0" lang="en-US" sz="9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9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9600" spc="-1" strike="noStrike">
                <a:solidFill>
                  <a:srgbClr val="ffffff"/>
                </a:solidFill>
                <a:latin typeface="Garamond"/>
              </a:rPr>
              <a:t>s</a:t>
            </a:r>
            <a:r>
              <a:rPr b="0" lang="ru-RU" sz="9600" spc="-1" strike="noStrike">
                <a:solidFill>
                  <a:srgbClr val="ffffff"/>
                </a:solidFill>
                <a:latin typeface="Garamond"/>
              </a:rPr>
              <a:t>ayings.</a:t>
            </a:r>
            <a:endParaRPr b="1" lang="en-US" sz="9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356000" y="4869000"/>
            <a:ext cx="4788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Tovstiko</a:t>
            </a: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Dasha,</a:t>
            </a: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Azimova Milana</a:t>
            </a: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 Shibaeva Marin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7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Proverbs and sayings – the most ancient phrases of oral speech. They often meet in Russian and English texts. In the world it is a lot of proverbs!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399564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Happy is he that is happy in his children -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На что и клад, коли дети идут в лад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0" y="104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5" name="Picture 4" descr=""/>
          <p:cNvPicPr/>
          <p:nvPr/>
        </p:nvPicPr>
        <p:blipFill>
          <a:blip r:embed="rId1"/>
          <a:stretch/>
        </p:blipFill>
        <p:spPr>
          <a:xfrm>
            <a:off x="3924360" y="476280"/>
            <a:ext cx="5076720" cy="6059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In a cat's world all things belong to cat -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В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мире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кошки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все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вещи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принадлежат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кошкам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0" y="5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urses like chickens come home to roost. -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Н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е рой яму другому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сам в не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е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попадешь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379" name="Picture 4" descr=""/>
          <p:cNvPicPr/>
          <p:nvPr/>
        </p:nvPicPr>
        <p:blipFill>
          <a:blip r:embed="rId1"/>
          <a:stretch/>
        </p:blipFill>
        <p:spPr>
          <a:xfrm>
            <a:off x="4483080" y="2637000"/>
            <a:ext cx="4552920" cy="301464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When the cat's away the mice will play -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Кот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из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дома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мыши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в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пляс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Житель</cp:lastModifiedBy>
  <dcterms:modified xsi:type="dcterms:W3CDTF">2012-01-22T19:50:17Z</dcterms:modified>
  <cp:revision>33</cp:revision>
  <dc:subject/>
  <dc:title>PowerPoint Presentation</dc:title>
</cp:coreProperties>
</file>