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38E-2C66-451D-9F1D-A2468633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63B-A582-4558-A3D5-CB6B7167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D975B-F42F-417D-905A-9FAABDF3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6CEFC-4D4E-4F8E-988F-1ABA4FBD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1BC42-9360-4A60-AEF4-3947A0E0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23D07-0EA4-4043-BC0F-E8211550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C44DE-EFF2-4BCD-9F78-F9229DA9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37F08-0012-4952-A20B-00058723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4EC26-422F-4633-ABDC-AD45147B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22250-103D-4871-A2BA-8247FCC6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DF961-8AC6-40E4-BF3F-4D89E729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1B0B7-7FFD-43F9-BD17-20CC94D4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8A61-5E5C-4E92-96F5-3E6489B3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EE169-E443-4511-BEE0-1898A31D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D1526-3EB2-4020-93E6-1F5F280B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5BA58-131A-4488-8F0C-2F245FF7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4B088-09E4-4087-AC13-A3E38C95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04693-AA21-426D-9830-4971AA86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2CB66-6EE3-41BB-88B7-5418C89D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B96CF-82A5-4C21-85FB-FC91969E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4C2C1-8FF4-4EC2-9FE8-1C946947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13FBA-DC5E-4BA0-936E-9E248B1A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75C59-04D3-4F90-85EB-1CDA7CA9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C394-8786-4A24-BB19-D549B88B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92D7E-38CC-4348-A7AC-1FBD9B51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4DF7-31B8-4014-BFF5-C2275A0F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C6EB-3A0B-4E27-8C07-032BE9B3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DF2F-CB0F-4067-A10F-BD3C7523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C26E-615C-49B5-AB25-CE5575AA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C13C-71F4-4981-B081-C7FAC623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4A51-780F-45A6-BACF-95931F8D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4BC5-B0CB-4F4A-9B5C-DB7D81AE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2817-0A3C-4CDF-9D35-C4941D93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A825-80A6-49AD-93C6-CF52E208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27DC-520E-437D-9036-7F149634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53AA-6103-460B-96FA-10A095D9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12B4-B03E-460A-B36D-031C57DF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CAFF-3065-40AA-8EE7-8F26182D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5FD52-5E96-4F8F-A819-5C41B0CE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D3AAB-3284-4B46-9A74-25A9C862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BA973-8FDF-4AB7-A61C-B6E9763B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96239-D0EC-4C6F-819F-ED4444E6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8BB6F-452A-49F1-ACE0-DAE18306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0AC-86E1-4B61-906F-CD1E097B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2AD7B-937A-4643-B3EF-9B5E11E7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513B5-DFCD-4256-8378-DB458869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7521E-F347-44DE-B471-611E3DC1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08EEC-EE4F-48E6-846A-A8DF2ED3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F41B8-6B60-40F4-8988-D0A2E337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99E90-51C6-4EEC-AEC6-5C7EB07B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92CAB8-94A7-4126-81D1-C12AB66A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19737-A242-4B5D-A251-6341C3FA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F4B2A-5B1C-46EC-961C-B4B3816C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CA8DF-5AA6-462C-BBB1-102CA3D9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4D7-BA5B-4005-8B5F-EA3FCFBF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143BE-6663-4DE3-ABD6-5E64346B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BB49F-3ADE-42D0-AEC8-90030ADD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71654-95AA-4D16-AFDC-E0B78989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D8964-F7ED-4FA3-9898-BDF669E0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F359C-76F3-4A9C-ACD2-7A734D25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D5AB5-5031-43AA-9003-711285CF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FD64E-D702-4697-B5A0-ADC4F5EA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6F00D-FB59-4F7B-88E0-6551CC23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4C3A7-5463-43E7-812B-303FD333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F077D1-DED9-4F67-B59D-11021761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564-B6F7-44C6-A6AE-E761D9BF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679345-8E34-40F9-9B69-5915DD8B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F7EFFD-19C2-4AF0-974B-110D2092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62C5B7-A21E-401E-A5A0-FF0ED4AF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1C7AD9-AAC1-41AC-A593-4739EE1F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68FDC4-2801-46A0-BB62-FFF291EC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F45087-A612-4326-86AA-BE1FB5B1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B81C08-3856-4AF8-8360-2ECCC7F0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D0C81A-3C34-45FE-8386-C2033676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0915AB-4139-45E5-A059-48EE334E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30DA21-C32F-4E2F-A42D-27B3BA38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848D-A86A-4B0B-AD9B-CD4EB0FE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CA0B04-82F3-46CE-9C51-977539B0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817A7-2F4C-4BE4-9F73-B0445A56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6327C-A88E-47C3-9F97-D3DA43B1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79854-956E-4AB1-B1B9-6A6C7E4A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C97BE-C91D-4466-A1D8-A1ACE6EE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D5D2B-28E8-46F5-983E-68B762DA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B3340-DBFA-4C7C-ACEE-6FC3E02C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DE33C-4914-4712-AFB5-26F59507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218A5-BBFB-48A7-90E8-0415C600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C9DF6-D514-4865-843D-ECA68E27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74B-04DF-4DAE-8603-F42103EF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D4B06-3032-4E65-B4B1-2AA3F3C8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AF06A-E778-492A-B2D3-DAC3ED9C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4BFEB-F510-49C6-874F-626C163A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E319D-74DC-4F55-8185-5987B48D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4324B-3A7E-4D87-A6AC-1915C116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DF0D2-EB69-466B-B84F-93B7DFD9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42865-C900-4778-96A8-24069DFD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51D01-7619-4624-BB38-6AFD652D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9081A-FF62-4A5A-91C9-87A3383A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C3DBF-F892-466F-9652-52DCF3AA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EB1E-827F-4B32-AAF7-EF8B7873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3A817-8795-4CC3-9E5E-82B98714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5F9F4-030A-4DFD-8B11-17B54F92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F9A8E-4215-42D4-BAF0-56C54F77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7D032-730A-4529-B5D4-AD8A41D0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4560E-AB06-42AD-A560-B32ED93B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B36F8-80A2-4B84-8D17-922A5977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C512E-0E37-4A4F-94F7-F07B9F38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49350-60CE-4733-AC1E-07A2D2A5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724D8-20F4-4F26-8A7E-94A8A5B3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E173A-FC25-4CE1-A4E5-93078215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5E8E-B652-478A-A8AA-0B62D95A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FFBCA-30E0-4F4A-BFBD-452F63BC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9CE9C-7DA4-4BED-BE1F-9B51DDB5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F4474-026F-4105-9B3C-5A61B910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B525C-7156-4B3C-852A-54C1D04E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72517-66C9-48EE-B797-73005F63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B1C6E-5516-4439-A938-801F090D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BE212-3761-46A3-ABB3-BDA73B70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384AD-683F-4C2F-9649-8D8D22DB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3089E-265A-443B-BAD0-80344191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735BA-DAF1-475C-A084-8BC10861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BFCB-8A6B-4B9A-A029-B2F99CCB657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9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8B7C-0128-420D-895F-0D7577CD070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0090-4ABF-4B94-8D66-A2EE0E546F8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1952-5923-470F-BF62-406141DD92C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A69D-036F-4336-8636-2656EEB2F3C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E7CF-AA68-4508-A4F0-B89E1CB5F4A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dt" idx="1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21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333F-7A80-4885-8C84-02A91087AA3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8E10-B6E8-4417-96A5-C1FFF86847B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0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9235-D13B-49F0-A21D-777D15B3D8D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D157-207C-4EFE-B510-AE0513C7BA49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514440" indent="-514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Сравнения в английском, немецком и русском языках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mparisons in the English, German and Russian languag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onstantia"/>
              </a:rPr>
              <a:t>                                  </a:t>
            </a:r>
            <a:r>
              <a:rPr b="0" i="1" lang="en-US" sz="1800" spc="-1" strike="noStrike">
                <a:solidFill>
                  <a:srgbClr val="ff0000"/>
                </a:solidFill>
                <a:latin typeface="Constantia"/>
              </a:rPr>
              <a:t>Trofimenko Lisa, Ignatchenko Kseni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208080" y="1420920"/>
            <a:ext cx="8319960" cy="1992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Constantia"/>
              </a:rPr>
              <a:t>There are a lot of comparisons</a:t>
            </a:r>
            <a:r>
              <a:rPr b="0" i="1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ff0000"/>
                </a:solidFill>
                <a:latin typeface="Constantia"/>
              </a:rPr>
              <a:t>in the Russian and English language. But English and Russian people compare with different things. For example: Russian people say: ” Cold, as ice”. English people say; ” Cold, as cucumber”. Here are some more comparison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37680" cy="1231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357360" y="1356840"/>
            <a:ext cx="285732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b0f0"/>
                </a:solidFill>
                <a:latin typeface="Constantia"/>
              </a:rPr>
              <a:t>Geduld bringt Rosen</a:t>
            </a:r>
            <a:r>
              <a:rPr b="0" i="1" lang="ru-RU" sz="2000" spc="-1" strike="noStrike">
                <a:solidFill>
                  <a:srgbClr val="00b0f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285840" y="1356840"/>
            <a:ext cx="3564000" cy="53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i="1" lang="fr-FR" sz="2000" spc="-1" strike="noStrike">
                <a:solidFill>
                  <a:srgbClr val="ffc000"/>
                </a:solidFill>
                <a:latin typeface="Constantia"/>
              </a:rPr>
              <a:t>D</a:t>
            </a:r>
            <a:r>
              <a:rPr b="0" i="1" lang="fr-FR" sz="2000" spc="-1" strike="noStrike">
                <a:solidFill>
                  <a:srgbClr val="ffc000"/>
                </a:solidFill>
                <a:latin typeface="Constantia"/>
              </a:rPr>
              <a:t>iligence is the mother of success</a:t>
            </a:r>
            <a:r>
              <a:rPr b="0" i="1" lang="ru-RU" sz="2000" spc="-1" strike="noStrike">
                <a:solidFill>
                  <a:srgbClr val="ffc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2843280" y="981000"/>
            <a:ext cx="382248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58b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3132000" y="6381720"/>
            <a:ext cx="38228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58b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6408720" y="1197000"/>
            <a:ext cx="27352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8e58b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10"/>
          <p:cNvSpPr/>
          <p:nvPr/>
        </p:nvSpPr>
        <p:spPr>
          <a:xfrm>
            <a:off x="2571840" y="1071720"/>
            <a:ext cx="309564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8e58b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Rectangle 11"/>
          <p:cNvSpPr/>
          <p:nvPr/>
        </p:nvSpPr>
        <p:spPr>
          <a:xfrm>
            <a:off x="5651640" y="836640"/>
            <a:ext cx="309564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8e58b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Rectangle 12"/>
          <p:cNvSpPr/>
          <p:nvPr/>
        </p:nvSpPr>
        <p:spPr>
          <a:xfrm>
            <a:off x="6048360" y="981000"/>
            <a:ext cx="309564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8e58b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Rectangle 13"/>
          <p:cNvSpPr/>
          <p:nvPr/>
        </p:nvSpPr>
        <p:spPr>
          <a:xfrm>
            <a:off x="6000840" y="1285920"/>
            <a:ext cx="29160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i="1" lang="ru-RU" sz="16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i="1" lang="fr-FR" sz="2000" spc="-1" strike="noStrike">
                <a:solidFill>
                  <a:srgbClr val="ff0000"/>
                </a:solidFill>
                <a:latin typeface="Tahoma"/>
              </a:rPr>
              <a:t>Терпенье и труд всё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ff0000"/>
                </a:solidFill>
                <a:latin typeface="Tahoma"/>
              </a:rPr>
              <a:t>перетрут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8e58b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300"/>
              </a:spcBef>
              <a:buClr>
                <a:srgbClr val="8e58b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300"/>
              </a:spcBef>
              <a:buClr>
                <a:srgbClr val="8e58b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8e58b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8e58b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15"/>
          <p:cNvSpPr/>
          <p:nvPr/>
        </p:nvSpPr>
        <p:spPr>
          <a:xfrm>
            <a:off x="179280" y="0"/>
            <a:ext cx="78073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Rectangle 16"/>
          <p:cNvSpPr/>
          <p:nvPr/>
        </p:nvSpPr>
        <p:spPr>
          <a:xfrm>
            <a:off x="428760" y="214200"/>
            <a:ext cx="3351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d9263"/>
                </a:solidFill>
                <a:latin typeface="Tahoma"/>
              </a:rPr>
              <a:t>Сравнение на английском язы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Rectangle 17"/>
          <p:cNvSpPr/>
          <p:nvPr/>
        </p:nvSpPr>
        <p:spPr>
          <a:xfrm>
            <a:off x="2987640" y="0"/>
            <a:ext cx="378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Rectangle 18"/>
          <p:cNvSpPr/>
          <p:nvPr/>
        </p:nvSpPr>
        <p:spPr>
          <a:xfrm>
            <a:off x="6286680" y="142920"/>
            <a:ext cx="3214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i="1" lang="ru-RU" sz="2400" spc="-1" strike="noStrike">
                <a:solidFill>
                  <a:srgbClr val="7d9263"/>
                </a:solidFill>
                <a:latin typeface="Tahoma"/>
              </a:rPr>
              <a:t>Русский эквивале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Rectangle 16"/>
          <p:cNvSpPr/>
          <p:nvPr/>
        </p:nvSpPr>
        <p:spPr>
          <a:xfrm>
            <a:off x="3286080" y="285840"/>
            <a:ext cx="29224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d9263"/>
                </a:solidFill>
                <a:latin typeface="Tahoma"/>
              </a:rPr>
              <a:t>Сравнение на немецком язы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18" descr="1K"/>
          <p:cNvPicPr/>
          <p:nvPr/>
        </p:nvPicPr>
        <p:blipFill>
          <a:blip r:embed="rId1"/>
          <a:stretch/>
        </p:blipFill>
        <p:spPr>
          <a:xfrm>
            <a:off x="2268360" y="1989000"/>
            <a:ext cx="4680000" cy="4272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214800" y="285840"/>
            <a:ext cx="357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00b0f0"/>
                </a:solidFill>
                <a:latin typeface="Constantia"/>
              </a:rPr>
              <a:t>Kommt Zeit, kommt Rat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7" name="Содержимое 2"/>
          <p:cNvSpPr/>
          <p:nvPr/>
        </p:nvSpPr>
        <p:spPr>
          <a:xfrm>
            <a:off x="0" y="0"/>
            <a:ext cx="3695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8e58b6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8e58b6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Содержимое 2"/>
          <p:cNvSpPr/>
          <p:nvPr/>
        </p:nvSpPr>
        <p:spPr>
          <a:xfrm>
            <a:off x="-285840" y="0"/>
            <a:ext cx="3695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8e58b6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8e58b6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8e58b6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Содержимое 2"/>
          <p:cNvSpPr/>
          <p:nvPr/>
        </p:nvSpPr>
        <p:spPr>
          <a:xfrm>
            <a:off x="6659640" y="189000"/>
            <a:ext cx="248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Утро вечера мудре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8e58b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Прямоугольник 10"/>
          <p:cNvSpPr/>
          <p:nvPr/>
        </p:nvSpPr>
        <p:spPr>
          <a:xfrm>
            <a:off x="0" y="214200"/>
            <a:ext cx="314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fcf04"/>
                </a:solidFill>
                <a:latin typeface="Tahoma"/>
              </a:rPr>
              <a:t>D</a:t>
            </a:r>
            <a:r>
              <a:rPr b="0" i="1" lang="fr-FR" sz="2400" spc="-1" strike="noStrike">
                <a:solidFill>
                  <a:srgbClr val="dfcf04"/>
                </a:solidFill>
                <a:latin typeface="Tahoma"/>
              </a:rPr>
              <a:t>on't cross the bridges before you come to them</a:t>
            </a:r>
            <a:r>
              <a:rPr b="0" i="1" lang="ru-RU" sz="2400" spc="-1" strike="noStrike">
                <a:solidFill>
                  <a:srgbClr val="dfcf04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Picture 10" descr="Завтра с новыми силами и долезу...! Утро вечера мудренее!!!"/>
          <p:cNvPicPr/>
          <p:nvPr/>
        </p:nvPicPr>
        <p:blipFill>
          <a:blip r:embed="rId1"/>
          <a:stretch/>
        </p:blipFill>
        <p:spPr>
          <a:xfrm>
            <a:off x="1187280" y="1989000"/>
            <a:ext cx="7143840" cy="4029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5857560" y="142560"/>
            <a:ext cx="298116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0" i="1" lang="ru-RU" sz="2600" spc="-1" strike="noStrike">
                <a:solidFill>
                  <a:srgbClr val="ff0000"/>
                </a:solidFill>
                <a:latin typeface="Constantia"/>
              </a:rPr>
              <a:t>Без труда не </a:t>
            </a:r>
            <a:r>
              <a:rPr b="0" i="1" lang="fr-FR" sz="2600" spc="-1" strike="noStrike">
                <a:solidFill>
                  <a:srgbClr val="ff0000"/>
                </a:solidFill>
                <a:latin typeface="Constantia"/>
              </a:rPr>
              <a:t>вытащишь и рыбки из пруда. Не замочив рук, не умоешься</a:t>
            </a:r>
            <a:r>
              <a:rPr b="0" i="1" lang="ru-RU" sz="26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57120" y="142920"/>
            <a:ext cx="264312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ffff00"/>
                </a:solidFill>
                <a:latin typeface="Constantia"/>
              </a:rPr>
              <a:t>Cat in gloves catches no mi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4" name="Содержимое 3"/>
          <p:cNvSpPr/>
          <p:nvPr/>
        </p:nvSpPr>
        <p:spPr>
          <a:xfrm>
            <a:off x="2857680" y="214200"/>
            <a:ext cx="292860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b0f0"/>
                </a:solidFill>
                <a:latin typeface="Tahoma"/>
              </a:rPr>
              <a:t>Fleiß bringt Preis, Faulheit Not.</a:t>
            </a:r>
            <a:r>
              <a:rPr b="0" lang="fr-FR" sz="2800" spc="-1" strike="noStrike">
                <a:solidFill>
                  <a:srgbClr val="00b0f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5" name="Picture 7" descr="Ты не вытащишь ни рыбки, как ни бейся, никогда. Говорят, что из пруда без вниманья и труда Так что, сколь ни говори, от заката до зари У пруда сидеть накладно, как на то ни посмотри."/>
          <p:cNvPicPr/>
          <p:nvPr/>
        </p:nvPicPr>
        <p:blipFill>
          <a:blip r:embed="rId1"/>
          <a:stretch/>
        </p:blipFill>
        <p:spPr>
          <a:xfrm>
            <a:off x="2556000" y="1052640"/>
            <a:ext cx="3608280" cy="5425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5214960" y="14292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0" i="1" lang="fr-FR" sz="2600" spc="-1" strike="noStrike">
                <a:solidFill>
                  <a:srgbClr val="ff0000"/>
                </a:solidFill>
                <a:latin typeface="Constantia"/>
              </a:rPr>
              <a:t>Лучше синица в руке, чем журавль в небе</a:t>
            </a:r>
            <a:r>
              <a:rPr b="0" i="1" lang="ru-RU" sz="26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786040" y="142920"/>
            <a:ext cx="29289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b0f0"/>
                </a:solidFill>
                <a:latin typeface="Constantia"/>
              </a:rPr>
              <a:t>   </a:t>
            </a:r>
            <a:r>
              <a:rPr b="0" i="1" lang="fr-FR" sz="2600" spc="-1" strike="noStrike">
                <a:solidFill>
                  <a:srgbClr val="00b0f0"/>
                </a:solidFill>
                <a:latin typeface="Constantia"/>
              </a:rPr>
              <a:t>Ein Spatz in der Hand ist besser, als eine Taube auf dem Dach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8" name="Содержимое 3"/>
          <p:cNvSpPr/>
          <p:nvPr/>
        </p:nvSpPr>
        <p:spPr>
          <a:xfrm>
            <a:off x="0" y="214200"/>
            <a:ext cx="305280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fcf04"/>
                </a:solidFill>
                <a:latin typeface="Tahoma"/>
              </a:rPr>
              <a:t>   </a:t>
            </a:r>
            <a:r>
              <a:rPr b="0" i="1" lang="fr-FR" sz="2400" spc="-1" strike="noStrike">
                <a:solidFill>
                  <a:srgbClr val="dfcf04"/>
                </a:solidFill>
                <a:latin typeface="Tahoma"/>
              </a:rPr>
              <a:t>Better an egg today than a hen tomorrow </a:t>
            </a:r>
            <a:r>
              <a:rPr b="0" i="1" lang="ru-RU" sz="2400" spc="-1" strike="noStrike">
                <a:solidFill>
                  <a:srgbClr val="dfcf04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9" name="Picture 7" descr="Лучше сеница в руке... Чем журавль в небе"/>
          <p:cNvPicPr/>
          <p:nvPr/>
        </p:nvPicPr>
        <p:blipFill>
          <a:blip r:embed="rId1"/>
          <a:stretch/>
        </p:blipFill>
        <p:spPr>
          <a:xfrm>
            <a:off x="2411280" y="1989000"/>
            <a:ext cx="3356280" cy="4473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итель</cp:lastModifiedBy>
  <dcterms:modified xsi:type="dcterms:W3CDTF">2012-01-22T19:55:59Z</dcterms:modified>
  <cp:revision>30</cp:revision>
  <dc:subject/>
  <dc:title>PowerPoint Presentation</dc:title>
</cp:coreProperties>
</file>