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64A-87E4-4A90-BDE8-C1BA5D3B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831-92C1-4C75-AEE7-33A61192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B0973-881A-477F-A52E-2E4AF78F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467E1-BF3C-4370-87A5-E9D0CCA1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50085-0289-4F05-A62A-19819877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C4612-8214-4228-9EF5-E379CE5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ACA10-467C-406C-A2F9-52FC0A08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D69CC-32A9-4C4A-9781-F3D75CE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4F1B5-C2DA-4897-BC1A-9424FC8C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68778-D53E-491D-9C53-BE69CF99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1B0BA-2C42-47A8-8ADC-973B9F3A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42F03-8A8E-4C84-9F31-6754373D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434-7939-4FE3-B074-A04BAAD2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810EF-8328-4A81-BE07-9D7FC973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909A3-6061-4A2F-9F41-C12D7CD0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A8797-AEA2-42CE-B055-2948C2A2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8FF04-5C98-408F-8E05-794F646F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45CA6-CA04-4110-B27C-BCF042A3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ABC80-5EF5-4621-BB9E-47E33BA5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38247-7058-43C0-ADDA-8AD9289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DA6A3-9F73-4722-A0F3-594D3D3E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AC338-B781-47CA-A98D-63AD7CE0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794A0-9E31-4650-AF70-9AF52E82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507-8917-4438-A544-29249091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551D8-E2CF-489A-ACD0-7FE5CE35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9B0E-3EFE-4B5F-B3C2-18BA1DD2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0200-7056-449D-B265-4C0C63BF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35B8-2CF7-40B1-AFDD-11556D9D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FDE4-8C03-44F0-8E5E-3A3F1E22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C75F-C536-4D2B-9695-70646E3E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1EEC-D7D8-4F33-90E5-B81DC34C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F1EE-11E5-4021-9A29-A09C8ED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1E1-9EB7-4A2C-9F7B-94806BBA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2329-33C7-436B-8159-25950AD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CFA5-FA84-47D9-AA9B-9E9D92C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F02-3716-41C4-875B-0E51E875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2D8E-FA6C-4E7F-9CD2-2AD83F87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528-677E-441C-9E5A-D5DC70B5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F58A-2B0D-47F8-89B0-A49FA690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E3DC-EE64-4327-8B85-0C300AE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2C97-B31A-43EE-AE74-30500AEF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2098-48A8-4880-82DE-4A615377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DF5E-5E74-44AD-B07A-7F6781B0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1BF-72DB-40C6-B5B3-4D3ECBEB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61AB-9BEE-4B63-B40C-DFC68E60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3C76-A981-4D89-905F-19E3D9C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4412-F9FB-4D07-8D12-5D5C0D3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6A13-55BA-4FD7-B1FA-527CD119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FE79-EE0D-4F3A-972C-CCD97658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6E82-3825-4394-BB28-A7EDAE1B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7B50-93F1-4F38-BFBE-1233B369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3E97-44F0-4677-83E3-F7FA8301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C089-39FB-4D39-8975-E88D3266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AB3A-4218-4E1C-9F7A-7D16D638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84F-FA15-4E2E-963C-6997F188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9C47-71CE-4794-A04D-A29818DD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34C2-C98B-41BF-B83D-FFB34EE6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4FC8-C124-4419-9EF9-DF2DE16A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2FC7-ADAA-41D7-9CFD-3232741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3300-8880-42F8-A1D0-B77C72A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4675-DD8B-4401-9CAE-1BEFEFE4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B3DB-8640-4F52-9420-D629080A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1546-01A0-4921-B9EE-E63D236D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6F21-2220-4475-840D-3825D570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1AAA6-5619-466C-B0EB-A8E43572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54A-4B11-465E-ACA2-551EBED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63CC-89CA-4023-A336-B56E3325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FD1C-9A5B-420F-B627-FF9BC8E6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9108-4004-4F07-B07C-96F2120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A6EB2-52BC-49A7-8992-016CE083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3076-29EA-4EFA-8AC1-B364DC31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D857-A99B-4A79-B6E7-633191B7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ABFA-C05C-4132-8953-DB5016A2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0C108-F627-417C-B6D9-A7B54DA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1564-C8AF-4F10-8268-C42F2AB5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1070-6828-4536-B40F-19637533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606-3D14-470F-8F08-3F12BB88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3C2F0-51C0-4C6A-89A7-B3A9FD0C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FBB62-5764-42D6-BE79-82D04BBE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C06ED-8BE2-4DF1-854E-9C0BD232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F1CB1-9ACD-4DF2-A0A2-D5A80986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ADA5A-37D4-4214-8BAB-8AE0D8B2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FABC7-8415-4F13-B042-60F69533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EEDD4-1F81-4D3D-8E34-D5798DFA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CFE62-9DCF-4D7A-AB5A-6DE1F6E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91AE-579D-43AB-B9A2-F723AD3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5609A-9665-4E52-B537-7A0475E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C5B-6969-49CF-9333-A3851A1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130E4-6839-4E5F-849E-FFB5353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88437-952F-4D87-8E67-1D43687D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447E-41FA-4EE7-8947-CA953C6D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B297D-4A8B-4D7F-8A2D-21E21786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FE1BE-15C8-4BED-AE45-D65F0562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5C41B-A916-4B58-B760-4FB0B697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F7A9-5F52-41E6-9626-7D28A5FA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EBA1F-0DBA-4BE2-BFF8-667C1EE4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55188-6D98-4B7D-A8D4-9CC15266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B9FF-FA65-44AC-BB7B-4CE5B8A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6D7-5C18-4250-B5F0-6C8BD29D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945F-9D7D-4738-B377-457266D3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B42F0-C8B3-4E51-9598-2EF36CA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7AA70-6590-4D06-97B2-8424BC4F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EC968-3CB0-444C-82CB-19A6C3D3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845B-92AE-472F-BE7D-8511595A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8E605-028B-4DA4-9BA5-DE478C36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3BC54-4EB5-480B-9794-96D76F8B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4EFD4-07BE-4A24-8894-0DF5D3CE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34AE0-2B18-44C2-AFAA-D9304D7F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E1348-ADCD-4DA9-BCBB-EDA7C183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EA8-B61A-45FB-8486-A1BA8BB1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AB3C4-4D9E-4670-8775-BE28B444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EBE22-8830-41B7-905E-DA54C93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BFA94-1D4D-42BD-80F7-48670A5E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D21E7-3418-4475-ABBC-15465B2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3984-0E66-4F53-9211-719154ED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A56AC-9D66-4044-98B8-8EEEF408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A87C7-C8C9-4307-9992-357EB097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E718E-1CF6-4306-AA61-520CB094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C76A5-57FA-42A7-A439-75175F9A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BAD47-20E9-41F2-B514-92206C96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3B0D-BCCB-4F53-AB35-60874491F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6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2BCF-33A8-4F0D-A42A-DD16D9BF580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E5C7-A0A3-4B40-867F-D689D54E95F5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5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6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6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7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grpSp>
            <p:nvGrpSpPr>
              <p:cNvPr id="7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7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7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7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</p:grpSp>
      <p:grpSp>
        <p:nvGrpSpPr>
          <p:cNvPr id="83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84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8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grpSp>
            <p:nvGrpSpPr>
              <p:cNvPr id="86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87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88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89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91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92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93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  <p:sp>
              <p:nvSpPr>
                <p:cNvPr id="94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870C-A42C-4A68-89AE-104DA0A3E86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44B4-2FEA-4138-B57B-B533FEA97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grpSp>
          <p:nvGrpSpPr>
            <p:cNvPr id="22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22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22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23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23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</p:grpSp>
      </p:grpSp>
      <p:grpSp>
        <p:nvGrpSpPr>
          <p:cNvPr id="23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33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  <p:grpSp>
          <p:nvGrpSpPr>
            <p:cNvPr id="23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23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23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24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  <p:sp>
            <p:nvSpPr>
              <p:cNvPr id="24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Tahoma"/>
                </a:endParaRPr>
              </a:p>
            </p:txBody>
          </p:sp>
        </p:grpSp>
      </p:grpSp>
      <p:sp>
        <p:nvSpPr>
          <p:cNvPr id="24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4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A9A7-09F5-4326-B008-B8EF2E242A1E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</p:grpSp>
      <p:sp>
        <p:nvSpPr>
          <p:cNvPr id="28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01E4-5110-4FA1-8B71-47A3D805CA4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E470-A0A9-4475-ACAD-E5C4B098978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7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Tahoma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CDA2-17B2-401A-8FFA-57DEDAEC407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19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9B6A-0DED-4FBA-BE4D-DCEF978DD97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4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rebuchet MS"/>
              </a:rPr>
              <a:t>Идиомы и фразеологизмы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Idioms and phraseologism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rebuchet MS"/>
              </a:rPr>
              <a:t>Неологизмы и фразеологизмы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Neologisms and phraseologism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РАЗЕОЛОГИЗМЫ И НЕОЛОГИЗМЫ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P-AND-UP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кренний, правдивый, без обмана. Это слово пришло из Америки, и происхождение его неизвестно. В настоящее время оно стало широко употребляться в Великобритании, особенно в среде рабочего класса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was a bit suggestion at first, but then he convinced me that the deal was on the up-and-up, so I agree.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начала я не склонен был доверять его предложению, но потом он убедил меня, что сделка абсолютно честная, и я согласился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OOPI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well-off-older person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пожилой зажиточный человек. Такие люди составляют  многочисленный слой современного западноевропейского общества. Ср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uppie- a young upwardly mobile professional pers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ппи- честолюбивый и преуспевающий молодой человек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onks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чень длительный срок. Это комбинация слов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ths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eeks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искажение выражени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onkey’s years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«ослиные годы»), которое также значит очень долгое время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have not seen her in yonk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Я не видел её с незапамятных времён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got married yonks ago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Они поженились уже много лет тому назад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99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диомы и фразеологизмы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2555640" y="5300640"/>
            <a:ext cx="6032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rokina Masha, Novoselova Nastya and Stegoresko Vi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ARPET-KNIGHT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96600" y="2138400"/>
            <a:ext cx="7196040" cy="28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Ковровый рыцарь». Рыцарь, получивший своё название не на поле битвы, а во дворце. Преклоняя колена на ковре. В более широком смысле это слово обозначает презрительное отношение к любому солдату, который не воюет на передовой, а отсиживается в тылу, а также к любому ленивому человеку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ARDIGAN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0160" y="2082960"/>
            <a:ext cx="7196400" cy="28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рдиган, удлинённый вязанный жакет прямого покроя. Без воротника. Название происходит от английской одежды для досуга, которую носили в начале 19 века. В наши дни кардиган носят и мужчины, и женщины. Этот тип одежды был назван в честь седьмого графа Кардиганского (1797-1868), который носил такие жакеты во время Крымской войны, спасаясь от холод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EREMONY OF THE KEY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ремония передачи ключей. Имеется в виду ежедневная церемония, когда старший страж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hief Yeoman Warder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его эскорт закрывают ворота лондонского Тауэра в 10 часов вечера. На обратном пути к ним обращается караульный со словами: «Стой, кто идёт?». Главный привратник отвечает: «Ключи». Вопрос караульного: «Чьи ключи?». «Ключи королевы Елизаветы»,- отвечает привратник. Потом часовой берёт на караул, а старший страж, снимая свой головной убор, восклицает: «Господь, храни королеву Елизавету!», на что все присутствующие отвечают «Аминь!». После этой церемонии ключи оставляют в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en’s Hou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нутри Тауэр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HARITY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лаготворительность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ity begins at home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Благотворительность начинается с дома. Это пословица, означающая, что прежде всего надо проявлять заботу о своей семье друзьях, а уж потом о всех остальных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church the minister reminded us that charity begins at home, but t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must remember others 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l.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церкви, священник напомнил нам, что хотя благотворительность начинается с дома, мы должны помнить также и о других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LOAK-AND-DAGGER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щ и кинжал. Первые так называемы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ak and dagger play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учили своё название от английского перевода с испанского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edias de capa y espad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«комедии плаща и шпаги»). Это были пьеры Лопе де Вега (1562-1635) и Кальдерона (1600-1681) с захватывающими и увлекательными приключениями смелых и лихих кавалеров в роскошных одеждах. Сейчас словосочетани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oak and dagger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употребляется как прилагательное и относится к любой секретной или шпионской деятельности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t was a cloak-and-dagger story about terrorists who tried to blow up an airpla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-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 был рассказ о террористах, которые пытались взорвать самолёт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ONTINENTAL BREAKFAST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Континентальный завтрак».Легкий утренний завтрак, обычно кофе с булочкой и конфитюром, в отличие от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glish breakfa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ll English breakfa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английский завтрак или полный английский завтрак), плотного завтрака, состоящего из горячего блюда-яичницы с беконом, овсяной каши и т.д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OURTESY BU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Автобус из любезности». Это бесплатный автобус, предоставляемый гостиницей, фирмой и т.п. своим гостям или клиентам для поездок между вокзалом, аэропортом и т.п. и гостиницей, предприятием. Все главные гостиницы в окрестностях международных аэропортов предоставляют такую услугу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итель</cp:lastModifiedBy>
  <dcterms:modified xsi:type="dcterms:W3CDTF">2012-01-22T20:04:57Z</dcterms:modified>
  <cp:revision>30</cp:revision>
  <dc:subject/>
  <dc:title>PowerPoint Presentation</dc:title>
</cp:coreProperties>
</file>